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335A-06E6-4388-8F4B-63272510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BAB6-EA6F-4AD3-AEAC-9AB99BFF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09AA-FB22-4FB6-81E2-6CE4D042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DD6-5C9E-4595-A3E0-3C13CE9F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9EA3-0BF8-40B9-A432-A4827BF0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8A50-4F7E-4131-8A2E-9E082F0B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55D4-C69F-4292-9FA6-C2C0DE85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D203-D230-4CC4-8DBB-71BAD73A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0D04-0A45-4339-8CD6-CC8983F8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9C71-7D07-4706-AF43-4F3422E7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192C-2D77-422E-942D-3665E232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BB3-C0E9-4B88-8E13-EC2B8591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F7CB-4689-413B-A35C-A49D7F5F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F029-CB36-4577-8211-A6BF8EC4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41AF-18A6-4590-8A5E-E1C874C0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F011-0E03-4353-BCBC-694C0BDA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4DD0-48D5-46E3-B8C0-EF8EB3ED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E98-CCFE-47B3-A270-7CBB65FC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072-EB2E-4FD0-A44A-BF3F4087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289-8855-4DD9-AE67-01D810AB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E59A-D4E9-41A4-B001-2D8512B4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680-885B-40C5-8426-CDE88087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6C1-C216-46DF-8FC3-B68B1767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B75-326B-4471-8565-0ACF2052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ED1D-11C0-40E6-8416-5FBF72FB3D2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2D67-A088-4694-B2E0-E5E4E601839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46160" y="1365120"/>
            <a:ext cx="9862920" cy="2036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етодическая разработка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чителя начальных классов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ОУ «Гимназия № 20»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Бояровой И. В..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55360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Овал 2"/>
          <p:cNvSpPr/>
          <p:nvPr/>
        </p:nvSpPr>
        <p:spPr>
          <a:xfrm>
            <a:off x="571680" y="1928880"/>
            <a:ext cx="2928600" cy="178596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ъекты исследования должны совпадать, либо быть достаточно близки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Овал 3"/>
          <p:cNvSpPr/>
          <p:nvPr/>
        </p:nvSpPr>
        <p:spPr>
          <a:xfrm>
            <a:off x="5357880" y="1857240"/>
            <a:ext cx="3071880" cy="18576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исследуемых предметах используются одинаковые или близкие методы исслед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Овал 4"/>
          <p:cNvSpPr/>
          <p:nvPr/>
        </p:nvSpPr>
        <p:spPr>
          <a:xfrm>
            <a:off x="3214800" y="4500720"/>
            <a:ext cx="3214440" cy="192852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тегрируемые учебные предметы  строятся на общих закономерностях, общих теоретических концепц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Этот метод обучения очень привлекателен и для учителей: помогает им лучше оценить способности и знания ребенка, понять его, побуждает искать новые, нетрадиционные формы и методы обучения. Это большая  область  для проявления творческих способностей для  всех, кто хочет и умеет работать, кто может понять сегодняшних детей, их запросы и интересы, кто их любит и отдает им себя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2205000"/>
            <a:ext cx="3106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рок- это часть жизни ребенка, и проживание этой жизни должно совершиться на уровне высокой общественной культур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6" descr="C:\Users\Саша\Pictures\121PHOTO\SAM_0188.JPG"/>
          <p:cNvPicPr/>
          <p:nvPr/>
        </p:nvPicPr>
        <p:blipFill>
          <a:blip r:embed="rId2"/>
          <a:stretch/>
        </p:blipFill>
        <p:spPr>
          <a:xfrm>
            <a:off x="611280" y="1700280"/>
            <a:ext cx="40654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28760" y="14284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аимопроникновение, слияние, насколько это возможно, в одном учебном материале обобщенных зна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69280" cy="5504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  Создание целостного представления об окружающем мире (цель обучения)                       -   Нахождение   общей платформы , сближение знаний (средство обучения)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-182520"/>
            <a:ext cx="8321760" cy="2011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зможность изучения связей материала по разным предметам как единого целог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ие умственной деятель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ирокая возможность для развития речи учащихся, расширения кругозо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ие умственной деятель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тивизация желания учить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ормирование положительных нравственных качест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4648320" y="2276640"/>
            <a:ext cx="4038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3" dur="indefinite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4" dur="indefinite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2" dur="indefinite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7" dur="indefinite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8" dur="indefinite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3" dur="indefinite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етодологическая- формирование современных представлений изучаемых дисципли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бразовательная- формирование системности, связанности, глубины, гибкости, осознанности понят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вивающая- формирование познавательной активности, преодоление инертности мышления, расширение кругозор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оспитывающая- отражает политехническую направленность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онструктивная- совершенствование содержания учебного материала, методов и форм организации обуч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3292560" cy="1206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Четкост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Компактност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Сжатост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Логическая взаимообусловленность  учебного материа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 Большая информативная емкость материа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3840120" y="1341360"/>
            <a:ext cx="490860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353880" y="268200"/>
            <a:ext cx="852804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и объяснения, обобщения и закрепление зна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- лек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и творческого поис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и взаимопровер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- издание газе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спу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трольный урок                                        (защита творческих проекто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мина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91680" cy="1200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48243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4:23:26Z</dcterms:created>
  <dc:creator>Данил</dc:creator>
  <dc:description/>
  <dc:language>en-US</dc:language>
  <cp:lastModifiedBy>Саша</cp:lastModifiedBy>
  <dcterms:modified xsi:type="dcterms:W3CDTF">2013-03-03T13:43:49Z</dcterms:modified>
  <cp:revision>36</cp:revision>
  <dc:subject/>
  <dc:title>Интегрированные    уроки      в начальной      школе </dc:title>
</cp:coreProperties>
</file>