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67B-8D99-4C31-83CA-F3E96BED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3C4-B639-4769-A577-83A5B69A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47F-79B0-4F9E-AEA2-742F9172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80F-ED9D-4389-806C-8058BCAD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B2A7-9D99-4F33-AF55-CC7A9434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9FAC-C644-47DD-9598-2FC152A0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95CE-91DB-4B99-8549-E5AE509D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EEE3-17C7-4C94-BA17-3059BB79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EAC6-377D-417F-925F-30D3B95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A38F-D736-46B8-946B-B34AEBC2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37C2-DD2E-4340-8125-4C7EF8A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665-6144-432F-96C0-9E24B170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8B30-BAD8-44CB-B4D4-59718D42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6353-2F8E-422F-A189-2380F02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A8B9-7424-4F0D-AF90-BEFEA0D9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9559-37D6-4833-B5E7-FAEC37F2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263B-FB77-4A5D-8EE8-12B5212A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A21-86DC-4454-A479-D3575D85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59E-982B-4027-B062-53A237AA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BFB-E447-456D-A754-097EC217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D5F-9087-4C72-9990-7A008102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7DE-C318-43F7-8C0A-CAC1D6E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43B-D3E1-4BC5-9870-2B9A7498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615-BB90-4101-A688-745B70C3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DEB1-647F-4EB4-B477-A665BCC5958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EC9C-9709-4B7B-927C-11D1E52C2CB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46160" y="1365120"/>
            <a:ext cx="9862920" cy="2036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етодическая разработка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чителя начальных классов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ОУ «Гимназия № 20»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ояровой И. В.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Овал 2"/>
          <p:cNvSpPr/>
          <p:nvPr/>
        </p:nvSpPr>
        <p:spPr>
          <a:xfrm>
            <a:off x="571680" y="1928880"/>
            <a:ext cx="2928600" cy="178596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ъекты исследования должны совпадать, либо быть достаточно близк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 3"/>
          <p:cNvSpPr/>
          <p:nvPr/>
        </p:nvSpPr>
        <p:spPr>
          <a:xfrm>
            <a:off x="5357880" y="1857240"/>
            <a:ext cx="3071880" cy="1857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исследуемых предметах используются одинаковые или близкие методы иссле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 4"/>
          <p:cNvSpPr/>
          <p:nvPr/>
        </p:nvSpPr>
        <p:spPr>
          <a:xfrm>
            <a:off x="3214800" y="4500720"/>
            <a:ext cx="3214440" cy="192852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тегрируемые учебные предметы  строятся на общих закономерностях, общих теоретических концепц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тот метод обучения очень привлекателен и для учителей: помогает им лучше оценить способности и знания ребенка, понять его, побуждает искать новые, нетрадиционные формы и методы обучения. Это большая  область  для проявления творческих способностей для  всех, кто хочет и умеет работать, кто может понять сегодняшних детей, их запросы и интересы, кто их любит и отдает им себ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2205000"/>
            <a:ext cx="310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рок- это часть жизни ребенка, и проживание этой жизни должно совершиться на уровне высокой общественной культур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6" descr="C:\Users\Саша\Pictures\121PHOTO\SAM_0188.JPG"/>
          <p:cNvPicPr/>
          <p:nvPr/>
        </p:nvPicPr>
        <p:blipFill>
          <a:blip r:embed="rId2"/>
          <a:stretch/>
        </p:blipFill>
        <p:spPr>
          <a:xfrm>
            <a:off x="611280" y="1700280"/>
            <a:ext cx="4065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76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проникновение, слияние, насколько это возможно, в одном учебном материале обобщенных зн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69280" cy="5504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 Создание целостного представления об окружающем мире (цель обучения)                       -   Нахождение   общей платформы , сближение знаний (средство обучения)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321760" cy="2011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можность изучения связей материала по разным предметам как единого целог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умственной деяте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ирокая возможность для развития речи учащихся, расширения кругоз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умственной деяте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изация желания учить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ирование положительных нравственных каче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4648320" y="227664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етодологическая- формирование современных представлений изучаемых дисципли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разовательная- формирование системности, связанности, глубины, гибкости, осознанности пон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вивающая- формирование познавательной активности, преодоление инертности мышления, расширение кругоз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спитывающая- отражает политехническую направленн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нструктивная- совершенствование содержания учебного материала, методов и форм организации обуч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3292560" cy="1206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Четк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Компактн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Сжат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Логическая взаимообусловленность  учебного материа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Большая информативная емкость материа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3840120" y="1341360"/>
            <a:ext cx="49086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52804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объяснения, обобщения и закрепление зн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- лек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творческого пои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взаимопровер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- издание газ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пу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ный урок                                        (защита творческих проек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ин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9168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23:26Z</dcterms:created>
  <dc:creator>Данил</dc:creator>
  <dc:description/>
  <dc:language>en-US</dc:language>
  <cp:lastModifiedBy>Саша</cp:lastModifiedBy>
  <dcterms:modified xsi:type="dcterms:W3CDTF">2013-03-03T13:43:49Z</dcterms:modified>
  <cp:revision>36</cp:revision>
  <dc:subject/>
  <dc:title>Интегрированные    уроки      в начальной      школе </dc:title>
</cp:coreProperties>
</file>