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6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414939-0047-41D7-9885-38C37092E3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86D119-BAB1-4581-BFEB-B8F8B77A51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F7B19C-161A-4D29-A1A9-F40467679C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017E11-30C3-42F3-819D-2F808C20FD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1019FB-E1CE-40FF-ACB7-05C1C02A78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1403CF-9902-498F-A519-FA8BBD719E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98CFDC-9036-4B82-AD45-7069E96F2A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C62A4A-6A15-422F-A936-BF7E4B6F54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32BAA6-46CF-412D-AD6C-56D9F17C6D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6EA4A0-05D3-4B7D-8D2D-6431B40C23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376586-CBFE-4A86-8A4B-09026EA5D0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B73D28-B109-474E-8496-84A8BCA888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C93D2-E0CA-4448-8AEB-CC73B9AD0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D22E0-B52A-462D-8F38-1873B87987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E2B93-9D53-43F3-8D32-686B606E8C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2802E-8F94-4323-B7BF-27EEF8BF5F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96516-1A50-49CE-B915-1324C46845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42A10-D5ED-409B-B561-AECEE489CD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C1364-84E0-499D-90E6-34FE437C90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B0623-B205-43F3-9FE6-C241FC6FD2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BC6D9-0222-428E-A05B-A034944263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1F26D-A188-434E-8571-7F7B59F2CD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2681B-B091-4B12-B9C9-EC088249AA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36AAC-5E20-47C1-ACCF-16DC0F8CFC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46C595-7B90-4F9B-A964-7A03A9B8D3F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hyperlink" Target="file:///&#1087;&#1088;&#1077;&#1079;&#1077;&#1085;&#1090;&#1072;&#1094;&#1080;&#1103;%20&#1055;&#1088;&#1086;&#1074;&#1086;&#1088;&#1085;&#1086;&#1081;,%20&#1087;&#1086;&#1089;&#1083;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 rot="16200000">
            <a:off x="6789960" y="4506840"/>
            <a:ext cx="1141200" cy="356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0800000">
            <a:off x="4572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3716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9144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2436840"/>
            <a:ext cx="1181160" cy="22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46120" y="876240"/>
            <a:ext cx="73468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46120" y="5254560"/>
            <a:ext cx="38124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5027760"/>
            <a:ext cx="380880" cy="38088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495144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4646520"/>
            <a:ext cx="38088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52480" y="4494240"/>
            <a:ext cx="38124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09760" y="1981080"/>
            <a:ext cx="38088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76240" y="2057400"/>
            <a:ext cx="38124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1160" y="2209680"/>
            <a:ext cx="38088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9760" y="144792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62040" y="1752480"/>
            <a:ext cx="38124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01600" y="2668680"/>
            <a:ext cx="1032120" cy="1825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916360" y="148428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71760" y="214200"/>
            <a:ext cx="734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333399"/>
                </a:solidFill>
                <a:uFillTx/>
                <a:latin typeface="Georgia"/>
              </a:rPr>
              <a:t>С чем связанно возникновение тригонометрии</a:t>
            </a:r>
            <a:r>
              <a:rPr b="1" i="1" lang="ru-RU" sz="4000" spc="-1" strike="noStrike">
                <a:solidFill>
                  <a:srgbClr val="333399"/>
                </a:solidFill>
                <a:latin typeface="Georgi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57680" y="2214720"/>
            <a:ext cx="457200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зникновение  тригонометрии связано с землемерением, астрономией и строительным де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500200" y="3857760"/>
            <a:ext cx="2695680" cy="2701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435640" y="3933720"/>
            <a:ext cx="3276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еница 11 класса «А» МБОУ ШКОЛЫ №1 с. Ануч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ворная Екате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итель:Гончарова С. 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5280D-2072-4C30-9DB5-31E26A32483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 rot="16200000">
            <a:off x="6789960" y="4506840"/>
            <a:ext cx="1141200" cy="356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0800000">
            <a:off x="4572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0800000">
            <a:off x="13716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0800000">
            <a:off x="9144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43000" y="4648320"/>
            <a:ext cx="1181160" cy="22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76360" y="907920"/>
            <a:ext cx="73468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46000" y="5513400"/>
            <a:ext cx="38124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000080" y="5286240"/>
            <a:ext cx="38088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305000" y="521028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57280" y="4905360"/>
            <a:ext cx="380880" cy="38088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95320" y="6448320"/>
            <a:ext cx="38124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28880" y="557208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81160" y="6324480"/>
            <a:ext cx="38088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86080" y="6477120"/>
            <a:ext cx="380880" cy="38088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14680" y="571500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66960" y="6019920"/>
            <a:ext cx="380880" cy="38088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6360" y="148428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43040" y="28584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66ff"/>
                </a:solidFill>
                <a:latin typeface="Arial"/>
              </a:rPr>
              <a:t>Танген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57920" y="285840"/>
            <a:ext cx="292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66ff"/>
                </a:solidFill>
                <a:latin typeface="Arial"/>
              </a:rPr>
              <a:t>Котанген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 rot="10800000">
            <a:off x="1857240" y="1004760"/>
            <a:ext cx="25718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нгенс определяется как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411280" y="2205000"/>
            <a:ext cx="1581120" cy="4287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5715000" y="929880"/>
            <a:ext cx="2928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ангенс определяется как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300720" y="2133720"/>
            <a:ext cx="1666800" cy="3808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1116000" y="3141720"/>
            <a:ext cx="3511440" cy="16430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5"/>
          <a:stretch/>
        </p:blipFill>
        <p:spPr>
          <a:xfrm>
            <a:off x="5435640" y="3141720"/>
            <a:ext cx="3357360" cy="1571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EDB20-1F57-4DF3-A728-D9E760126FC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 rot="16200000">
            <a:off x="6424560" y="4219560"/>
            <a:ext cx="1141200" cy="3563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0800000">
            <a:off x="4572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10800000">
            <a:off x="13716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0800000">
            <a:off x="9144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66680" y="2436840"/>
            <a:ext cx="1181160" cy="22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446120" y="876240"/>
            <a:ext cx="73468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46120" y="5254560"/>
            <a:ext cx="38124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5027760"/>
            <a:ext cx="380880" cy="38088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05120" y="495144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409760" y="1981080"/>
            <a:ext cx="38088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76240" y="2057400"/>
            <a:ext cx="38124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81160" y="2209680"/>
            <a:ext cx="38088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409760" y="144792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562040" y="1752480"/>
            <a:ext cx="38124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916360" y="1484280"/>
            <a:ext cx="59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00360" y="1341360"/>
            <a:ext cx="5832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85880" y="42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9966ff"/>
                </a:solidFill>
                <a:latin typeface="Arial"/>
              </a:rPr>
              <a:t>ЗНАКИ </a:t>
            </a:r>
            <a:r>
              <a:rPr b="1" i="1" lang="en-US" sz="4400" spc="-1" strike="noStrike">
                <a:solidFill>
                  <a:srgbClr val="9966ff"/>
                </a:solidFill>
                <a:latin typeface="Arial"/>
              </a:rPr>
              <a:t>Sin, Cos, Tg, Ct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2000160" y="1857240"/>
            <a:ext cx="6900840" cy="29052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752480" y="4494240"/>
            <a:ext cx="38124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7400" y="4646520"/>
            <a:ext cx="38088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76720" y="59500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A7702-0217-4DAE-AAD6-48AF4DAF8164}" type="slidenum">
              <a:t>11</a:t>
            </a:fld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 rot="16200000">
            <a:off x="6789960" y="4506840"/>
            <a:ext cx="1141200" cy="356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0800000">
            <a:off x="4572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3716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9144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2436840"/>
            <a:ext cx="1181160" cy="22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46120" y="876240"/>
            <a:ext cx="73468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46120" y="5254560"/>
            <a:ext cx="38124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5027760"/>
            <a:ext cx="380880" cy="38088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495144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7400" y="4646520"/>
            <a:ext cx="38088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4494240"/>
            <a:ext cx="38124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09760" y="1981080"/>
            <a:ext cx="38088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76240" y="2057400"/>
            <a:ext cx="38124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81160" y="2209680"/>
            <a:ext cx="38088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09760" y="144792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62040" y="1752480"/>
            <a:ext cx="38124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16360" y="148428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27280" y="907920"/>
            <a:ext cx="6121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14720" y="285840"/>
            <a:ext cx="52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66ff"/>
                </a:solidFill>
                <a:latin typeface="Arial"/>
              </a:rPr>
              <a:t>Вклады ученых</a:t>
            </a:r>
            <a:r>
              <a:rPr b="0" lang="ru-RU" sz="4000" spc="-1" strike="noStrike">
                <a:solidFill>
                  <a:srgbClr val="9966ff"/>
                </a:solidFill>
                <a:latin typeface="Arial"/>
              </a:rPr>
              <a:t>…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2492280"/>
            <a:ext cx="4643640" cy="3111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первые способы решения треугольников, основанные на зависимостях между сторонами и углами треугольника, были найдены древнегреческими астрономам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иппархом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 в. до н .э.) и Клавдием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толемеем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(2 в. н. э.). Позднее зависимости между отношениями сторон треугольника и его углами начали называть тригонометрическими функц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04000" y="404640"/>
            <a:ext cx="1981080" cy="25196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68360" y="4292640"/>
            <a:ext cx="1906560" cy="230328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8D9AF-A46C-4832-84D0-9D3672D8F5E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 rot="16200000">
            <a:off x="6789600" y="4290480"/>
            <a:ext cx="1141560" cy="356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4572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13716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0800000">
            <a:off x="9144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2436840"/>
            <a:ext cx="1181160" cy="22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6120" y="876240"/>
            <a:ext cx="73468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46120" y="5254560"/>
            <a:ext cx="38124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5027760"/>
            <a:ext cx="380880" cy="38088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495144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4646520"/>
            <a:ext cx="38088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4494240"/>
            <a:ext cx="38124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09760" y="1981080"/>
            <a:ext cx="38088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6240" y="2057400"/>
            <a:ext cx="38124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1160" y="2209680"/>
            <a:ext cx="38088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9760" y="144792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62040" y="1752480"/>
            <a:ext cx="38124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16360" y="148428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0200" y="1500120"/>
            <a:ext cx="5929560" cy="4362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начительный вклад в развитие тригонометрии внесли арабские учены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ль-Батани (850-929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бу-ль-Вефа Мухамед-бен Мухаммед (940-998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, который составил таблицы синусов и тангенсов через 10</a:t>
            </a:r>
            <a:r>
              <a:rPr b="0" i="1" lang="lv-LV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с точностью до 1/60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Теорему синусов уже знали индийский ученый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хаскара (р. 1114, год смерти неизвестен)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и азербайджанский  астроном и математик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среддин Туси Мухамед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1201-1274). Кроме того, Насиреддин Туси в своей работе «Трактат о полном четырехстороннике» изложил плоскую и сферическую тригонометрию как самостоятельную дисципл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57280" y="428760"/>
            <a:ext cx="596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66ff"/>
                </a:solidFill>
                <a:latin typeface="Arial"/>
              </a:rPr>
              <a:t>Вклады ученых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95280" y="2060640"/>
            <a:ext cx="2168640" cy="2520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95320" y="4797360"/>
            <a:ext cx="123228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хаск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3C82A-BC2A-498A-A3BB-919EAC4F73F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 rot="16200000">
            <a:off x="6638760" y="4147560"/>
            <a:ext cx="1141560" cy="356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72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13716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9144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2436840"/>
            <a:ext cx="1181160" cy="22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28840" y="357120"/>
            <a:ext cx="73468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6120" y="5254560"/>
            <a:ext cx="38124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5027760"/>
            <a:ext cx="380880" cy="38088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495144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4646520"/>
            <a:ext cx="38088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4494240"/>
            <a:ext cx="38124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09760" y="1981080"/>
            <a:ext cx="38088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76240" y="2057400"/>
            <a:ext cx="38124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81160" y="2209680"/>
            <a:ext cx="38088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09760" y="144792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62040" y="1752480"/>
            <a:ext cx="38124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16360" y="148428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64000" y="1773360"/>
            <a:ext cx="4608360" cy="344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еорему тангенсов доказал Р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гиомонтан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латинизированное имя немецкого астронома и математика Иоганна Мюллера (1436-1476)). Региомонтан составил также плдробные тригонометрические таблицы; благодаря его трудам плоская и сферическая тригонометрия стала самостоятельной дисциплиной и в Евро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43120" y="428760"/>
            <a:ext cx="561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66ff"/>
                </a:solidFill>
                <a:latin typeface="Arial"/>
              </a:rPr>
              <a:t>Вклады ученых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2549520" cy="338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F27B0-30B3-406C-AA2C-429D0F75EBC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 rot="16200000">
            <a:off x="6578640" y="2143080"/>
            <a:ext cx="1141200" cy="356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4572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0800000">
            <a:off x="13716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0800000">
            <a:off x="9144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2436840"/>
            <a:ext cx="1181160" cy="22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46120" y="876240"/>
            <a:ext cx="73468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46120" y="5254560"/>
            <a:ext cx="38124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5027760"/>
            <a:ext cx="380880" cy="38088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495144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4646520"/>
            <a:ext cx="38088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4494240"/>
            <a:ext cx="38124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09760" y="1981080"/>
            <a:ext cx="38088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76240" y="2057400"/>
            <a:ext cx="38124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81160" y="2209680"/>
            <a:ext cx="38088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09760" y="144792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62040" y="1752480"/>
            <a:ext cx="38124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16360" y="148428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68360" y="1341360"/>
            <a:ext cx="4572000" cy="4057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альнейшее развитие тригонометрия получила в трудах выдающихся астрономов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иколая Коперник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1473-1543) – творца гелиоцентрической системы мира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ихо Браг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1546-1601) 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огана Кеплер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1571-1630), а также в работах математика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рансуа Виет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1540-1603), который полностью решил задачу об определениях всех элементов плоского или сферического треугольника по трем да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43120" y="428760"/>
            <a:ext cx="561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66ff"/>
                </a:solidFill>
                <a:latin typeface="Arial"/>
              </a:rPr>
              <a:t>Вклады ученых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1949400" cy="2232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948360" y="4365720"/>
            <a:ext cx="1811520" cy="2016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468360" y="3860640"/>
            <a:ext cx="1562040" cy="2232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68360" y="2924280"/>
            <a:ext cx="172728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 Копер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6237360"/>
            <a:ext cx="158436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 Ви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48360" y="6093000"/>
            <a:ext cx="151128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. Кеп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9CFAE-6E01-4267-952A-BE7EAF6BBE0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 rot="16200000">
            <a:off x="6789600" y="4290480"/>
            <a:ext cx="1141560" cy="356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0800000">
            <a:off x="4572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0800000">
            <a:off x="13716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0800000">
            <a:off x="9144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2436840"/>
            <a:ext cx="1181160" cy="22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6120" y="876240"/>
            <a:ext cx="73468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46120" y="5254560"/>
            <a:ext cx="38124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5027760"/>
            <a:ext cx="380880" cy="38088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05120" y="495144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4646520"/>
            <a:ext cx="38088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52480" y="4494240"/>
            <a:ext cx="38124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09760" y="1981080"/>
            <a:ext cx="38088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76240" y="2057400"/>
            <a:ext cx="38124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81160" y="2209680"/>
            <a:ext cx="38088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9760" y="144792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62040" y="1752480"/>
            <a:ext cx="38124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16360" y="148428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336600"/>
            <a:ext cx="6389640" cy="619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олгое время тригонометрия носила чисто геометрический характер. Такою она была еще в средние века, хотя иногда в ней использовались и аналитические методы, особенно после появления логарифмов. </a:t>
            </a: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Постепенно тригонометрия органически вошла в математический анализ, механику, физику и технические дисципл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чиная с </a:t>
            </a:r>
            <a:r>
              <a:rPr b="1" i="1" lang="lv-LV" sz="20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в., тригонометрические функции начали применять к </a:t>
            </a: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решению уравнени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задач механики, оптики, электричества, радиотехники, для описания колебательных процессов, распространения волн, движения различных механизмов, для изучения переменного электрического тока и т. д. </a:t>
            </a: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Поэтому тригонометрические функции всесторонне и глубоко исследовались и приобрели важное значение для всей матема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8F2BF-F1C6-44BE-B9B3-E0E048A5383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 rot="16200000">
            <a:off x="6638760" y="4290480"/>
            <a:ext cx="1141560" cy="356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0800000">
            <a:off x="4572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0800000">
            <a:off x="13716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0800000">
            <a:off x="9144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2436840"/>
            <a:ext cx="1181160" cy="22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46120" y="876240"/>
            <a:ext cx="73468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46120" y="5254560"/>
            <a:ext cx="38124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5027760"/>
            <a:ext cx="380880" cy="38088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495144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4646520"/>
            <a:ext cx="38088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4494240"/>
            <a:ext cx="38124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09760" y="1981080"/>
            <a:ext cx="38088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76240" y="2057400"/>
            <a:ext cx="38124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81160" y="2209680"/>
            <a:ext cx="38088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09760" y="144792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62040" y="1752480"/>
            <a:ext cx="38124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68360" y="260280"/>
            <a:ext cx="6572520" cy="619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налитическая теория тригонометрических функций в основном была создана выдающимся математиком </a:t>
            </a:r>
            <a:r>
              <a:rPr b="1" i="1" lang="lv-LV" sz="20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в. </a:t>
            </a: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Леонардом Эйлером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(1707-1783) членом Петербургской Академии на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аким образом, </a:t>
            </a: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тригонометрия, возникшая как наука о решении треугольников, со временем развилась и в науку о тригонометрических функц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зднее часть тригонометрии, которая изучает свойства тригонометрических функций и зависимости между ними, начали называть гониометрией (в переводе – наука об измерении углов, от греч.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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- угол, 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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 измеряю). Термин гониометрия в последнее время практически не употребля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зучение свойств тригонометрических функций и зависимостей между ними отнесено к школьному курсу алгебры, а решение треугольников – к курсу геомет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Эйлер Леонард"/>
          <p:cNvPicPr/>
          <p:nvPr/>
        </p:nvPicPr>
        <p:blipFill>
          <a:blip r:embed="rId2"/>
          <a:stretch/>
        </p:blipFill>
        <p:spPr>
          <a:xfrm>
            <a:off x="250920" y="549360"/>
            <a:ext cx="2001600" cy="252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2841E-2D41-4639-A2E2-74D8E9680B4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066680" y="2436840"/>
            <a:ext cx="1181160" cy="22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571760" y="1785960"/>
            <a:ext cx="3330360" cy="32814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rot="16200000">
            <a:off x="6281640" y="3933720"/>
            <a:ext cx="1141560" cy="3563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0800000">
            <a:off x="4572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0800000">
            <a:off x="13716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9144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00160" y="857160"/>
            <a:ext cx="73468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446120" y="5254560"/>
            <a:ext cx="38124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00200" y="5027760"/>
            <a:ext cx="380880" cy="38088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5120" y="495144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057400" y="4646520"/>
            <a:ext cx="38088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52480" y="4494240"/>
            <a:ext cx="38124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09760" y="1981080"/>
            <a:ext cx="38088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76240" y="2057400"/>
            <a:ext cx="38124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81160" y="2209680"/>
            <a:ext cx="38088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09760" y="144792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62040" y="1752480"/>
            <a:ext cx="38124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16360" y="148428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14240" y="0"/>
            <a:ext cx="822960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66ff"/>
                </a:solidFill>
                <a:latin typeface="Arial"/>
              </a:rPr>
              <a:t>ОПРЕДЕЛЕНИЕ </a:t>
            </a:r>
            <a:r>
              <a:rPr b="1" i="1" lang="en-US" sz="4000" spc="-1" strike="noStrike">
                <a:solidFill>
                  <a:srgbClr val="9966ff"/>
                </a:solidFill>
                <a:latin typeface="Arial"/>
              </a:rPr>
              <a:t>SIN,COS,TG,CT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2000160"/>
            <a:ext cx="415116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нусом  угла 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называется отношение ординаты точки В 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осинусом угла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называется отношение абсциссы точки В 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Тангенсом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гла 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называется отношение ординаты точки В к ее абсцисс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отангенсом угла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называется отношение абсциссы точки В к ее ордина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DC810-10E6-4D16-AC7C-84C6BB3CA047}" type="slidenum">
              <a:t>8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428920" y="4000680"/>
            <a:ext cx="4638600" cy="24526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 rot="16200000">
            <a:off x="5249160" y="392760"/>
            <a:ext cx="3714480" cy="4071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Georgia"/>
              </a:rPr>
              <a:t>Друзья поверьте мне</a:t>
            </a:r>
            <a:br>
              <a:rPr sz="1600"/>
            </a:br>
            <a:r>
              <a:rPr b="1" i="1" lang="ru-RU" sz="1600" spc="-1" strike="noStrike">
                <a:solidFill>
                  <a:srgbClr val="333399"/>
                </a:solidFill>
                <a:latin typeface="Georgia"/>
              </a:rPr>
              <a:t>Я самая полезная</a:t>
            </a:r>
            <a:br>
              <a:rPr sz="1600"/>
            </a:br>
            <a:r>
              <a:rPr b="1" i="1" lang="ru-RU" sz="1600" spc="-1" strike="noStrike">
                <a:solidFill>
                  <a:srgbClr val="333399"/>
                </a:solidFill>
                <a:latin typeface="Georgia"/>
              </a:rPr>
              <a:t>Интересная и лирическая</a:t>
            </a:r>
            <a:br>
              <a:rPr sz="1600"/>
            </a:br>
            <a:r>
              <a:rPr b="1" i="1" lang="ru-RU" sz="1600" spc="-1" strike="noStrike">
                <a:solidFill>
                  <a:srgbClr val="333399"/>
                </a:solidFill>
                <a:latin typeface="Georgia"/>
              </a:rPr>
              <a:t>Я функция - тригонометрическая</a:t>
            </a:r>
            <a:br>
              <a:rPr sz="1600"/>
            </a:br>
            <a:r>
              <a:rPr b="1" i="1" lang="ru-RU" sz="1600" spc="-1" strike="noStrike">
                <a:solidFill>
                  <a:srgbClr val="333399"/>
                </a:solidFill>
                <a:latin typeface="Georgia"/>
              </a:rPr>
              <a:t>Имею я особенную точку. </a:t>
            </a:r>
            <a:br>
              <a:rPr sz="1600"/>
            </a:br>
            <a:r>
              <a:rPr b="1" i="1" lang="ru-RU" sz="1600" spc="-1" strike="noStrike">
                <a:solidFill>
                  <a:srgbClr val="333399"/>
                </a:solidFill>
                <a:latin typeface="Georgia"/>
              </a:rPr>
              <a:t>О ней скажу вам я в последней строчке </a:t>
            </a:r>
            <a:br>
              <a:rPr sz="1600"/>
            </a:br>
            <a:r>
              <a:rPr b="1" i="1" lang="ru-RU" sz="1600" spc="-1" strike="noStrike">
                <a:solidFill>
                  <a:srgbClr val="333399"/>
                </a:solidFill>
                <a:latin typeface="Georgia"/>
              </a:rPr>
              <a:t>То точки ноль и единица </a:t>
            </a:r>
            <a:br>
              <a:rPr sz="1600"/>
            </a:br>
            <a:r>
              <a:rPr b="1" i="1" lang="ru-RU" sz="1600" spc="-1" strike="noStrike">
                <a:solidFill>
                  <a:srgbClr val="333399"/>
                </a:solidFill>
                <a:latin typeface="Georgia"/>
              </a:rPr>
              <a:t>И хоть мой график тут наверх стремиться </a:t>
            </a:r>
            <a:br>
              <a:rPr sz="1600"/>
            </a:br>
            <a:r>
              <a:rPr b="1" i="1" lang="ru-RU" sz="1600" spc="-1" strike="noStrike">
                <a:solidFill>
                  <a:srgbClr val="333399"/>
                </a:solidFill>
                <a:latin typeface="Georgia"/>
              </a:rPr>
              <a:t>В любом он случае через нее проходит </a:t>
            </a:r>
            <a:br>
              <a:rPr sz="1600"/>
            </a:br>
            <a:r>
              <a:rPr b="1" i="1" lang="ru-RU" sz="1600" spc="-1" strike="noStrike">
                <a:solidFill>
                  <a:srgbClr val="333399"/>
                </a:solidFill>
                <a:latin typeface="Georgia"/>
              </a:rPr>
              <a:t>И два конца волны в единый граф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1" i="1" lang="ru-RU" sz="1600" spc="-1" strike="noStrike">
                <a:solidFill>
                  <a:srgbClr val="333399"/>
                </a:solidFill>
                <a:latin typeface="Georgia"/>
              </a:rPr>
              <a:t>сводит (косину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0800000">
            <a:off x="4572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0800000">
            <a:off x="13716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0800000">
            <a:off x="914400" y="1440"/>
            <a:ext cx="380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2436840"/>
            <a:ext cx="1181160" cy="22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46120" y="876240"/>
            <a:ext cx="73468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46120" y="5254560"/>
            <a:ext cx="38124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00200" y="5027760"/>
            <a:ext cx="380880" cy="38088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05120" y="495144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4646520"/>
            <a:ext cx="38088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4494240"/>
            <a:ext cx="38124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09760" y="1981080"/>
            <a:ext cx="380880" cy="38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76240" y="2057400"/>
            <a:ext cx="38124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81160" y="2209680"/>
            <a:ext cx="38088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09760" y="1447920"/>
            <a:ext cx="380880" cy="380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62040" y="1752480"/>
            <a:ext cx="381240" cy="381240"/>
          </a:xfrm>
          <a:prstGeom prst="rect">
            <a:avLst/>
          </a:prstGeom>
          <a:gradFill rotWithShape="0">
            <a:gsLst>
              <a:gs pos="0">
                <a:srgbClr val="989da2"/>
              </a:gs>
              <a:gs pos="100000">
                <a:srgbClr val="eff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16360" y="148428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392200" y="928800"/>
            <a:ext cx="556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43040" y="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66ff"/>
                </a:solidFill>
                <a:latin typeface="Arial"/>
              </a:rPr>
              <a:t>Сину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14960" y="0"/>
            <a:ext cx="35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66ff"/>
                </a:solidFill>
                <a:latin typeface="Arial"/>
              </a:rPr>
              <a:t>Косину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71760" y="642960"/>
            <a:ext cx="35719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Georgia"/>
              </a:rPr>
              <a:t>Я и сама могу сказать</a:t>
            </a:r>
            <a:br>
              <a:rPr sz="1600"/>
            </a:br>
            <a:r>
              <a:rPr b="1" i="1" lang="ru-RU" sz="1600" spc="-1" strike="noStrike">
                <a:solidFill>
                  <a:srgbClr val="333399"/>
                </a:solidFill>
                <a:latin typeface="Georgia"/>
              </a:rPr>
              <a:t>И график свой вам показать</a:t>
            </a:r>
            <a:br>
              <a:rPr sz="1600"/>
            </a:br>
            <a:r>
              <a:rPr b="1" i="1" lang="ru-RU" sz="1600" spc="-1" strike="noStrike">
                <a:solidFill>
                  <a:srgbClr val="333399"/>
                </a:solidFill>
                <a:latin typeface="Georgia"/>
              </a:rPr>
              <a:t>Хоть есть названье у линии моей</a:t>
            </a:r>
            <a:br>
              <a:rPr sz="1600"/>
            </a:br>
            <a:r>
              <a:rPr b="1" i="1" lang="ru-RU" sz="1600" spc="-1" strike="noStrike">
                <a:solidFill>
                  <a:srgbClr val="333399"/>
                </a:solidFill>
                <a:latin typeface="Georgia"/>
              </a:rPr>
              <a:t>И нет как у параболы ветвей</a:t>
            </a:r>
            <a:br>
              <a:rPr sz="1600"/>
            </a:br>
            <a:r>
              <a:rPr b="1" i="1" lang="ru-RU" sz="1600" spc="-1" strike="noStrike">
                <a:solidFill>
                  <a:srgbClr val="333399"/>
                </a:solidFill>
                <a:latin typeface="Georgia"/>
              </a:rPr>
              <a:t>Я отрицательна - и это всем вам видно</a:t>
            </a:r>
            <a:br>
              <a:rPr sz="1600"/>
            </a:br>
            <a:r>
              <a:rPr b="1" i="1" lang="ru-RU" sz="1600" spc="-1" strike="noStrike">
                <a:solidFill>
                  <a:srgbClr val="333399"/>
                </a:solidFill>
                <a:latin typeface="Georgia"/>
              </a:rPr>
              <a:t>Не жмусь волной одним концом к оси ОХ я безобидно</a:t>
            </a:r>
            <a:br>
              <a:rPr sz="1600"/>
            </a:br>
            <a:r>
              <a:rPr b="1" i="1" lang="ru-RU" sz="1600" spc="-1" strike="noStrike">
                <a:solidFill>
                  <a:srgbClr val="333399"/>
                </a:solidFill>
                <a:latin typeface="Georgia"/>
              </a:rPr>
              <a:t>Давно сравнили мою скорость роста</a:t>
            </a:r>
            <a:br>
              <a:rPr sz="1600"/>
            </a:br>
            <a:r>
              <a:rPr b="1" i="1" lang="ru-RU" sz="1600" spc="-1" strike="noStrike">
                <a:solidFill>
                  <a:srgbClr val="333399"/>
                </a:solidFill>
                <a:latin typeface="Georgia"/>
              </a:rPr>
              <a:t>Ты по сравнению со мной малютка прост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409D3-B145-4F3E-B5DB-56F160C2F7C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07:42:06Z</dcterms:created>
  <dc:creator>света</dc:creator>
  <dc:description/>
  <dc:language>en-US</dc:language>
  <cp:lastModifiedBy>home</cp:lastModifiedBy>
  <dcterms:modified xsi:type="dcterms:W3CDTF">2013-03-03T07:07:21Z</dcterms:modified>
  <cp:revision>80</cp:revision>
  <dc:subject/>
  <dc:title>Слайд 1</dc:title>
</cp:coreProperties>
</file>