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210927-AFED-4DA1-93E6-75FF7857D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388548-98FD-44CC-A971-0AE008D9F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4AD910-EEF2-4948-96FA-094EB486F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B2F5BB-D1A6-4947-9BD6-7D95D3E49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CCEDD6-4C0E-40D4-B6ED-96BD09564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3B32FF-F532-4E77-B955-CEAC59139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E86E6E-4E40-425C-AECC-AC628FB10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E17D8D-7050-4B6E-A823-663BA9D20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CD3A8-0F6F-4D46-95A8-18C7E7617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9E5B4D-5FE1-4DAA-825A-7EE8D0D62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5DCED4-3259-4BD9-BB2F-90E3AAFC9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D90938-E750-4A3F-B2BF-29AD61A3C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2312-95CF-4A3E-BB95-94543CF17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DA71-EEC4-4929-AAC7-A58868B63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5751-5243-4019-8CF4-67FD31AEA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5A6A-1603-4092-9097-7D397A42B7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A826-FB2E-45A8-A733-5B636F65A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EB2E-72EA-4BE1-BE02-67540B4FF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3CDF-E883-4BDB-804A-5359D370A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4AC4-1CE6-4E2C-80CB-E53F65242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E779-373E-4514-973D-ECB9B0DAD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E1F4-513A-49D6-B8AB-8E7AB1534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73C3-C0FA-4C3F-BDD6-A22312D35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B45A-1798-4CD3-85FF-3BE25502B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2610EE-E46F-444E-976C-79050F9CC91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hyperlink" Target="file:///&#1087;&#1088;&#1077;&#1079;&#1077;&#1085;&#1090;&#1072;&#1094;&#1080;&#1103;%20&#1055;&#1088;&#1086;&#1074;&#1086;&#1088;&#1085;&#1086;&#1081;,%20&#1087;&#1086;&#1089;&#1083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6789960" y="4506840"/>
            <a:ext cx="114120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01600" y="2668680"/>
            <a:ext cx="1032120" cy="182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71760" y="214200"/>
            <a:ext cx="734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Georgia"/>
              </a:rPr>
              <a:t>С чем связанно возникновение тригонометрии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7680" y="2214720"/>
            <a:ext cx="45720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зникновение  тригонометрии связано с землемерением, астрономией и строительным д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0200" y="3857760"/>
            <a:ext cx="2695680" cy="270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35640" y="3933720"/>
            <a:ext cx="327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ница 11 класса «А» МБОУ ШКОЛЫ №1 с. Ануч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орная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:Гончарова С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552C-3DFF-4699-999B-34A6DD5C68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rot="16200000">
            <a:off x="6789960" y="4506840"/>
            <a:ext cx="114120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464832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76360" y="90792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46000" y="5513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00080" y="528624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05000" y="521028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57280" y="49053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5320" y="644832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28880" y="557208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1160" y="63244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86080" y="647712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14680" y="571500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66960" y="601992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43040" y="2858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Танге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57920" y="285840"/>
            <a:ext cx="292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Котанге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 rot="10800000">
            <a:off x="1857240" y="1004760"/>
            <a:ext cx="2571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генс определяется как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1581120" cy="4287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715000" y="929880"/>
            <a:ext cx="2928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ангенс определяется как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300720" y="2133720"/>
            <a:ext cx="1666800" cy="380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116000" y="3141720"/>
            <a:ext cx="3511440" cy="1643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5435640" y="3141720"/>
            <a:ext cx="3357360" cy="157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3D15-0E6C-4481-BF7A-065B39EB3A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 rot="16200000">
            <a:off x="6424560" y="4219560"/>
            <a:ext cx="1141200" cy="35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16360" y="1484280"/>
            <a:ext cx="59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1341360"/>
            <a:ext cx="5832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588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66ff"/>
                </a:solidFill>
                <a:latin typeface="Arial"/>
              </a:rPr>
              <a:t>ЗНАКИ </a:t>
            </a:r>
            <a:r>
              <a:rPr b="1" i="1" lang="en-US" sz="4400" spc="-1" strike="noStrike">
                <a:solidFill>
                  <a:srgbClr val="9966ff"/>
                </a:solidFill>
                <a:latin typeface="Arial"/>
              </a:rPr>
              <a:t>Sin, Cos, Tg, Ct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000160" y="1857240"/>
            <a:ext cx="6900840" cy="2905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59500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6478-BE12-44B7-8D6E-BE9A823091D8}" type="slidenum">
              <a:t>11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6200000">
            <a:off x="6789960" y="4506840"/>
            <a:ext cx="114120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907920"/>
            <a:ext cx="612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4720" y="2858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Вклады ученых</a:t>
            </a:r>
            <a:r>
              <a:rPr b="0" lang="ru-RU" sz="4000" spc="-1" strike="noStrike">
                <a:solidFill>
                  <a:srgbClr val="9966ff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2492280"/>
            <a:ext cx="4643640" cy="311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первые способы решения треугольников, основанные на зависимостях между сторонами и углами треугольника, были найдены древнегреческими астронома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иппархом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 в. до н .э.) и Клавди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толеме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2 в. н. э.). Позднее зависимости между отношениями сторон треугольника и его углами начали называть тригонометрическими фун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81080" cy="2519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8360" y="4292640"/>
            <a:ext cx="1906560" cy="23032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C5CA-C2DB-4510-92BC-0BBE0DEF90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rot="16200000">
            <a:off x="6789600" y="4290480"/>
            <a:ext cx="114156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0200" y="1500120"/>
            <a:ext cx="5929560" cy="436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чительный вклад в развитие тригонометрии внесли арабские учен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ь-Батани (850-929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бу-ль-Вефа Мухамед-бен Мухаммед (940-998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, который составил таблицы синусов и тангенсов через 10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точностью до 1/60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Теорему синусов уже знали индийский учены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хаскара (р. 1114, год смерти неизвестен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азербайджанский  астроном и математи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реддин Туси Мухаме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201-1274). Кроме того, Насиреддин Туси в своей работе «Трактат о полном четырехстороннике» изложил плоскую и сферическую тригонометрию как самостоятельную дисципл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57280" y="428760"/>
            <a:ext cx="59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Вклады ученых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168640" cy="252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95320" y="4797360"/>
            <a:ext cx="1232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хас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5968-7E9D-4AAD-AE20-1A5890FD8C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6200000">
            <a:off x="6638760" y="4147560"/>
            <a:ext cx="114156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28840" y="35712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1773360"/>
            <a:ext cx="4608360" cy="344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орему тангенсов доказал 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омонта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латинизированное имя немецкого астронома и математика Иоганна Мюллера (1436-1476)). Региомонтан составил также плдробные тригонометрические таблицы; благодаря его трудам плоская и сферическая тригонометрия стала самостоятельной дисциплиной и в Евро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43120" y="428760"/>
            <a:ext cx="56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Вклады ученых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33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FFFB-9346-4FAA-8501-DE367D279D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rot="16200000">
            <a:off x="6578640" y="2143080"/>
            <a:ext cx="114120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1341360"/>
            <a:ext cx="4572000" cy="405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льнейшее развитие тригонометрия получила в трудах выдающихся астрономо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колая Коперн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473-1543) – творца гелиоцентрической системы мира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хо Браг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546-1601)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огана Кеплер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571-1630), а также в работах математик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рансуа Вие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540-1603), который полностью решил задачу об определениях всех элементов плоского или сферического треугольника по трем д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43120" y="428760"/>
            <a:ext cx="56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Вклады ученых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949400" cy="223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948360" y="4365720"/>
            <a:ext cx="1811520" cy="201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1562040" cy="223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2924280"/>
            <a:ext cx="172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 Копе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6237360"/>
            <a:ext cx="15843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 Ви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6093000"/>
            <a:ext cx="1511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еп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740A-C13B-467D-8226-F694B30276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rot="16200000">
            <a:off x="6789600" y="4290480"/>
            <a:ext cx="114156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336600"/>
            <a:ext cx="6389640" cy="61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лгое время тригонометрия носила чисто геометрический характер. Такою она была еще в средние века, хотя иногда в ней использовались и аналитические методы, особенно после появления логарифмов.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остепенно тригонометрия органически вошла в математический анализ, механику, физику и технические дисцип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чиная с </a:t>
            </a: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., тригонометрические функции начали применять к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решению уравнен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задач механики, оптики, электричества, радиотехники, для описания колебательных процессов, распространения волн, движения различных механизмов, для изучения переменного электрического тока и т. д.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оэтому тригонометрические функции всесторонне и глубоко исследовались и приобрели важное значение для всей мате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FC7E-E0CB-4E35-AEC5-5336305FDF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16200000">
            <a:off x="6638760" y="4290480"/>
            <a:ext cx="114156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260280"/>
            <a:ext cx="6572520" cy="61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алитическая теория тригонометрических функций в основном была создана выдающимся математиком </a:t>
            </a: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.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Леонардом Эйлер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1707-1783) член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тригонометрия, возникшая как наука о решении треугольников, со временем развилась и в науку о тригонометрических функ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зднее часть тригонометрии, которая изучает свойства тригонометрических функций и зависимости между ними, начали называть гониометрией (в переводе – наука об измерении углов, от греч.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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угол,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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измеряю). Термин гониометрия в последнее время практически не употребл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учение свойств тригонометрических функций и зависимостей между ними отнесено к школьному курсу алгебры, а решение треугольников – к курсу 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Эйлер Леонард"/>
          <p:cNvPicPr/>
          <p:nvPr/>
        </p:nvPicPr>
        <p:blipFill>
          <a:blip r:embed="rId2"/>
          <a:stretch/>
        </p:blipFill>
        <p:spPr>
          <a:xfrm>
            <a:off x="250920" y="549360"/>
            <a:ext cx="2001600" cy="25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B637-1DBA-4E80-BD14-AABB13E9DF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3330360" cy="3281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16200000">
            <a:off x="6281640" y="3933720"/>
            <a:ext cx="1141560" cy="356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0160" y="85716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4240" y="0"/>
            <a:ext cx="82296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ОПРЕДЕЛЕНИЕ </a:t>
            </a:r>
            <a:r>
              <a:rPr b="1" i="1" lang="en-US" sz="4000" spc="-1" strike="noStrike">
                <a:solidFill>
                  <a:srgbClr val="9966ff"/>
                </a:solidFill>
                <a:latin typeface="Arial"/>
              </a:rPr>
              <a:t>SIN,COS,TG,CT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000160"/>
            <a:ext cx="41511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нусом  угла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 отношение ординаты точки В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синусом угла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 отношение абсциссы точки В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нгенсо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гла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 отношение ординаты точки В к ее абсцис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ангенсом угла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 отношение абсциссы точки В к ее ордин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787D-13CD-474B-B3CF-07DC3639293B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28920" y="4000680"/>
            <a:ext cx="4638600" cy="24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16200000">
            <a:off x="5249160" y="392760"/>
            <a:ext cx="3714480" cy="4071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Друзья поверьте мне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Я самая полезная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нтересная и лирическая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Я функция - тригонометрическая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мею я особенную точку.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О ней скажу вам я в последней строчке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То точки ноль и единица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 хоть мой график тут наверх стремиться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В любом он случае через нее проходит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 два конца волны в единый граф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сводит (косину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92200" y="928800"/>
            <a:ext cx="556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43040" y="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Син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4960" y="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Косин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71760" y="642960"/>
            <a:ext cx="3571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Я и сама могу сказать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 график свой вам показать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Хоть есть названье у линии моей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 нет как у параболы ветвей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Я отрицательна - и это всем вам видно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Не жмусь волной одним концом к оси ОХ я безобидно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Давно сравнили мою скорость роста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Ты по сравнению со мной малютка прос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A0BB-649E-433D-B218-ABC3265901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7:42:06Z</dcterms:created>
  <dc:creator>света</dc:creator>
  <dc:description/>
  <dc:language>en-US</dc:language>
  <cp:lastModifiedBy>home</cp:lastModifiedBy>
  <dcterms:modified xsi:type="dcterms:W3CDTF">2013-03-03T07:07:21Z</dcterms:modified>
  <cp:revision>80</cp:revision>
  <dc:subject/>
  <dc:title>Слайд 1</dc:title>
</cp:coreProperties>
</file>