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1FC-8E28-41B4-A0AC-15F3AA2F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F4D-5E72-49E5-AF22-5C3A470E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BC1-8B2A-4BAD-A869-04B98DF6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3DA-CCFD-469D-8F65-E3320367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745-158B-415B-B3EF-2DB8236F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3B0-C98B-4D22-8878-91256EB5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8A4-8B00-415E-A749-D5790394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521-CCAA-4AF7-9CFB-EA0A3324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6FE-4C08-49E2-8C50-F3C78511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F3C-BCC1-4D38-96D0-ECA80EFB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AB0-21A0-4717-81E8-60BF6E6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8C3-5154-44FB-9813-E610613F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C529-FA4E-49CE-9F35-55B1A611A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2438280"/>
            <a:ext cx="32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28-182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26-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17-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30-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438280"/>
            <a:ext cx="3733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усско-турец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усско-ира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вказ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волюция в П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380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акие войны произошли в эти го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80880" y="838080"/>
          <a:ext cx="8229600" cy="5268960"/>
        </p:xfrm>
        <a:graphic>
          <a:graphicData uri="http://schemas.openxmlformats.org/drawingml/2006/table">
            <a:tbl>
              <a:tblPr/>
              <a:tblGrid>
                <a:gridCol w="4191120"/>
                <a:gridCol w="40384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оюзники Тур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рутская 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общая воинская пови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азвитость военной промышл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ые капиталистические отнош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усный фл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4 судн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овой фло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8 суд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дкоствольные кремнев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00 шаг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езные удар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300 шаг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од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79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V62_3"/>
          <p:cNvPicPr/>
          <p:nvPr/>
        </p:nvPicPr>
        <p:blipFill>
          <a:blip r:embed="rId2"/>
          <a:stretch/>
        </p:blipFill>
        <p:spPr>
          <a:xfrm>
            <a:off x="228600" y="1295280"/>
            <a:ext cx="263196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SV62_4"/>
          <p:cNvPicPr/>
          <p:nvPr/>
        </p:nvPicPr>
        <p:blipFill>
          <a:blip r:embed="rId3"/>
          <a:stretch/>
        </p:blipFill>
        <p:spPr>
          <a:xfrm>
            <a:off x="3530520" y="1219320"/>
            <a:ext cx="2387520" cy="3504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SV62_12"/>
          <p:cNvPicPr/>
          <p:nvPr/>
        </p:nvPicPr>
        <p:blipFill>
          <a:blip r:embed="rId4"/>
          <a:stretch/>
        </p:blipFill>
        <p:spPr>
          <a:xfrm>
            <a:off x="6597720" y="1219320"/>
            <a:ext cx="2084400" cy="3504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228600" y="51807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нилов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3585960" y="518148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химов П.С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6329160" y="518148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томин В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04920"/>
            <a:ext cx="6781680" cy="5814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рои обороны Севасто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ерои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img031"/>
          <p:cNvPicPr/>
          <p:nvPr/>
        </p:nvPicPr>
        <p:blipFill>
          <a:blip r:embed="rId2"/>
          <a:stretch/>
        </p:blipFill>
        <p:spPr>
          <a:xfrm>
            <a:off x="3124080" y="1828800"/>
            <a:ext cx="2490840" cy="3886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048120" y="2057400"/>
            <a:ext cx="2743200" cy="345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6018120" y="3352680"/>
            <a:ext cx="24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р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вастополь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429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. Пир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5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7" nodeType="after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1676520"/>
            <a:ext cx="73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рное море объявлялось нейтральным. России запрещалось иметь на море флот и береговые укре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жная часть Бессарабии отошли к противн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ажение в войне укрепило в обществе необходимость о обновления в ст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оги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609480"/>
            <a:ext cx="792504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способность высшего командного состава к руководству военными действ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сутствие хороших до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развитость военной 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сталость вооружения (паровой флот, гладкоствольное оруж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крутская система набора в арм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епостное 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ойна показала необходимость немедленного и решительного реформирования всех сторон жизни Российского общества, без чего страна могла терпеть всё новые и новые поражения от ушедшей вперёд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9" name="Oval 2"/>
          <p:cNvSpPr/>
          <p:nvPr/>
        </p:nvSpPr>
        <p:spPr>
          <a:xfrm>
            <a:off x="2590920" y="3581280"/>
            <a:ext cx="380988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ымск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53-1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70280" y="3047400"/>
            <a:ext cx="18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ичин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451160" y="540936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Х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810600" y="2361240"/>
            <a:ext cx="15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ово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709320" y="312336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898560"/>
                <a:tab algn="l" pos="1349280"/>
                <a:tab algn="l" pos="867744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ер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415480" y="540936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словия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 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7920" y="1981080"/>
            <a:ext cx="678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чему внешнеполитические успехи России в первой половине 19 века сменились поражением в Крымской вой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209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11 ст. 67 в. 4 письм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ram_fot_sm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838080"/>
            <a:ext cx="7238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реди участников обороны Севастополя был артиллерийский подпоручик, ставший в дальнейшем великим русским писателем – Л.Н. Толс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читайте его «Севастопольские рассказ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факты произвели на вас наибольшее впечатление? Что нового вы узнали? Можно ли привлекать это произведение в качестве источника? Аргументируйте сво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10676" r="0" b="0"/>
          <a:stretch/>
        </p:blipFill>
        <p:spPr>
          <a:xfrm>
            <a:off x="1981080" y="533520"/>
            <a:ext cx="5238720" cy="573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flipV="1">
            <a:off x="2514600" y="4876560"/>
            <a:ext cx="68580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5867280"/>
            <a:ext cx="68580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5181480"/>
            <a:ext cx="38088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33720" y="5790960"/>
            <a:ext cx="68580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ram_fot_sm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0160" y="533520"/>
            <a:ext cx="623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ледствия при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еверного Кавказа к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914400" y="1752480"/>
            <a:ext cx="3600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ож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5029200" y="1752480"/>
            <a:ext cx="335268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риц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кращение крова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одальных вой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уничтожение работоргов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развитие хозяйст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зни кр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втягивание Кавказа 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ероссийский ры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создание предпосылок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рмирования 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59092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цион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вободительн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р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1981080"/>
            <a:ext cx="678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чему внешнеполитические успехи России в первой половине 19 века сменились поражением в Крымской вой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228600"/>
            <a:ext cx="8076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Крымская вой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1853-1856 г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4" name="Oval 2"/>
          <p:cNvSpPr/>
          <p:nvPr/>
        </p:nvSpPr>
        <p:spPr>
          <a:xfrm>
            <a:off x="2590920" y="3581280"/>
            <a:ext cx="380988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ымск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53-1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070280" y="3047400"/>
            <a:ext cx="18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ичин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451160" y="540936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Х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810600" y="2361240"/>
            <a:ext cx="15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ово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6709320" y="312336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898560"/>
                <a:tab algn="l" pos="1349280"/>
                <a:tab algn="l" pos="867744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ер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5415480" y="540936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словия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 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99072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адание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овы были внешнеполитические планы России на Ближнем Востоке? На поддержку каких государств рассчитывал Николай Первый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адание2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С интересами каких государств сталкивались интересы России на Ближнем Вост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45040" y="1295280"/>
            <a:ext cx="782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осс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пересмотр режима черномор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ливов; усиление влияни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алканском полуостр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960" y="2971800"/>
            <a:ext cx="63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урц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ослаблени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вращение Крыма и Закавка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960" y="4343400"/>
            <a:ext cx="74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ранция и Англ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ослаблени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пространения эконом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олитического влияния 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ижнем Восто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Цели воюющих стор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ram_fot_s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8800" y="533520"/>
            <a:ext cx="5867280" cy="64260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4160" y="1752480"/>
            <a:ext cx="39326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иколай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треб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ачи ключ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с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щенни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аз султ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уж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одом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а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7903" t="0" r="4936" b="0"/>
          <a:stretch/>
        </p:blipFill>
        <p:spPr>
          <a:xfrm>
            <a:off x="4724280" y="1295280"/>
            <a:ext cx="320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8T18:07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