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E4CC-6027-4F9F-9953-193B7A953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2BC6-6DC7-4502-9C2A-5D257D457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81ED-D048-4637-A660-569670C95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E9E7-F4EF-43D1-B483-FAD5FE693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C12C-2A70-4A49-9DE7-B2CE7B107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82E8-2495-4C88-8D82-8E64376C2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73DF-0F89-4DF6-84BB-64DA9D0DE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41E3-9634-4D39-8AB5-BC1B17790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7836-B0FC-4313-9060-B670FE342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3190-8FF0-4E66-9769-D1F237C64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096E-E6E4-482E-84E7-82D91342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9654-51DE-4A34-9551-73BF9AA1C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9BC6B-3A1D-4481-8729-6FF2013575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ram_fot_sm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143000" y="2438280"/>
            <a:ext cx="32767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828-182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826-18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817-18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830-18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0" y="2438280"/>
            <a:ext cx="373392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Русско-турец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Русско-иран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авказ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Революция в Поль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00200" y="38088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Какие войны произошли в эти год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ram_fot_sm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4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5" name=""/>
          <p:cNvGraphicFramePr/>
          <p:nvPr/>
        </p:nvGraphicFramePr>
        <p:xfrm>
          <a:off x="380880" y="838080"/>
          <a:ext cx="8229600" cy="5268960"/>
        </p:xfrm>
        <a:graphic>
          <a:graphicData uri="http://schemas.openxmlformats.org/drawingml/2006/table">
            <a:tbl>
              <a:tblPr/>
              <a:tblGrid>
                <a:gridCol w="4191120"/>
                <a:gridCol w="4038480"/>
              </a:tblGrid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Союзники Турц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крутская систем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сеобщая воинская повин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развитость военной промышленно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витые капиталистические отнош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арусный фло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24 судна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аровой флот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258 судов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ладкоствольные кремневы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300 шагов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резные ударны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1300 шагов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ram_fot_sm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828800" y="533520"/>
            <a:ext cx="5867280" cy="642600"/>
          </a:xfrm>
          <a:prstGeom prst="rect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Ход вой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828800" y="1371600"/>
            <a:ext cx="579132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229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2" dur="1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ram_fot_sm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SV62_3"/>
          <p:cNvPicPr/>
          <p:nvPr/>
        </p:nvPicPr>
        <p:blipFill>
          <a:blip r:embed="rId2"/>
          <a:stretch/>
        </p:blipFill>
        <p:spPr>
          <a:xfrm>
            <a:off x="228600" y="1295280"/>
            <a:ext cx="2631960" cy="3429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SV62_4"/>
          <p:cNvPicPr/>
          <p:nvPr/>
        </p:nvPicPr>
        <p:blipFill>
          <a:blip r:embed="rId3"/>
          <a:stretch/>
        </p:blipFill>
        <p:spPr>
          <a:xfrm>
            <a:off x="3530520" y="1219320"/>
            <a:ext cx="2387520" cy="3504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SV62_12"/>
          <p:cNvPicPr/>
          <p:nvPr/>
        </p:nvPicPr>
        <p:blipFill>
          <a:blip r:embed="rId4"/>
          <a:stretch/>
        </p:blipFill>
        <p:spPr>
          <a:xfrm>
            <a:off x="6597720" y="1219320"/>
            <a:ext cx="2084400" cy="35049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4"/>
          <p:cNvSpPr/>
          <p:nvPr/>
        </p:nvSpPr>
        <p:spPr>
          <a:xfrm>
            <a:off x="228600" y="518076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038099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орнилов В.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1"/>
          <p:cNvSpPr/>
          <p:nvPr/>
        </p:nvSpPr>
        <p:spPr>
          <a:xfrm>
            <a:off x="3585960" y="5181480"/>
            <a:ext cx="265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Нахимов П.С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2"/>
          <p:cNvSpPr/>
          <p:nvPr/>
        </p:nvSpPr>
        <p:spPr>
          <a:xfrm>
            <a:off x="6329160" y="5181480"/>
            <a:ext cx="252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Истомин В.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19320" y="304920"/>
            <a:ext cx="6781680" cy="581400"/>
          </a:xfrm>
          <a:prstGeom prst="rect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Герои обороны Севастопо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500"/>
                            </p:stCondLst>
                            <p:childTnLst>
                              <p:par>
                                <p:cTn id="2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4500"/>
                            </p:stCondLst>
                            <p:childTnLst>
                              <p:par>
                                <p:cTn id="2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6500"/>
                            </p:stCondLst>
                            <p:childTnLst>
                              <p:par>
                                <p:cTn id="2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8500"/>
                            </p:stCondLst>
                            <p:childTnLst>
                              <p:par>
                                <p:cTn id="2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500"/>
                            </p:stCondLst>
                            <p:childTnLst>
                              <p:par>
                                <p:cTn id="2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ram_fot_sm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828800" y="533520"/>
            <a:ext cx="5867280" cy="642600"/>
          </a:xfrm>
          <a:prstGeom prst="rect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Герои вой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9" descr="img031"/>
          <p:cNvPicPr/>
          <p:nvPr/>
        </p:nvPicPr>
        <p:blipFill>
          <a:blip r:embed="rId2"/>
          <a:stretch/>
        </p:blipFill>
        <p:spPr>
          <a:xfrm>
            <a:off x="3124080" y="1828800"/>
            <a:ext cx="2490840" cy="38862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3048120" y="2057400"/>
            <a:ext cx="2743200" cy="3457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1" name=""/>
          <p:cNvSpPr/>
          <p:nvPr/>
        </p:nvSpPr>
        <p:spPr>
          <a:xfrm>
            <a:off x="6018120" y="3352680"/>
            <a:ext cx="241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Дарь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евастопольс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342900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Н. Пирог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1" dur="5000" fill="hold"/>
                                        <p:tgtEl>
                                          <p:spTgt spid="1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8500"/>
                            </p:stCondLst>
                            <p:childTnLst>
                              <p:par>
                                <p:cTn id="30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9000"/>
                            </p:stCondLst>
                            <p:childTnLst>
                              <p:par>
                                <p:cTn id="3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1000"/>
                            </p:stCondLst>
                            <p:childTnLst>
                              <p:par>
                                <p:cTn id="3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1500"/>
                            </p:stCondLst>
                            <p:childTnLst>
                              <p:par>
                                <p:cTn id="3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2000"/>
                            </p:stCondLst>
                            <p:childTnLst>
                              <p:par>
                                <p:cTn id="327" nodeType="afterEffect" fill="hold" presetClass="emph" presetID="6">
                                  <p:stCondLst>
                                    <p:cond delay="5000"/>
                                  </p:stCondLst>
                                  <p:childTnLst>
                                    <p:animScale>
                                      <p:cBhvr>
                                        <p:cTn id="328" dur="2000" fill="hold"/>
                                        <p:tgtEl>
                                          <p:spTgt spid="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29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ram_fot_sm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990720" y="1676520"/>
            <a:ext cx="73152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ерное море объявлялось нейтральным. России запрещалось иметь на море флот и береговые укреп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Южная часть Бессарабии отошли к противни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ражение в войне укрепило в обществе необходимость о обновления в стра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828800" y="533520"/>
            <a:ext cx="5867280" cy="642600"/>
          </a:xfrm>
          <a:prstGeom prst="rect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Итоги вой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ram_fot_sm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838080" y="609480"/>
            <a:ext cx="7925040" cy="56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еспособность высшего командного состава к руководству военными действ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тсутствие хороших дор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еразвитость военной промышл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тсталость вооружения (паровой флот, гладкоствольное оруж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екрутская система набора в арм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репостное пра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Война показала необходимость немедленного и решительного реформирования всех сторон жизни Российского общества, без чего страна могла терпеть всё новые и новые поражения от ушедшей вперёд Евро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ram_fot_sm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109" name="Oval 2"/>
          <p:cNvSpPr/>
          <p:nvPr/>
        </p:nvSpPr>
        <p:spPr>
          <a:xfrm>
            <a:off x="2590920" y="3581280"/>
            <a:ext cx="3809880" cy="1676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рымская вой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53-18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70280" y="3047400"/>
            <a:ext cx="188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Причин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1451160" y="5409360"/>
            <a:ext cx="212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Ход вой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3810600" y="2361240"/>
            <a:ext cx="159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Повод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6709320" y="3123360"/>
            <a:ext cx="123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676440"/>
                <a:tab algn="l" pos="898560"/>
                <a:tab algn="l" pos="1349280"/>
                <a:tab algn="l" pos="867744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Геро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5415480" y="5409360"/>
            <a:ext cx="267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Условия ми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828800" y="533520"/>
            <a:ext cx="5867280" cy="642600"/>
          </a:xfrm>
          <a:prstGeom prst="rect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лан 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ram_fot_sm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447920" y="1981080"/>
            <a:ext cx="6781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очему внешнеполитические успехи России в первой половине 19 века сменились поражением в Крымской войн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828800" y="533520"/>
            <a:ext cx="5867280" cy="642600"/>
          </a:xfrm>
          <a:prstGeom prst="rect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робле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ram_fot_sm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828800" y="533520"/>
            <a:ext cx="5867280" cy="642600"/>
          </a:xfrm>
          <a:prstGeom prst="rect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371600" y="22096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§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11 ст. 67 в. 4 письмен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ram_fot_sm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990720" y="838080"/>
            <a:ext cx="7238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реди участников обороны Севастополя был артиллерийский подпоручик, ставший в дальнейшем великим русским писателем – Л.Н. Толст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очитайте его «Севастопольские рассказы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акие факты произвели на вас наибольшее впечатление? Что нового вы узнали? Можно ли привлекать это произведение в качестве источника? Аргументируйте свой отв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ram_fot_sm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rcRect l="0" t="10676" r="0" b="0"/>
          <a:stretch/>
        </p:blipFill>
        <p:spPr>
          <a:xfrm>
            <a:off x="1981080" y="533520"/>
            <a:ext cx="5238720" cy="5738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47" name=""/>
          <p:cNvSpPr/>
          <p:nvPr/>
        </p:nvSpPr>
        <p:spPr>
          <a:xfrm flipV="1">
            <a:off x="2514600" y="4876560"/>
            <a:ext cx="685800" cy="759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4648320" y="5867280"/>
            <a:ext cx="685800" cy="763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486400" y="5181480"/>
            <a:ext cx="380880" cy="3812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133720" y="5790960"/>
            <a:ext cx="685800" cy="759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ram_fot_sm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370160" y="533520"/>
            <a:ext cx="623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оследствия присоедин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еверного Кавказа к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4"/>
          <p:cNvSpPr/>
          <p:nvPr/>
        </p:nvSpPr>
        <p:spPr>
          <a:xfrm>
            <a:off x="914400" y="1752480"/>
            <a:ext cx="3600360" cy="6480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положите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5"/>
          <p:cNvSpPr/>
          <p:nvPr/>
        </p:nvSpPr>
        <p:spPr>
          <a:xfrm>
            <a:off x="5029200" y="1752480"/>
            <a:ext cx="3352680" cy="6480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отрицате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2514600"/>
            <a:ext cx="4572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екращение кровав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феодальных вой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уничтожение работорговл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развитие хозяйствен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жизни кра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втягивание Кавказа 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сероссийский рыно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создание предпосылок дл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формирования н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257800" y="2590920"/>
            <a:ext cx="3124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давл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ациональн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свободительного дви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орц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ram_fot_sm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447920" y="1981080"/>
            <a:ext cx="6781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очему внешнеполитические успехи России в первой половине 19 века сменились поражением в Крымской войн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28800" y="533520"/>
            <a:ext cx="5867280" cy="642600"/>
          </a:xfrm>
          <a:prstGeom prst="rect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робле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ram_fot_sm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0" y="3348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2120" y="228600"/>
            <a:ext cx="807696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33"/>
                </a:solidFill>
                <a:latin typeface="Arial"/>
              </a:rPr>
              <a:t>Крымская войн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33"/>
                </a:solidFill>
                <a:latin typeface="Arial"/>
              </a:rPr>
              <a:t>1853-1856 гг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ram_fot_sm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64" name="Oval 2"/>
          <p:cNvSpPr/>
          <p:nvPr/>
        </p:nvSpPr>
        <p:spPr>
          <a:xfrm>
            <a:off x="2590920" y="3581280"/>
            <a:ext cx="3809880" cy="1676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рымская вой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53-18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1070280" y="3047400"/>
            <a:ext cx="188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Причин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1"/>
          <p:cNvSpPr/>
          <p:nvPr/>
        </p:nvSpPr>
        <p:spPr>
          <a:xfrm>
            <a:off x="1451160" y="5409360"/>
            <a:ext cx="212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Ход вой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9"/>
          <p:cNvSpPr/>
          <p:nvPr/>
        </p:nvSpPr>
        <p:spPr>
          <a:xfrm>
            <a:off x="3810600" y="2361240"/>
            <a:ext cx="159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Повод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0"/>
          <p:cNvSpPr/>
          <p:nvPr/>
        </p:nvSpPr>
        <p:spPr>
          <a:xfrm>
            <a:off x="6709320" y="3123360"/>
            <a:ext cx="123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676440"/>
                <a:tab algn="l" pos="898560"/>
                <a:tab algn="l" pos="1349280"/>
                <a:tab algn="l" pos="867744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Геро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2"/>
          <p:cNvSpPr/>
          <p:nvPr/>
        </p:nvSpPr>
        <p:spPr>
          <a:xfrm>
            <a:off x="5415480" y="5409360"/>
            <a:ext cx="267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Условия ми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28800" y="533520"/>
            <a:ext cx="5867280" cy="642600"/>
          </a:xfrm>
          <a:prstGeom prst="rect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лан 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ram_fot_sm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990720" y="990720"/>
            <a:ext cx="7467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Задание1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Каковы были внешнеполитические планы России на Ближнем Востоке? На поддержку каких государств рассчитывал Николай Первый и поч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Задание2.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С интересами каких государств сталкивались интересы России на Ближнем Вост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ram_fot_sm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45040" y="1295280"/>
            <a:ext cx="7826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Россия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– пересмотр режима черноморск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роливов; усиление влияния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Балканском полуостро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960" y="2971800"/>
            <a:ext cx="635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Турция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– ослабление Росси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озвращение Крыма и Закавказ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5960" y="4343400"/>
            <a:ext cx="745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Франция и Англия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- ослабление Росси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спространения экономическ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 политического влияния  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лижнем Восток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28800" y="533520"/>
            <a:ext cx="5867280" cy="642600"/>
          </a:xfrm>
          <a:prstGeom prst="rect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Цели воюющих сторо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ram_fot_sm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828800" y="533520"/>
            <a:ext cx="5867280" cy="642600"/>
          </a:xfrm>
          <a:prstGeom prst="rect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ов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14160" y="1752480"/>
            <a:ext cx="3932640" cy="41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Николай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потребов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дачи ключ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авославны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вященника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каз султа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служи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водом дл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чала вой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rcRect l="7903" t="0" r="4936" b="0"/>
          <a:stretch/>
        </p:blipFill>
        <p:spPr>
          <a:xfrm>
            <a:off x="4724280" y="1295280"/>
            <a:ext cx="32022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2-18T18:07:13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