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E83-CE2A-431B-9D44-587DB3FA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C05-01FF-4A66-9A79-9A6A75DB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00B-5BE8-4BD9-B67A-BFBAE1D0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861-18F7-4565-9818-81730399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E24-1E07-4ABA-91A3-D7EDCE7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B52-3B9B-4B6E-A705-42DC07C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2BB-F146-4519-A6E1-FE99B68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587-F81C-4A8E-A0E7-B47047C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5D3-346D-4068-8408-1BD9A40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6A1-545C-4D66-9DDF-83AF4E8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B4D-73D3-4821-9AD3-BFF6730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8D5-25CC-4213-A780-37985C2B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184F-3B13-449B-A56D-07C1D4C8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4382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8-18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6-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17-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30-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438280"/>
            <a:ext cx="3733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турец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ира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вказ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волюция в П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80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кие войны произошли в эти го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80880" y="838080"/>
          <a:ext cx="8229600" cy="526896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оюзники Тур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рутск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общая воинская пови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витость военной промышл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ые капиталистически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усный фл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4 суд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овой фло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8 суд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дкоствольные кремнев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езные удар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79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V62_3"/>
          <p:cNvPicPr/>
          <p:nvPr/>
        </p:nvPicPr>
        <p:blipFill>
          <a:blip r:embed="rId2"/>
          <a:stretch/>
        </p:blipFill>
        <p:spPr>
          <a:xfrm>
            <a:off x="228600" y="1295280"/>
            <a:ext cx="263196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V62_4"/>
          <p:cNvPicPr/>
          <p:nvPr/>
        </p:nvPicPr>
        <p:blipFill>
          <a:blip r:embed="rId3"/>
          <a:stretch/>
        </p:blipFill>
        <p:spPr>
          <a:xfrm>
            <a:off x="3530520" y="1219320"/>
            <a:ext cx="2387520" cy="3504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V62_12"/>
          <p:cNvPicPr/>
          <p:nvPr/>
        </p:nvPicPr>
        <p:blipFill>
          <a:blip r:embed="rId4"/>
          <a:stretch/>
        </p:blipFill>
        <p:spPr>
          <a:xfrm>
            <a:off x="6597720" y="1219320"/>
            <a:ext cx="2084400" cy="3504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28600" y="5180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нилов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3585960" y="518148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химов П.С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329160" y="518148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мин В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04920"/>
            <a:ext cx="6781680" cy="5814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рои обороны Севасто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еро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img031"/>
          <p:cNvPicPr/>
          <p:nvPr/>
        </p:nvPicPr>
        <p:blipFill>
          <a:blip r:embed="rId2"/>
          <a:stretch/>
        </p:blipFill>
        <p:spPr>
          <a:xfrm>
            <a:off x="3124080" y="1828800"/>
            <a:ext cx="2490840" cy="388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743200" cy="34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018120" y="3352680"/>
            <a:ext cx="24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р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вастоп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. Пир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167652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рное море объявлялось нейтральным. России запрещалось иметь на море флот и береговые у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жная часть Бессарабии отошли к против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ажение в войне укрепило в обществе необходимость о обновления в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ог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609480"/>
            <a:ext cx="792504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пособность высшего командного состава к руководству военными действ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утствие хороших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развитость военно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талость вооружения (паровой флот, гладкоствольное оруж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рутская система набора в 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епостное 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ойна показала необходимость немедленного и решительного реформирования всех сторон жизни Российского общества, без чего страна могла терпеть всё новые и новые поражения от ушедшей вперёд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9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209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11 ст. 67 в. 4 письм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838080"/>
            <a:ext cx="7238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и участников обороны Севастополя был артиллерийский подпоручик, ставший в дальнейшем великим русским писателем – Л.Н. Тол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читайте его «Севастопольские рассказ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факты произвели на вас наибольшее впечатление? Что нового вы узнали? Можно ли привлекать это произведение в качестве источника? Аргументируйте сво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0676" r="0" b="0"/>
          <a:stretch/>
        </p:blipFill>
        <p:spPr>
          <a:xfrm>
            <a:off x="1981080" y="533520"/>
            <a:ext cx="5238720" cy="57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flipV="1">
            <a:off x="2514600" y="48765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586728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5181480"/>
            <a:ext cx="3808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33720" y="57909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0160" y="533520"/>
            <a:ext cx="62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ствия при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 Кавказа к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1752480"/>
            <a:ext cx="3600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029200" y="1752480"/>
            <a:ext cx="335268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ращение крова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одальных во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уничтожение рабо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развитие хозяй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зни кр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тягивание Кавказа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российский ры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создание предпосылок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рмирования 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909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цион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вободитель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22860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Крымская вой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1853-1856 г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4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вы были внешнеполитические планы России на Ближнем Востоке? На поддержку каких государств рассчитывал Николай Первый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2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С интересами каких государств сталкивались интересы России на Ближнем Вост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5040" y="1295280"/>
            <a:ext cx="782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осс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пересмотр режима черномор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ливов; усиление влиян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алканском полуостр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960" y="2971800"/>
            <a:ext cx="63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ур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вращение Крыма и Закавка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960" y="4343400"/>
            <a:ext cx="74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ранция и Англ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ространения эконом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литического влияни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ижнем Вос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и воюющих сто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160" y="1752480"/>
            <a:ext cx="3932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икола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треб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чи ключ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с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щенн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султ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уж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дом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а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7903" t="0" r="4936" b="0"/>
          <a:stretch/>
        </p:blipFill>
        <p:spPr>
          <a:xfrm>
            <a:off x="4724280" y="1295280"/>
            <a:ext cx="320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8T18:07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