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8C45-4CC1-4E75-9888-11822CECA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84C8-3213-4764-8CD8-EB9AD0FD4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F15-E838-4495-8B2E-82BAFC43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A58-C598-4CA9-9BF2-ED8A8A68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5E3-A998-4A00-A2A8-299503FA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893-8AE7-4A82-AC70-78E4FFF5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611D-7CE0-4DBC-A24B-569A491B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66C3-0FA9-4C70-8809-27A615B2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460A-CDBA-4C65-968B-371F4F50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F927-609E-4945-9FDD-65678202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2E91-1DE3-404E-B05C-E4A1A56B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8B33-B0EC-4640-A337-BE6897F8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2144-A4B6-4923-B189-3BBDC6D9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BB1-72CF-4E15-828F-128D056B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25A7-274D-4541-9737-9EBD56F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66F5-BDF8-43D7-9865-77EE8D6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4E44-06FB-4170-AE1F-CAAB6150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71DD-8E03-45DB-8714-9C6537FF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AD92-36D8-4E1E-A25D-8A198960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EFAA-F372-4F26-86C5-7D3AD161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B562-6413-4EE0-9F7D-AB917BAD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632C-4794-4536-B421-70AD11B8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1E7A-3887-4AE4-A490-66B04D15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A583C-410A-4D6B-A5E2-4A7624A9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8EE-8890-4F09-9DF5-F27AA2F4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DA3B-065C-4F2E-9FC1-10441BC0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1E66-89ED-4EBF-8175-55B1A39C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84B9-2694-4F08-8FCE-A714EFE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4B16-6ED6-406B-A350-2BEFE1DC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3F3F-B03F-4ADC-AE15-E51E3EE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EB2BC-C503-4368-8038-A9542D8A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3290-D274-4091-A8A3-EF7BDBE7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E3DA0-08B9-4E53-ABE7-58202771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D775-DFF1-4D11-A4ED-76908B4C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F424-1F91-416A-AFC0-A6114DF2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375-587A-4F81-8667-205CB32F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3E9C8-E82F-499C-AE27-3B18B347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7FDE-01D1-4A5B-8608-21F77E9F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7CE3-1EF4-4D18-8AA4-E570F6C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674E-3FF7-41BC-B608-9AA9D02B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7B34-096A-434B-AA52-98A7343D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5769-1977-4824-A6D9-EB0BB9E6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96E3-5651-40EF-9CFD-4DF619C7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8C3B-D22A-46AD-B387-F22814DD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6510-708C-457B-8AD5-97BE2919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D6DFA-3B1E-4884-AA3C-C0BF09D4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4D1-A98F-4E29-90EE-388B3836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89938-8C8A-4DD9-B31D-44F1F0A7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1F85A-6F87-4018-8993-0CEACA50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384E7-65BF-41A3-8D73-AF973E54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7FA9-B55F-4415-B8F0-FBDF90C8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5B53-4B44-4AE4-83A5-9903B07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F4E8E-1BFA-49B7-B221-F6973C9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C4A2F-F4DE-41DE-81BE-FBD2442B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03A2-086D-4D4E-ACA2-00B313B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03FB9-2095-47F3-B529-7B7BCC60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B4A76-5FBB-4804-A217-42CB10F3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83C-3822-4CF2-8B50-108A864E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2D54A-C692-40D6-AE73-AB3F685B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6A4-0D0D-4346-AEFD-5D220F03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54D-6A43-4085-895C-CBE35170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995-0206-4365-8C51-80BF784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2126-8B52-46D1-80E2-135DC053B02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9E13-DCDD-4858-94D5-2E7EE086EA09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AE68-DBCD-45BC-9E7C-7E1DA6F17FC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D0B4-3D41-407E-A577-2F5E217C94BD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981E-C281-47A5-92BE-43002AFC5FB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747864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8920" y="1483920"/>
            <a:ext cx="8137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eorgia"/>
              </a:rPr>
              <a:t>countrie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Trebuchet MS"/>
              </a:rPr>
              <a:t>Canada, Japan, India, Australia, Great Britain, Spain, Egypt, France, Vietnam, China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eorgia"/>
              </a:rPr>
              <a:t>capital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rebuchet MS"/>
              </a:rPr>
              <a:t>Tokyo, Madrid, Peking, Canberra, Ottawa, Deli, Hanoi, London, Cairo, Pari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000" y="259920"/>
            <a:ext cx="84963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Canada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Ottawa</a:t>
            </a: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Japan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Tokyo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India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Deli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Australia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Canberra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Great Britain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London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Spain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Madrid</a:t>
            </a: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Egypt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Cairo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France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Paris</a:t>
            </a: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Vietnam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Hanoi</a:t>
            </a: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China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Peking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3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684000" y="1412640"/>
            <a:ext cx="7621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pen the brackets. (Passive Voice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The money (to receive) tomor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We (to show) the historical monument last wee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Budapest (to divide) by Danube into two par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. Moscow (to found) by Yuri Dolgoruky in 1147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5. Last dictation (to write) without mistak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6. This house (to build) last yea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7. I am sure I (to ask) at the lesson tomor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8. English (to speak) by millions of peopl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9640" y="404640"/>
            <a:ext cx="69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 The money will be received tomorrow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 We were shown the historical monument last week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. Budapest is divided by Danube into two par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. Moscow was founded by Yuri Dolgoruky in 1147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. Last dictation was written without mistak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. This house was built last yea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. I am sure I will be asked at the lesson tomorrow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8. English is spoken by millions of peop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8" descr=""/>
          <p:cNvPicPr/>
          <p:nvPr/>
        </p:nvPicPr>
        <p:blipFill>
          <a:blip r:embed="rId1"/>
          <a:stretch/>
        </p:blipFill>
        <p:spPr>
          <a:xfrm>
            <a:off x="689040" y="262080"/>
            <a:ext cx="8047080" cy="1627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23640" y="3860280"/>
            <a:ext cx="8569080" cy="1706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ind mistak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(Active Voice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000" y="475920"/>
            <a:ext cx="715644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play tennis next weeken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go to the disco last Sun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read his book the whole evening yester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ok! He cr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listen to the radio every 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always watch TV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write a letter n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buy a dress last wee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bring new CD tomor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listen to music when her mum ca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000" y="549360"/>
            <a:ext cx="7227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ill play tennis next weeken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ent to the disco last Sun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as reading his book the whole evening yester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ok! He is crying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listens to the radio every 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always watches TV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is writing a letter n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bought a dress last wee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will bring new CD tomor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was listening to music when her mum ca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517680" y="401760"/>
            <a:ext cx="7315200" cy="1792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547640" y="2781000"/>
            <a:ext cx="7056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</a:rPr>
              <a:t>Task 6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755640" y="681120"/>
            <a:ext cx="6912000" cy="61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900000" y="1052640"/>
            <a:ext cx="67960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8800" spc="-1" strike="noStrike">
                <a:solidFill>
                  <a:srgbClr val="000000"/>
                </a:solidFill>
                <a:latin typeface="Trebuchet MS"/>
              </a:rPr>
              <a:t>People. Countries. Languages”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7200" spc="-1" strike="noStrike">
                <a:solidFill>
                  <a:srgbClr val="000000"/>
                </a:solidFill>
                <a:latin typeface="Trebuchet MS"/>
              </a:rPr>
              <a:t>Никогда не поздно учиться.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rebuchet MS"/>
              </a:rPr>
              <a:t>Уча других, люди учатся сами.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1332000" y="476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Век живи-век учис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755640" y="474840"/>
            <a:ext cx="610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ет ничего лучше родного дом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324000" y="552600"/>
            <a:ext cx="66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Восток или Запад, дома лучше всег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755640" y="750960"/>
            <a:ext cx="610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ом, милый до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684360" y="750960"/>
            <a:ext cx="617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овторение-мать учени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611280" y="1028880"/>
            <a:ext cx="624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тсутствие новостей -хорошая новост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166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Знание-сил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539640" y="1305000"/>
            <a:ext cx="63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лохие вести передаются быстр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08000" y="1483920"/>
            <a:ext cx="7588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rebuchet MS"/>
              </a:rPr>
              <a:t>Guess the following adjectives to describe people.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24000" y="4762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оветы получают многие, но только мудрые извлекают из них польз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53964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ньги, потраченные для развития ума, никогда не потрачены зр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900000" y="620640"/>
            <a:ext cx="59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оспешишь-людей насмешиш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826920" y="549360"/>
            <a:ext cx="60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е зная броду, не суйся в вод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11280" y="549360"/>
            <a:ext cx="624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 семи нянек дитя без глаз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826920" y="189000"/>
            <a:ext cx="603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огда ждешь, время тянется медленн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826920" y="549360"/>
            <a:ext cx="603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 вкусах не споря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755640" y="5493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ир тесен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10400" cy="11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ac66bb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07920"/>
            <a:ext cx="8028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rebuchet MS"/>
              </a:rPr>
              <a:t>selbaoci           abletiphos                   yufnn                lydiefrn                 tveitaalk           iveatecr                         </a:t>
            </a:r>
            <a:r>
              <a:rPr b="1" lang="ru-RU" sz="5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5000" spc="-1" strike="noStrike">
                <a:solidFill>
                  <a:srgbClr val="000000"/>
                </a:solidFill>
                <a:latin typeface="Trebuchet MS"/>
              </a:rPr>
              <a:t>lingov               ssuoier                                                                       lehfulp</a:t>
            </a: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3640" y="54936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Sociable Hospitable Funny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Friendly Talkative Creativ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Loving Serious Helpful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7480440" cy="1438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971640" y="1628640"/>
            <a:ext cx="6796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Put phrasal verbs correctly.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sh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8000" y="115920"/>
            <a:ext cx="7588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1. If you don’t know the word look it… in the dictionary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2. Look… this picture, pleas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3. I am looking… my key. Have you seen it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4. Never put…till tomorrow what you can do today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5. It was too hard for her to get…after that illnes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6. I can’t get … with my mother-in-law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7. The button has come…my coat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8. The explorers came…some ancient ruin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9. She’s unpleasant. She always finds…peopl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10. The bathwater is running …!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78920" y="11556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. If you don’t know the word look it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in the dictionar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 Look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at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picture, ple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. I am looking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my key. Have you seen it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 Never put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ff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till tomorrow what you can do toda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 It was too hard for her to get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v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fter that illnes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6. I can’t get 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with my mother-in-law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. The button has come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ff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y coa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. The explorers came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ome ancient ruin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. She’s unpleasant. She always finds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fault with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eop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. The bathwater is running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v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rebuchet MS"/>
              </a:rPr>
              <a:t>Match the countries and their capitals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10:37Z</dcterms:created>
  <dc:creator>школа</dc:creator>
  <dc:description/>
  <dc:language>en-US</dc:language>
  <cp:lastModifiedBy>1</cp:lastModifiedBy>
  <dcterms:modified xsi:type="dcterms:W3CDTF">2013-02-27T19:20:05Z</dcterms:modified>
  <cp:revision>60</cp:revision>
  <dc:subject/>
  <dc:title>STAR HOUR</dc:title>
</cp:coreProperties>
</file>