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123C-E43C-4491-B39E-7534795C8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40D5-2D8D-417A-8E1A-07586221E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986-9409-456F-8C20-7EBE0901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3A1-64A1-4E95-8793-ADA934DF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1F5-9AEF-4966-95FE-A628F072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39E-C16E-46A1-B39A-80598B95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FF0A-4E2D-48B3-8957-4CA666C1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C62A-8535-41A1-A246-63A9DCCC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9741-2A25-406B-B255-3CAC4C57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0F22-2A28-4097-9A4F-BB9DA64E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128-40CA-4D78-8A1B-2DA78E5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71B1-7E11-40D8-9A6B-BF29D31D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1242-D00C-4E3E-B4A3-A2C4CDA5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C9A-9536-44D5-8EA9-0E8E0ABA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C2B7-7CEF-4AEC-B953-ABE576A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5240-1818-4049-B672-31CA38E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ECBF-6CF7-4ED1-A329-75D95EB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6EE8-F2BF-4D08-AB63-3E51193D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1A0C-25C9-44FB-9810-881D3AF0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DA3A-F3FE-4830-A708-85B193C8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1A77-BD91-48DD-9A61-1A7EE652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C60E-2D70-4E76-BBCA-ADAFB2C5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EBF1-50A0-4823-B414-F846AB62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71B7-50A4-44C8-BF03-1D032FDF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B24-1D6A-47AC-963A-4F66F50E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D449-C2AF-4FF2-B7D0-E757F064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7B551-E58C-46F1-8D6E-8F17EC0F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F0FF-BF92-4C77-8BD3-102ACF38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CB83-6B3A-448F-93EC-B3688398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3439-54E2-4119-B53F-0F463DD6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F307A-B985-4D2C-A8F1-994DEBD6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2541-9E49-4BC4-BF5F-64249B6F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D0BF-342C-45F4-A4C6-326F33FF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5CA9-1134-496D-9001-0E848E6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D443-B69A-42B6-85FA-7D1D436D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F5D-1709-4A99-9C88-BCC40659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773E-5EE8-4BAA-BC1C-AAA42B76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041B-3F44-4AAC-9AD4-CDAE2112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308B9-A785-4E53-80EE-6AA52D72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7A3BF-0F45-4215-94F7-2610925C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521B-C5B4-491F-AB26-DF8D93E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93F4-6CAA-4503-BAE6-71BF348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89995-F37C-4DD5-9784-057EB5E8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5C922-CE14-413A-9DCB-3FC0387C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7C2E-4200-4138-B6CB-14768B6D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CFE0A-5374-456B-9A05-E7444137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6A0-1FD7-4CF9-AB91-F99EFC4D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0C7A-6CDB-41F1-B650-79BBB2A3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A20B3-DA54-4B7B-B8A6-D9A291A0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BCF3-1A22-457C-B037-E78CDE23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8743B-79BB-4911-B93C-A204090D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3C8A1-6115-4B63-856B-216F75C0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9D389-53DB-42DE-B363-BAC4C01B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97BA0-34A9-4DA9-AC72-7556FC9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2D600-79CB-4404-B989-A4562F2D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5C1F-455B-47DA-B2C9-E69219CE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76CC-9D61-40FC-9FE4-48263995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F9D-6FE6-4DBB-867C-89490EE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63653-2748-4457-9794-60FF762B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9D0-9F58-4822-90A9-EA8B04A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58F-8CF5-4895-B17C-24149B4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798-3CB2-4A0C-B2CC-455C1BB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EE6A-C1FF-49DB-ACBB-8C8B7CEC10E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765F-25EF-4C79-A7F4-26FD9C4595FD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1EE6-E75E-471E-AD00-75364B9FC0E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ADA6-ABCC-4D14-88B0-CFB38BEC3C3A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6710-05E0-4FA6-B1C9-4AE171D90D7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747864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8920" y="1483920"/>
            <a:ext cx="8137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eorgia"/>
              </a:rPr>
              <a:t>countrie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Trebuchet MS"/>
              </a:rPr>
              <a:t>Canada, Japan, India, Australia, Great Britain, Spain, Egypt, France, Vietnam, China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eorgia"/>
              </a:rPr>
              <a:t>capital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rebuchet MS"/>
              </a:rPr>
              <a:t>Tokyo, Madrid, Peking, Canberra, Ottawa, Deli, Hanoi, London, Cairo, Pari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000" y="259920"/>
            <a:ext cx="84963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Canada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Ottawa</a:t>
            </a: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Japan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Tokyo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India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Deli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Australia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Canberra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Great Britain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London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Spain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Madrid</a:t>
            </a: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Egypt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Cairo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France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Paris</a:t>
            </a: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Vietnam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Hanoi</a:t>
            </a:r>
            <a:r>
              <a:rPr b="1" lang="en-US" sz="4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Trebuchet MS"/>
              </a:rPr>
              <a:t>China</a:t>
            </a:r>
            <a:r>
              <a:rPr b="1" lang="en-US" sz="4300" spc="-1" strike="noStrike">
                <a:solidFill>
                  <a:srgbClr val="0000ff"/>
                </a:solidFill>
                <a:latin typeface="Trebuchet MS"/>
              </a:rPr>
              <a:t>-Peking</a:t>
            </a:r>
            <a:endParaRPr b="0" lang="en-US" sz="4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3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684000" y="1412640"/>
            <a:ext cx="7621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pen the brackets. (Passive Voice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The money (to receive) tomor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We (to show) the historical monument last wee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Budapest (to divide) by Danube into two par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. Moscow (to found) by Yuri Dolgoruky in 1147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5. Last dictation (to write) without mistak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6. This house (to build) last yea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7. I am sure I (to ask) at the lesson tomor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8. English (to speak) by millions of peopl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9640" y="404640"/>
            <a:ext cx="69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 The money will be received tomorrow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 We were shown the historical monument last week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. Budapest is divided by Danube into two par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. Moscow was founded by Yuri Dolgoruky in 1147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. Last dictation was written without mistak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. This house was built last yea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. I am sure I will be asked at the lesson tomorrow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8. English is spoken by millions of peop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8" descr=""/>
          <p:cNvPicPr/>
          <p:nvPr/>
        </p:nvPicPr>
        <p:blipFill>
          <a:blip r:embed="rId1"/>
          <a:stretch/>
        </p:blipFill>
        <p:spPr>
          <a:xfrm>
            <a:off x="689040" y="262080"/>
            <a:ext cx="8047080" cy="1627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23640" y="3860280"/>
            <a:ext cx="8569080" cy="1706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ind mistak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(Active Voice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000" y="475920"/>
            <a:ext cx="715644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play tennis next weeken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go to the disco last Sun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read his book the whole evening yester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ok! He cr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listen to the radio every 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always watch TV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write a letter n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buy a dress last wee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bring new CD tomor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listen to music when her mum ca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000" y="549360"/>
            <a:ext cx="7227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ill play tennis next weeken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ent to the disco last Sun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as reading his book the whole evening yester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ok! He is crying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listens to the radio every da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always watches TV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is writing a letter n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bought a dress last wee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will bring new CD tomor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e was listening to music when her mum ca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517680" y="401760"/>
            <a:ext cx="7315200" cy="1792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547640" y="2781000"/>
            <a:ext cx="7056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</a:rPr>
              <a:t>Task 6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755640" y="681120"/>
            <a:ext cx="6912000" cy="61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900000" y="1052640"/>
            <a:ext cx="67960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8800" spc="-1" strike="noStrike">
                <a:solidFill>
                  <a:srgbClr val="000000"/>
                </a:solidFill>
                <a:latin typeface="Trebuchet MS"/>
              </a:rPr>
              <a:t>People. Countries. Languages”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7200" spc="-1" strike="noStrike">
                <a:solidFill>
                  <a:srgbClr val="000000"/>
                </a:solidFill>
                <a:latin typeface="Trebuchet MS"/>
              </a:rPr>
              <a:t>Никогда не поздно учиться.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rebuchet MS"/>
              </a:rPr>
              <a:t>Уча других, люди учатся сами.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1332000" y="476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Век живи-век учис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755640" y="474840"/>
            <a:ext cx="610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ет ничего лучше родного дом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324000" y="552600"/>
            <a:ext cx="66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Восток или Запад, дома лучше всег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755640" y="750960"/>
            <a:ext cx="610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ом, милый до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684360" y="750960"/>
            <a:ext cx="617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овторение-мать учени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611280" y="1028880"/>
            <a:ext cx="624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тсутствие новостей -хорошая новост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166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Знание-сил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539640" y="1305000"/>
            <a:ext cx="63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лохие вести передаются быстр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08000" y="1483920"/>
            <a:ext cx="7588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rebuchet MS"/>
              </a:rPr>
              <a:t>Guess the following adjectives to describe people.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24000" y="4762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оветы получают многие, но только мудрые извлекают из них польз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53964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ньги, потраченные для развития ума, никогда не потрачены зря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900000" y="620640"/>
            <a:ext cx="59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оспешишь-людей насмешишь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826920" y="549360"/>
            <a:ext cx="603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е зная броду, не суйся в вод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11280" y="549360"/>
            <a:ext cx="624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 семи нянек дитя без глазу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826920" y="189000"/>
            <a:ext cx="603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огда ждешь, время тянется медленн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826920" y="549360"/>
            <a:ext cx="603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 вкусах не споря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755640" y="5493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ир тесен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10400" cy="11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ac66bb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07920"/>
            <a:ext cx="8028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rebuchet MS"/>
              </a:rPr>
              <a:t>selbaoci           abletiphos                   yufnn                lydiefrn                 tveitaalk           iveatecr                         </a:t>
            </a:r>
            <a:r>
              <a:rPr b="1" lang="ru-RU" sz="5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5000" spc="-1" strike="noStrike">
                <a:solidFill>
                  <a:srgbClr val="000000"/>
                </a:solidFill>
                <a:latin typeface="Trebuchet MS"/>
              </a:rPr>
              <a:t>lingov               ssuoier                                                                       lehfulp</a:t>
            </a: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3640" y="54936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Sociable Hospitable Funny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Friendly Talkative Creativ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Loving Serious Helpful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7480440" cy="1438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971640" y="1628640"/>
            <a:ext cx="6796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Put phrasal verbs correctly.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sh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8000" y="115920"/>
            <a:ext cx="7588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1. If you don’t know the word look it… in the dictionary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2. Look… this picture, pleas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3. I am looking… my key. Have you seen it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4. Never put…till tomorrow what you can do today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5. It was too hard for her to get…after that illnes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6. I can’t get … with my mother-in-law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7. The button has come…my coat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8. The explorers came…some ancient ruin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9. She’s unpleasant. She always finds…peopl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10. The bathwater is running …!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78920" y="11556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. If you don’t know the word look it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in the dictionar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 Look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at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picture, pleas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. I am looking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my key. Have you seen it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 Never put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ff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till tomorrow what you can do toda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 It was too hard for her to get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v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fter that illnes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6. I can’t get 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with my mother-in-law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. The button has come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ff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y coa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. The explorers came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ome ancient ruin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. She’s unpleasant. She always finds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fault with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eop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. The bathwater is running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ov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rebuchet MS"/>
              </a:rPr>
              <a:t>Match the countries and their capitals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10:37Z</dcterms:created>
  <dc:creator>школа</dc:creator>
  <dc:description/>
  <dc:language>en-US</dc:language>
  <cp:lastModifiedBy>1</cp:lastModifiedBy>
  <dcterms:modified xsi:type="dcterms:W3CDTF">2013-02-27T19:20:05Z</dcterms:modified>
  <cp:revision>60</cp:revision>
  <dc:subject/>
  <dc:title>STAR HOUR</dc:title>
</cp:coreProperties>
</file>