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50EA-714F-4453-B2DE-3A99CC4E84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2373-9DDA-4513-904E-9CACA5055F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E398-8DFE-47F3-893B-461895B8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373D-6EA5-47C6-A522-C313170A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127D-4701-4551-99DC-FA4FC928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DD43-30B4-4F75-BDE5-779A04EF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BF0D-BFB3-40DC-ABC6-42816919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4AAA-36E2-4A24-AEA7-6DFA6E7F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46BA-ADDE-4267-96C0-EA440583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1D2B-9EAD-492D-8BB4-EB0360DB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35A0-DA11-427C-8A46-2CF3A22C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7F9A-7B4E-4F6D-8215-DEEEEF45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1D10-0D3B-4872-9896-36FC4D5B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7EF2-9FD2-4615-805C-5D9699A2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18F7-C0E8-4A95-850F-A28DA636C2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71640" y="1341360"/>
            <a:ext cx="720072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ЕДЕЛЯ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МАТИКИ, ФИЗИКИ 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 ИНФОРМАТИКИ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Нижний колонтитул 2"/>
          <p:cNvSpPr/>
          <p:nvPr/>
        </p:nvSpPr>
        <p:spPr>
          <a:xfrm>
            <a:off x="500040" y="6357960"/>
            <a:ext cx="8501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ижний колонтитул 3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одержимое 3" descr="Изображение 18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"/>
              </a:rPr>
              <a:t>21 января</a:t>
            </a:r>
            <a:br>
              <a:rPr sz="4400"/>
            </a:b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торин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«Веселая математика» 1 клас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7664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ческий турнир «Своя игр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ижний колонтитул 3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24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ижний колонтитул 3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Arial"/>
              </a:rPr>
              <a:t>21 января</a:t>
            </a:r>
            <a:br>
              <a:rPr sz="4400"/>
            </a:b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торин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«Веселая математика» 1 класс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ческий турнир «Своя игра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класс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8560" y="3357720"/>
            <a:ext cx="8785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ческий б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Знатоки математики»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20"/>
                            </p:stCondLst>
                            <p:childTnLst>
                              <p:par>
                                <p:cTn id="2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5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3" descr="IMG_00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IMG_006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ижний колонтитул 6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"/>
              </a:rPr>
              <a:t>24 янва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53964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Математический детектив»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3" descr="IMG_007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ижний колонтитул 5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ТОРИНА «В стране математ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ласс, 3 класс, 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"/>
              </a:rPr>
              <a:t>25 янва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P1240160"/>
          <p:cNvPicPr/>
          <p:nvPr/>
        </p:nvPicPr>
        <p:blipFill>
          <a:blip r:embed="rId1"/>
          <a:stretch/>
        </p:blipFill>
        <p:spPr>
          <a:xfrm>
            <a:off x="2124000" y="2838600"/>
            <a:ext cx="4969080" cy="37274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539640" y="2997360"/>
            <a:ext cx="8229600" cy="16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16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ижний колонтитул 2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P1240166"/>
          <p:cNvPicPr/>
          <p:nvPr/>
        </p:nvPicPr>
        <p:blipFill>
          <a:blip r:embed="rId1"/>
          <a:stretch/>
        </p:blipFill>
        <p:spPr>
          <a:xfrm>
            <a:off x="642960" y="21420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3"/>
          <p:cNvSpPr/>
          <p:nvPr/>
        </p:nvSpPr>
        <p:spPr>
          <a:xfrm>
            <a:off x="142920" y="6245280"/>
            <a:ext cx="900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P1240162"/>
          <p:cNvPicPr/>
          <p:nvPr/>
        </p:nvPicPr>
        <p:blipFill>
          <a:blip r:embed="rId1"/>
          <a:stretch/>
        </p:blipFill>
        <p:spPr>
          <a:xfrm>
            <a:off x="287280" y="216000"/>
            <a:ext cx="8856720" cy="6642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ИЗ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ижний колонтитул 4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P1240157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ижний колонтитул 3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P1240155"/>
          <p:cNvPicPr/>
          <p:nvPr/>
        </p:nvPicPr>
        <p:blipFill>
          <a:blip r:embed="rId1"/>
          <a:stretch/>
        </p:blipFill>
        <p:spPr>
          <a:xfrm>
            <a:off x="539640" y="40464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Цели и задачи предметной нед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ели: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развитие интереса учащихся к предметам естественно-математического цикла;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силение межпредметных связей; вовлечение учеников в коллективный творческий процесс; раскрытие и реализация личностного потенциала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3"/>
          <p:cNvSpPr/>
          <p:nvPr/>
        </p:nvSpPr>
        <p:spPr>
          <a:xfrm>
            <a:off x="214200" y="6245280"/>
            <a:ext cx="878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Arial"/>
              </a:rPr>
              <a:t>25 января</a:t>
            </a:r>
            <a:br>
              <a:rPr sz="4400"/>
            </a:b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ТОРИНА «В стране математики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ласс, 3 класс, 4 класс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3068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ческий бой «Знания - си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ижний колонтитул 3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240"/>
                            </p:stCondLst>
                            <p:childTnLst>
                              <p:par>
                                <p:cTn id="4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520"/>
                            </p:stCondLst>
                            <p:childTnLst>
                              <p:par>
                                <p:cTn id="4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760"/>
                            </p:stCondLst>
                            <p:childTnLst>
                              <p:par>
                                <p:cTn id="4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ижний колонтитул 6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"/>
              </a:rPr>
              <a:t>26 янва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тавка творческих работ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Изображение 005"/>
          <p:cNvPicPr/>
          <p:nvPr/>
        </p:nvPicPr>
        <p:blipFill>
          <a:blip r:embed="rId1"/>
          <a:stretch/>
        </p:blipFill>
        <p:spPr>
          <a:xfrm>
            <a:off x="2050920" y="0"/>
            <a:ext cx="55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3" descr="IMG_005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ижний колонтитул 4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Изображение 003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"/>
              </a:rPr>
              <a:t>27 янва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тупление учащихся 5 кл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ведение итогов недели, награж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3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ижний колонтитул 3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нализ предметной недели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математики, физики и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инфор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42560" y="2071440"/>
            <a:ext cx="8713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 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се мероприятия носили занимательный и познавательный характер. Успешно применялись задания для формирования общеучебных умений и навыков, нестандартные задачи для развития творческого мышления, задачи, развивающие логическое мышление, пространственное воображение, исследовательские навы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3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сновные цели недели были достигнуты, задачи выполн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собо следует отметить такие положительные моменты, к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частие в неделе всех классов (1-1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ктивность и  заинтересованность учащихся в проводимых мероприятиях неде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овлечение большого числа учащихся в общую, совместную работу, что способствует воспитанию у них чувства коллективизма, умение быть ответственным за принятое решение;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ижний колонтитул 3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3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3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3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3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3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3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3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3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орошее эстетическое оформление информационных материалов и наглядное сопровождение мероприятий недели (при непосредственном участии ученик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озможность попробовать свои силы и получить оценку за решение заданий, предложенных для самостоятельного выполн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ктивность и доброжелательность старшеклассников при проведении викторин в начальных клас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ижний колонтитул 3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3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3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3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3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3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3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и проведении недели были выявлены недостатки, которые необходимо учесть при проведении следующих предметных нед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изкая активность ребят в конкурсах, требующих самостоятельной домашней подготов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равноценное представление дисциплин: математики, физики, информатики в рамках неде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достаточно была продумана система обратной связи по информационным материал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ижний колонтитул 3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3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3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3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3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3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МО учителей математики, физики и информатики выражает благодарность всем, кто принимал участие в подготовке, организации и проведении предметной неде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СПАСИБ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ижний колонтитул 3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5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549000"/>
            <a:ext cx="91440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сширение кругозора учащихся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скрытие прикладного характера изучаемых в школе дисципли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витие творческого мышления и  интеллектуальных способностей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ализация взаимодействия старших и младших школь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3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ижний колонтитул 15"/>
          <p:cNvSpPr/>
          <p:nvPr/>
        </p:nvSpPr>
        <p:spPr>
          <a:xfrm>
            <a:off x="214200" y="6381720"/>
            <a:ext cx="8663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2124000" y="333360"/>
            <a:ext cx="5112000" cy="12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5e0076"/>
                    </a:gs>
                    <a:gs pos="50000">
                      <a:srgbClr val="cc00ff"/>
                    </a:gs>
                    <a:gs pos="100000">
                      <a:srgbClr val="5e007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Ы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5e0076"/>
                  </a:gs>
                  <a:gs pos="50000">
                    <a:srgbClr val="cc00ff"/>
                  </a:gs>
                  <a:gs pos="100000">
                    <a:srgbClr val="5e007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91628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Классных стенных газет и плака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395280" y="314172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Кроссвордов, чайнвордов, ребу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68360" y="494172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00"/>
                </a:solidFill>
                <a:latin typeface="Arial"/>
              </a:rPr>
              <a:t>Стихотворений, сказок, песен, загад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7" descr="Изображение 001.jpg"/>
          <p:cNvPicPr/>
          <p:nvPr/>
        </p:nvPicPr>
        <p:blipFill>
          <a:blip r:embed="rId1"/>
          <a:stretch/>
        </p:blipFill>
        <p:spPr>
          <a:xfrm>
            <a:off x="1979640" y="2492280"/>
            <a:ext cx="5616720" cy="4213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исполнитель"/>
          <p:cNvPicPr/>
          <p:nvPr/>
        </p:nvPicPr>
        <p:blipFill>
          <a:blip r:embed="rId2"/>
          <a:stretch/>
        </p:blipFill>
        <p:spPr>
          <a:xfrm>
            <a:off x="2124000" y="4221000"/>
            <a:ext cx="4762440" cy="22003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IMG_0082.JPG"/>
          <p:cNvPicPr/>
          <p:nvPr/>
        </p:nvPicPr>
        <p:blipFill>
          <a:blip r:embed="rId3"/>
          <a:stretch/>
        </p:blipFill>
        <p:spPr>
          <a:xfrm>
            <a:off x="1835280" y="2428920"/>
            <a:ext cx="5905440" cy="44290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9" descr="IMG_0081.JPG"/>
          <p:cNvPicPr/>
          <p:nvPr/>
        </p:nvPicPr>
        <p:blipFill>
          <a:blip r:embed="rId4"/>
          <a:stretch/>
        </p:blipFill>
        <p:spPr>
          <a:xfrm>
            <a:off x="1908000" y="2754360"/>
            <a:ext cx="5472360" cy="41036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0" descr="IMG_0080.JPG"/>
          <p:cNvPicPr/>
          <p:nvPr/>
        </p:nvPicPr>
        <p:blipFill>
          <a:blip r:embed="rId5"/>
          <a:stretch/>
        </p:blipFill>
        <p:spPr>
          <a:xfrm>
            <a:off x="1835280" y="2482920"/>
            <a:ext cx="5832360" cy="43750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1" descr="IMG_0078.JPG"/>
          <p:cNvPicPr/>
          <p:nvPr/>
        </p:nvPicPr>
        <p:blipFill>
          <a:blip r:embed="rId6"/>
          <a:stretch/>
        </p:blipFill>
        <p:spPr>
          <a:xfrm>
            <a:off x="2124000" y="2644920"/>
            <a:ext cx="5616720" cy="42130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2" descr="IMG_0079.JPG"/>
          <p:cNvPicPr/>
          <p:nvPr/>
        </p:nvPicPr>
        <p:blipFill>
          <a:blip r:embed="rId7"/>
          <a:stretch/>
        </p:blipFill>
        <p:spPr>
          <a:xfrm>
            <a:off x="2050920" y="2492280"/>
            <a:ext cx="5651640" cy="42386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3" descr="IMG_0083.JPG"/>
          <p:cNvPicPr/>
          <p:nvPr/>
        </p:nvPicPr>
        <p:blipFill>
          <a:blip r:embed="rId8"/>
          <a:stretch/>
        </p:blipFill>
        <p:spPr>
          <a:xfrm>
            <a:off x="2050920" y="2492280"/>
            <a:ext cx="5543640" cy="41594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4" descr="IMG_0056.JPG"/>
          <p:cNvPicPr/>
          <p:nvPr/>
        </p:nvPicPr>
        <p:blipFill>
          <a:blip r:embed="rId9"/>
          <a:stretch/>
        </p:blipFill>
        <p:spPr>
          <a:xfrm>
            <a:off x="2124000" y="2492280"/>
            <a:ext cx="5184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ижний колонтитул 3"/>
          <p:cNvSpPr/>
          <p:nvPr/>
        </p:nvSpPr>
        <p:spPr>
          <a:xfrm>
            <a:off x="0" y="6429240"/>
            <a:ext cx="10215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Изображение 004"/>
          <p:cNvPicPr/>
          <p:nvPr/>
        </p:nvPicPr>
        <p:blipFill>
          <a:blip r:embed="rId1"/>
          <a:stretch/>
        </p:blipFill>
        <p:spPr>
          <a:xfrm>
            <a:off x="0" y="-2789280"/>
            <a:ext cx="10693440" cy="12436560"/>
          </a:xfrm>
          <a:prstGeom prst="rect">
            <a:avLst/>
          </a:prstGeom>
          <a:ln w="0">
            <a:noFill/>
          </a:ln>
        </p:spPr>
      </p:pic>
      <p:sp>
        <p:nvSpPr>
          <p:cNvPr id="72" name="WordArt 6"/>
          <p:cNvSpPr txBox="1"/>
          <p:nvPr/>
        </p:nvSpPr>
        <p:spPr>
          <a:xfrm>
            <a:off x="1476360" y="620640"/>
            <a:ext cx="691200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ЛЕНДАРЬ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ДМЕТНОЙ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ДЕЛИ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ижний колонтитул 6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"/>
              </a:rPr>
              <a:t>20 янва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НИТОРИНГ ЗНАНИЙ ПО ФИЗИ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8 и 10 класс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ЕНГУРУ-ВЫПУСКНИКА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4, 9,11 класс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КТОР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6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атематиче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усе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4_3_1"/>
          <p:cNvPicPr/>
          <p:nvPr/>
        </p:nvPicPr>
        <p:blipFill>
          <a:blip r:embed="rId1"/>
          <a:stretch/>
        </p:blipFill>
        <p:spPr>
          <a:xfrm>
            <a:off x="1116000" y="2924280"/>
            <a:ext cx="1671480" cy="1671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protractor"/>
          <p:cNvPicPr/>
          <p:nvPr/>
        </p:nvPicPr>
        <p:blipFill>
          <a:blip r:embed="rId2"/>
          <a:stretch/>
        </p:blipFill>
        <p:spPr>
          <a:xfrm>
            <a:off x="3851280" y="4581360"/>
            <a:ext cx="2097000" cy="150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dekart"/>
          <p:cNvPicPr/>
          <p:nvPr/>
        </p:nvPicPr>
        <p:blipFill>
          <a:blip r:embed="rId3"/>
          <a:stretch/>
        </p:blipFill>
        <p:spPr>
          <a:xfrm>
            <a:off x="468360" y="1052640"/>
            <a:ext cx="18000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84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48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ижний колонтитул 6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"/>
              </a:rPr>
              <a:t>21 янва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иктори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Веселая математика» 1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4" descr="Изображение 212.jpg"/>
          <p:cNvPicPr/>
          <p:nvPr/>
        </p:nvPicPr>
        <p:blipFill>
          <a:blip r:embed="rId1"/>
          <a:stretch/>
        </p:blipFill>
        <p:spPr>
          <a:xfrm>
            <a:off x="1571760" y="2571840"/>
            <a:ext cx="5715000" cy="38815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684360" y="270828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68360" y="436572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0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4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ижний колонтитул 2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Изображение 183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ижний колонтитул 3"/>
          <p:cNvSpPr/>
          <p:nvPr/>
        </p:nvSpPr>
        <p:spPr>
          <a:xfrm>
            <a:off x="0" y="62452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122 СПб, МО учителей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Содержимое 3" descr="Изображение 181.jpg"/>
          <p:cNvPicPr/>
          <p:nvPr/>
        </p:nvPicPr>
        <p:blipFill>
          <a:blip r:embed="rId1"/>
          <a:stretch/>
        </p:blipFill>
        <p:spPr>
          <a:xfrm>
            <a:off x="0" y="0"/>
            <a:ext cx="897588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4:45:07Z</dcterms:created>
  <dc:creator>Neo</dc:creator>
  <dc:description/>
  <dc:language>en-US</dc:language>
  <cp:lastModifiedBy>mama</cp:lastModifiedBy>
  <dcterms:modified xsi:type="dcterms:W3CDTF">2013-03-03T12:46:41Z</dcterms:modified>
  <cp:revision>59</cp:revision>
  <dc:subject/>
  <dc:title>Слайд 1</dc:title>
</cp:coreProperties>
</file>