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7B7F-C31F-4DFE-AECA-81DA8217F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373D-5914-490D-A76E-928173A91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6DF-BAF2-499F-8839-51241582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247-C051-48FF-812A-AE1A99D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14D-ABEE-4E64-B00D-0AEC485D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8F9-1BCA-4C4F-A251-B6AFD279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257-7C84-498D-A538-86CF745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024-BC9E-4448-AFF2-5B702383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B60-F420-4FBA-B7B2-703D0AF6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45C-83CD-48C3-8474-F889096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FE5-3957-4AA4-AF26-85C7BE47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E28-4E0D-4198-BE66-EB01CB6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921-7979-4F91-A2F7-3B2958B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DA5-FC15-4D11-AFB5-69E07CA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B0C0-DD76-4E87-A75D-AA3F0DBFE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341360"/>
            <a:ext cx="720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ДЕЛЯ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И, ФИЗИКИ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ИНФОРМАТИКИ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500040" y="6357960"/>
            <a:ext cx="8501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3" descr="Изображение 1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1 января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«Веселая математика» 1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турнир «Своя иг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4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1 января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«Веселая математика» 1 класс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турнир «Своя игра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560" y="3357720"/>
            <a:ext cx="8785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натоки математики»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2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5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IMG_0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IMG_006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4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3964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атематический детектив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IMG_00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«В стране матема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, 3 класс,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5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1240160"/>
          <p:cNvPicPr/>
          <p:nvPr/>
        </p:nvPicPr>
        <p:blipFill>
          <a:blip r:embed="rId1"/>
          <a:stretch/>
        </p:blipFill>
        <p:spPr>
          <a:xfrm>
            <a:off x="2124000" y="283860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39640" y="2997360"/>
            <a:ext cx="82296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6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2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1240166"/>
          <p:cNvPicPr/>
          <p:nvPr/>
        </p:nvPicPr>
        <p:blipFill>
          <a:blip r:embed="rId1"/>
          <a:stretch/>
        </p:blipFill>
        <p:spPr>
          <a:xfrm>
            <a:off x="642960" y="21420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142920" y="6245280"/>
            <a:ext cx="900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1240162"/>
          <p:cNvPicPr/>
          <p:nvPr/>
        </p:nvPicPr>
        <p:blipFill>
          <a:blip r:embed="rId1"/>
          <a:stretch/>
        </p:blipFill>
        <p:spPr>
          <a:xfrm>
            <a:off x="287280" y="216000"/>
            <a:ext cx="8856720" cy="664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З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1240157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1240155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и и задачи предметной 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развитие интереса учащихся к предметам естественно-математического цикла;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иление межпредметных связей; вовлечение учеников в коллективный творческий процесс; раскрытие и реализация личностного потенциал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214200" y="6245280"/>
            <a:ext cx="878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5 января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«В стране математик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, 3 класс, 4 клас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306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бой «Знания - си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4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20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76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6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творческих работ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2050920" y="0"/>
            <a:ext cx="55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IMG_005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7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учащихся 5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дение итогов недели, награ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нализ предметной недели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атематики, физики и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фор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2560" y="207144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 мероприятия носили занимательный и познавательный характер. Успешно применялись задания для формирования общеучебных умений и навыков, нестандартные задачи для развития творческого мышления, задачи, развивающие логическое мышление, пространственное воображение, исследовательские нав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новные цели недели были достигнуты, задачи выпол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обо следует отметить такие положительные моменты, к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астие в неделе всех классов (1-1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ивность и  заинтересованность учащихся в проводимых мероприятиях не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лечение большого числа учащихся в общую, совместную работу, что способствует воспитанию у них чувства коллективизма, умение быть ответственным за принятое решение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орошее эстетическое оформление информационных материалов и наглядное сопровождение мероприятий недели (при непосредственном участии ученик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зможность попробовать свои силы и получить оценку за решение заданий, предложенных для самостоятельного выпол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ивность и доброжелательность старшеклассников при проведении викторин в начальных клас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роведении недели были выявлены недостатки, которые необходимо учесть при проведении следующих предметных нед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зкая активность ребят в конкурсах, требующих самостоятельной домашней подгот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равноценное представление дисциплин: математики, физики, информатики в рамках не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достаточно была продумана система обратной связи по информационным материа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О учителей математики, физики и информатики выражает благодарность всем, кто принимал участие в подготовке, организации и проведении предметной не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ширение кругозора учащихся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крытие прикладного характера изучаемых в школе дисципл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мышления и  интеллектуальных способностей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ализация взаимодействия старших и младших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15"/>
          <p:cNvSpPr/>
          <p:nvPr/>
        </p:nvSpPr>
        <p:spPr>
          <a:xfrm>
            <a:off x="214200" y="6381720"/>
            <a:ext cx="866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2124000" y="333360"/>
            <a:ext cx="511200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5e0076"/>
                    </a:gs>
                    <a:gs pos="50000">
                      <a:srgbClr val="cc00ff"/>
                    </a:gs>
                    <a:gs pos="100000">
                      <a:srgbClr val="5e00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5e0076"/>
                  </a:gs>
                  <a:gs pos="50000">
                    <a:srgbClr val="cc00ff"/>
                  </a:gs>
                  <a:gs pos="100000">
                    <a:srgbClr val="5e007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Классных стенных газет и плак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95280" y="31417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россвордов, чайнвордов, реб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68360" y="49417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Стихотворений, сказок, песен, зага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Изображение 001.jpg"/>
          <p:cNvPicPr/>
          <p:nvPr/>
        </p:nvPicPr>
        <p:blipFill>
          <a:blip r:embed="rId1"/>
          <a:stretch/>
        </p:blipFill>
        <p:spPr>
          <a:xfrm>
            <a:off x="1979640" y="2492280"/>
            <a:ext cx="5616720" cy="421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исполнитель"/>
          <p:cNvPicPr/>
          <p:nvPr/>
        </p:nvPicPr>
        <p:blipFill>
          <a:blip r:embed="rId2"/>
          <a:stretch/>
        </p:blipFill>
        <p:spPr>
          <a:xfrm>
            <a:off x="2124000" y="4221000"/>
            <a:ext cx="4762440" cy="2200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IMG_0082.JPG"/>
          <p:cNvPicPr/>
          <p:nvPr/>
        </p:nvPicPr>
        <p:blipFill>
          <a:blip r:embed="rId3"/>
          <a:stretch/>
        </p:blipFill>
        <p:spPr>
          <a:xfrm>
            <a:off x="1835280" y="2428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IMG_0081.JPG"/>
          <p:cNvPicPr/>
          <p:nvPr/>
        </p:nvPicPr>
        <p:blipFill>
          <a:blip r:embed="rId4"/>
          <a:stretch/>
        </p:blipFill>
        <p:spPr>
          <a:xfrm>
            <a:off x="1908000" y="2754360"/>
            <a:ext cx="5472360" cy="410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IMG_0080.JPG"/>
          <p:cNvPicPr/>
          <p:nvPr/>
        </p:nvPicPr>
        <p:blipFill>
          <a:blip r:embed="rId5"/>
          <a:stretch/>
        </p:blipFill>
        <p:spPr>
          <a:xfrm>
            <a:off x="1835280" y="2482920"/>
            <a:ext cx="5832360" cy="4375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IMG_0078.JPG"/>
          <p:cNvPicPr/>
          <p:nvPr/>
        </p:nvPicPr>
        <p:blipFill>
          <a:blip r:embed="rId6"/>
          <a:stretch/>
        </p:blipFill>
        <p:spPr>
          <a:xfrm>
            <a:off x="2124000" y="264492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IMG_0079.JPG"/>
          <p:cNvPicPr/>
          <p:nvPr/>
        </p:nvPicPr>
        <p:blipFill>
          <a:blip r:embed="rId7"/>
          <a:stretch/>
        </p:blipFill>
        <p:spPr>
          <a:xfrm>
            <a:off x="2050920" y="2492280"/>
            <a:ext cx="5651640" cy="4238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IMG_0083.JPG"/>
          <p:cNvPicPr/>
          <p:nvPr/>
        </p:nvPicPr>
        <p:blipFill>
          <a:blip r:embed="rId8"/>
          <a:stretch/>
        </p:blipFill>
        <p:spPr>
          <a:xfrm>
            <a:off x="2050920" y="2492280"/>
            <a:ext cx="5543640" cy="4159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4" descr="IMG_0056.JPG"/>
          <p:cNvPicPr/>
          <p:nvPr/>
        </p:nvPicPr>
        <p:blipFill>
          <a:blip r:embed="rId9"/>
          <a:stretch/>
        </p:blipFill>
        <p:spPr>
          <a:xfrm>
            <a:off x="2124000" y="249228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3"/>
          <p:cNvSpPr/>
          <p:nvPr/>
        </p:nvSpPr>
        <p:spPr>
          <a:xfrm>
            <a:off x="0" y="6429240"/>
            <a:ext cx="10215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0" y="-2789280"/>
            <a:ext cx="10693440" cy="1243656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476360" y="620640"/>
            <a:ext cx="69120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ЛЕНДАРЬ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НО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ДЕ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0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ЗНАНИЙ ПО ФИЗ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8 и 10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НГУРУ-ВЫПУСКНИКА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4, 9,11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6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тема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ус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_3_1"/>
          <p:cNvPicPr/>
          <p:nvPr/>
        </p:nvPicPr>
        <p:blipFill>
          <a:blip r:embed="rId1"/>
          <a:stretch/>
        </p:blipFill>
        <p:spPr>
          <a:xfrm>
            <a:off x="1116000" y="2924280"/>
            <a:ext cx="1671480" cy="1671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rotractor"/>
          <p:cNvPicPr/>
          <p:nvPr/>
        </p:nvPicPr>
        <p:blipFill>
          <a:blip r:embed="rId2"/>
          <a:stretch/>
        </p:blipFill>
        <p:spPr>
          <a:xfrm>
            <a:off x="3851280" y="4581360"/>
            <a:ext cx="209700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ekart"/>
          <p:cNvPicPr/>
          <p:nvPr/>
        </p:nvPicPr>
        <p:blipFill>
          <a:blip r:embed="rId3"/>
          <a:stretch/>
        </p:blipFill>
        <p:spPr>
          <a:xfrm>
            <a:off x="468360" y="1052640"/>
            <a:ext cx="1800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4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1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еселая математика» 1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Изображение 212.jpg"/>
          <p:cNvPicPr/>
          <p:nvPr/>
        </p:nvPicPr>
        <p:blipFill>
          <a:blip r:embed="rId1"/>
          <a:stretch/>
        </p:blipFill>
        <p:spPr>
          <a:xfrm>
            <a:off x="1571760" y="2571840"/>
            <a:ext cx="5715000" cy="3881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684360" y="2708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68360" y="436572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Изображение 18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Изображение 181.jpg"/>
          <p:cNvPicPr/>
          <p:nvPr/>
        </p:nvPicPr>
        <p:blipFill>
          <a:blip r:embed="rId1"/>
          <a:stretch/>
        </p:blipFill>
        <p:spPr>
          <a:xfrm>
            <a:off x="0" y="0"/>
            <a:ext cx="8975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4:45:07Z</dcterms:created>
  <dc:creator>Neo</dc:creator>
  <dc:description/>
  <dc:language>en-US</dc:language>
  <cp:lastModifiedBy>mama</cp:lastModifiedBy>
  <dcterms:modified xsi:type="dcterms:W3CDTF">2013-03-03T12:46:41Z</dcterms:modified>
  <cp:revision>59</cp:revision>
  <dc:subject/>
  <dc:title>Слайд 1</dc:title>
</cp:coreProperties>
</file>