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75FB9-5157-4A5C-BF68-103660815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C56AB-99D7-48AE-A99B-742A6F6A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2A81E-4C6E-404E-879E-0FAC8788A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71FC0-166B-4464-B61E-B8420CC86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8141-A62A-481B-B22A-4936800A3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4515-F174-46C1-902E-B62CB7DE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B820-098F-4CAA-A7A9-E2C02441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ECE5-B77D-4B47-A5FF-30B40859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C50A-C6CC-4433-9F0F-3E696334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E846-3035-44CC-99AD-531ACC1E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B8AB-7440-46FE-8293-341CD8C0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B9168-91BF-425A-9559-2DEA5082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BBBD-B96D-4C49-A2DC-2302564D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0BD6-F51B-415C-88F0-7D0E8BF2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EC63-4FD4-4F78-871A-6C93BF6D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383F-F116-4669-AFB0-2826A5FE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19FE-E1EF-4880-B24C-061B4F15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74A0D-EC95-4DB5-8033-FC467C75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50605-A676-4F51-AFB3-9E2D6DBC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C298A-C58F-4D7D-BFF0-3F89EAC7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0E53A-A536-4296-B5B9-E07FEF89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71205-BF36-47FB-A57E-B0FEB384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FD3BE-4408-4237-B5DA-AC6809E8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32808-1F5B-4F18-AB0F-F3541911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077E-80F1-4C84-9657-B0963E6005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2EDC-EC30-46A5-B117-1C4214E5F1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geige2007.narod.ru/History/GreeK/Boy_mus.gif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Страна героев и богов…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О Греция! Страна совсем иная…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О временах былых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                        нам хочется узнать.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С чего всё начиналось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Кифарист  обучал навыкам игры на лире или кифар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64160" y="2205000"/>
            <a:ext cx="2889360" cy="3672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11280" y="2179800"/>
            <a:ext cx="4465440" cy="3697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6227640" y="6093000"/>
            <a:ext cx="169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ифар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ОБУЧЕНИЕ МУЗЫК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44560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ЕДОТРИБ  -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учитель гимнастики, тренер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Обучал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бегу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прыжкам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метанию копья и дисков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Обучение молодых людей</a:t>
            </a:r>
            <a:br>
              <a:rPr sz="36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в Спарт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сновной упор в Спарте делался 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физическую подготовку детей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о 7-летнего возраста физическо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оспитание осуществлялось в семье, где основное внимание уделялось закаливанию. После 7 лет детей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тбирали у родителей и воспитывали в специальных общественных домах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оспитание было суровы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316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льчики получали скудную пищу, ходили босиком и, как правило, без верхней одежды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ходе выполнения физических упражнений допускались удары ногами, укусы  и даже царапание друг друга ногтям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Юные спартанцы спали на вязаных соломах без одеял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которые мальчики клали с собой в постель крапиву, которая жалила тело и тем самым помогала согреться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ждый год завершался состязаниями в беге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ыжках, метаниях копья и диска, различными обрядовыми танцам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4176720" cy="5184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 16 годам обучение в школе заканчивалось. Но дети состоятельных родителей еще в течение двух лет могли продолжить свое образование. Они по-прежнему занимались спортом, но уже в гимнасии.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716360" y="620640"/>
            <a:ext cx="3943440" cy="3649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646880" y="4365720"/>
            <a:ext cx="38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пилеи гимнасии. Ми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4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Monotype Corsiva"/>
              </a:rPr>
              <a:t>Воспитание девоче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До семи лет девочки находились под опекой матерей и нянек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Их обучение напрямую зависело от пожеланий и возможностей семьи, в которой они выросли, ведь государство перекладывало обязательство обучения девушек на их семь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180040" y="1600200"/>
            <a:ext cx="309888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27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С 7 лет они обучались ткачеству, прядению, умению читать и писать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"/>
          <p:cNvSpPr/>
          <p:nvPr/>
        </p:nvSpPr>
        <p:spPr>
          <a:xfrm>
            <a:off x="900000" y="3573360"/>
            <a:ext cx="7272360" cy="23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79640" y="3789360"/>
            <a:ext cx="52578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 Афинах обучению девочек уделяли меньше внимания, чем в Спарт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евочки оставались дома, пока их не выдавали замуж. Происходило это примерно в 15-16 лет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 богатых родителей девочки жили вольготнее и веселее. В бедных домах было не до музыки и танцев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 и мальчики, девочки рано начинали работать, помогая родителям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Обучение девочек в Спарт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 Спарте воспитанием девочек занимались серьезно – ведь их готовили стать матерями будущих граждан-воинов. Девочек, как и мальчиков, обучали с семи лет. Девочки занимались гимнастикой наравне с мальчиками, упражнялись в беге, метании диска, даже в борьбе. Их учили пению и танцам, так как они были обязаны участвовать в религиозных мистерия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ОБУЧЕНИЕ И ВОСПИТАНИЕ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В ДРЕВНЕЙ ГРЕЦИ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411280" y="1484280"/>
            <a:ext cx="3889440" cy="3151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067280" y="4797360"/>
            <a:ext cx="482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нформационный проект подготовила обучающаяся 3 класса МКОУ «СОШ №6» городского округа город Фролово Рыспаева Ольг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д руководством учителя Козловой С.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153280" cy="54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ВСЯ СИСТЕМ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ОБРАЗОВАНИЯ И ВОСПИТ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В ДРЕВНЕЙ ГРЕЦИИ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БЫЛА НАПРАВЛЕН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НА ПОДГОТОВК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УМНОГО, ЗДОРОВОГО И СИЛЬНОГО ЧЕЛОВЕКА</a:t>
            </a: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В КОТОРОМ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НРАВСТВЕННЫЕ ДОБРОДЕТЕЛ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СОЧЕТАЛИСЬ БЫ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С КРАСОТОЙ ТЕЛА</a:t>
            </a: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Основные вопросы проек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бучались ли в школах девочк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динаково ли их обучали в Спарте и Афинах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ему обучали мальчиков и девочек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Начнём с рождения дете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ождение ребенка было семейным праздником. Когда рождался ребенок, двери дома украшал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ливковыми ветвями, если в доме родился мальчик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 шерстяными нитками, если рождалась девочк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16000" y="2781360"/>
            <a:ext cx="1800360" cy="1560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724360" y="2924280"/>
            <a:ext cx="2181240" cy="1428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116000" y="2781360"/>
            <a:ext cx="180036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РАЗДНОВАНИЕ И 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ладенца купали в воде, в которую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Афинах вливали оливковое масло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 в Спарте вино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21430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УЧАСТЬ РЕБЁН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ФИН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удьбу ребенка определя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отец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: если отец н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знавал ребенка, то ег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сто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выкидывали из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дом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00720" y="1600200"/>
            <a:ext cx="446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ПАР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часть ребенка определял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старейшины город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 Он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ешали: достаточно ли он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доров и крепок, чтобы его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ожно было воспитывать 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отовить к гражданской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жизни,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или предпочтительне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сразу же  умертвить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Слабых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и болезненных сбрасывали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пропасть Тайгетского хребта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АФИНЫ: обучение мальчик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 7-и лет начиналось обучение в школ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Если отец не отдавал сына в школу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о сын мог не поддерживать отц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старост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лагалось иметь трех учителей: грамматиста, кифариста и педотриб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Грамматист- учитель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о обучению чтению и письму, счёту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383868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560" y="1125000"/>
            <a:ext cx="48243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ажнейшим предметом в школах являлась музыка. Каждый мальчик учился играть на флейте и кифаре, петь. Музыка сопровождала греков в течение всей жизни. Под музыку тренировались спортсмены, шли в бой гоплиты. Музыка звучала на праздниках и в театр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Картинка 15 из 6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1125360"/>
            <a:ext cx="3147840" cy="4176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148360" y="551664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Необученный музыке- невежд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лато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1T16:30:06Z</dcterms:created>
  <dc:creator>1</dc:creator>
  <dc:description/>
  <dc:language>en-US</dc:language>
  <cp:lastModifiedBy>1</cp:lastModifiedBy>
  <dcterms:modified xsi:type="dcterms:W3CDTF">2013-03-03T14:44:59Z</dcterms:modified>
  <cp:revision>10</cp:revision>
  <dc:subject/>
  <dc:title>Страна героев и богов… О Греция! Страна совсем иная… О временах былых                           нам хочется узнать. С чего всё начиналось?</dc:title>
</cp:coreProperties>
</file>