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F451-5D62-48EA-B189-0ACFFDB0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B3B5-4D59-4953-95AE-A175FF92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54B7-E7D5-4C9D-AB1A-F092400C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B239-FA12-4F3B-8343-3AE87636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58A-4B9B-494B-AD2F-4666A8CF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4FC3-309D-424F-B762-AF1FDAA5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FA9C-EFF3-4234-BAFF-0260C0D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F7C-BD58-4416-99B9-C7A6495A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6DEE-F376-41A6-8568-87DEAB8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9BE1-454F-494B-9E59-99F05D7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C77A-CB86-43FD-A395-DFD19B9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389B-2924-4A25-ACEB-79F78687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9453-EDEA-4374-9241-A3FC677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BD71-82A6-4866-BCBB-035FE9B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30E1-50AF-435D-9E8E-05C41EF2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5B63-67F4-40F6-81E2-53F4CAB9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BD1C-351D-46D3-B1B2-FE4AC12F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5AB9-D2EA-4148-88FE-3EA80BF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189F-68EE-48A7-8B2C-AA1F923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38A7-4522-4956-B88E-91749AB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2FE3-17F8-400B-8276-8C45793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F8A5-4560-4809-BFF1-5F892B4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7B87-2359-4397-8DE0-1FF5D48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A2C7-7C35-43E6-BF42-60EC5999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484E-7587-42CB-99FD-2FEDE8BADA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7BD-B497-4F38-8923-9619E4261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eige2007.narod.ru/History/GreeK/Boy_mus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рана героев и богов…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 Греция! Страна совсем иная…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 временах былых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 нам хочется узнать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 чего всё начиналось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ифарист  обучал навыкам игры на лире или кифа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4160" y="2205000"/>
            <a:ext cx="2889360" cy="36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2179800"/>
            <a:ext cx="4465440" cy="369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227640" y="6093000"/>
            <a:ext cx="16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фа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УЧЕНИЕ МУЗЫК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456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ДОТРИБ  -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читель гимнастики, трене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учал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бегу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рыжка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етанию копья и диск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Обучение молодых людей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в Спарт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новной упор в Спарте делался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ческую подготовку дет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 7-летнего возраста физическ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оспитание осуществлялось в семье, где основное внимание уделялось закаливанию. После 7 лет дет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бирали у родителей и воспитывали в специальных общественных дом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итание было суровы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1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получали скудную пищу, ходили босиком и, как правило, без верхней одежд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ходе выполнения физических упражнений допускались удары ногами, укусы  и даже царапание друг друга ногтя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ные спартанцы спали на вязаных соломах без одея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мальчики клали с собой в постель крапиву, которая жалила тело и тем самым помогала согретьс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год завершался состязаниями в бег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ыжках, метаниях копья и диска, различными обрядовыми танц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4176720" cy="5184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16 годам обучение в школе заканчивалось. Но дети состоятельных родителей еще в течение двух лет могли продолжить свое образование. Они по-прежнему занимались спортом, но уже в гимнасии.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3943440" cy="364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46880" y="436572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пилеи гимнасии. Ми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Воспитание девоче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До семи лет девочки находились под опекой матерей и няне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х обучение напрямую зависело от пожеланий и возможностей семьи, в которой они выросли, ведь государство перекладывало обязательство обучения девушек на их семь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80040" y="1600200"/>
            <a:ext cx="30988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С 7 лет они обучались ткачеству, прядению, умению читать и писат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573360"/>
            <a:ext cx="727236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79640" y="3789360"/>
            <a:ext cx="5257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Афинах обучению девочек уделяли меньше внимания, чем в Спар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вочки оставались дома, пока их не выдавали замуж. Происходило это примерно в 15-16 ле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богатых родителей девочки жили вольготнее и веселее. В бедных домах было не до музыки и танце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и мальчики, девочки рано начинали работать, помогая родителя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учение девочек в Спарт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Спарте воспитанием девочек занимались серьезно – ведь их готовили стать матерями будущих граждан-воинов. Девочек, как и мальчиков, обучали с семи лет. Девочки занимались гимнастикой наравне с мальчиками, упражнялись в беге, метании диска, даже в борьбе. Их учили пению и танцам, так как они были обязаны участвовать в религиозных мистер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БУЧЕНИЕ И ВОСПИТАНИЕ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В ДРЕВНЕЙ ГРЕ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889440" cy="315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67280" y="4797360"/>
            <a:ext cx="482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формационный проект подготовила обучающаяся 3 класса МКОУ «СОШ №6» городского округа город Фролово Рыспаева Ольг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 руководством учителя Козловой С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15328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ВСЯ СИСТЕ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ОБРАЗОВАНИЯ И ВОСПИТ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В ДРЕВНЕЙ ГРЕЦИИ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БЫЛА НАПРАВЛ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НА ПОДГОТОВ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УМНОГО, ЗДОРОВОГО И СИЛЬНОГО ЧЕЛОВЕКА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 КОТОР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НРАВСТВЕННЫЕ ДОБРОДЕТЕЛ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СОЧЕТАЛИСЬ БЫ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С КРАСОТОЙ ТЕЛА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вопросы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учались ли в школах девоч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инаково ли их обучали в Спарте и Афин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му обучали мальчиков и девочек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чнём с рождения дет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ждение ребенка было семейным праздником. Когда рождался ребенок, двери дома украшал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ливковыми ветвями, если в доме родился мальчик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шерстяными нитками, если рождалась девочк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1800360" cy="156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181240" cy="142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18003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АЗДНОВАНИЕ И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ладенца купали в воде, в котору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Афинах вливали оливковое масло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в Спарте ви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ЧАСТЬ РЕБЁ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дьбу ребенка определя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отец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если отец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вал ребенка, то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т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выкидывали и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до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0072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асть ребенка определя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тарейшины город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О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шали: достаточно ли о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доров и крепок, чтобы ег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но было воспитывать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товить к гражданск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зни,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или предпочтительн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разу же  умертвить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лаб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и болезненных сбрасывали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ропасть Тайгетского хребт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ФИНЫ: обучение мальч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7-и лет начиналось обучение в шко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отец не отдавал сына в школ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 сын мог не поддерживать от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стар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агалось иметь трех учителей: грамматиста, кифариста и педотриб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рамматист- учитель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обучению чтению и письму, счёту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8386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4824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жнейшим предметом в школах являлась музыка. Каждый мальчик учился играть на флейте и кифаре, петь. Музыка сопровождала греков в течение всей жизни. Под музыку тренировались спортсмены, шли в бой гоплиты. Музыка звучала на праздниках и в теат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Картинка 15 из 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125360"/>
            <a:ext cx="3147840" cy="417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48360" y="5516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Необученный музыке- невеж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лат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16:30:06Z</dcterms:created>
  <dc:creator>1</dc:creator>
  <dc:description/>
  <dc:language>en-US</dc:language>
  <cp:lastModifiedBy>1</cp:lastModifiedBy>
  <dcterms:modified xsi:type="dcterms:W3CDTF">2013-03-03T14:44:59Z</dcterms:modified>
  <cp:revision>10</cp:revision>
  <dc:subject/>
  <dc:title>Страна героев и богов… О Греция! Страна совсем иная… О временах былых                           нам хочется узнать. С чего всё начиналось?</dc:title>
</cp:coreProperties>
</file>