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gif" ContentType="image/gif"/>
  <Override PartName="/ppt/media/image13.gif" ContentType="image/gif"/>
  <Override PartName="/ppt/media/image15.gif" ContentType="image/gif"/>
  <Override PartName="/ppt/media/image14.gif" ContentType="image/gif"/>
  <Override PartName="/ppt/media/image1.gif" ContentType="image/gif"/>
  <Override PartName="/ppt/media/image2.gif" ContentType="image/gif"/>
  <Override PartName="/ppt/media/image3.gif" ContentType="image/gif"/>
  <Override PartName="/ppt/media/image4.gif" ContentType="image/gif"/>
  <Override PartName="/ppt/media/image11.jpeg" ContentType="image/jpeg"/>
  <Override PartName="/ppt/media/image5.gif" ContentType="image/gif"/>
  <Override PartName="/ppt/media/image12.jpeg" ContentType="image/jpeg"/>
  <Override PartName="/ppt/media/image10.gif" ContentType="image/gif"/>
  <Override PartName="/ppt/media/image6.gif" ContentType="image/gif"/>
  <Override PartName="/ppt/media/image7.gif" ContentType="image/gif"/>
  <Override PartName="/ppt/media/image8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4741-450E-4D07-88ED-74DE5B8DC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8D11-461C-4C80-91C5-D54E19051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19D8-5983-49EB-B3D5-163B5A965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0F8F-8644-4AFB-A5F4-F60E10F1D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AC8E8-FC5F-44FF-9873-7A03D1135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D27B8-CB28-4FD6-868D-EC6292C6B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95FF3-F6DE-4639-BB8E-6ED12C969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264C6-387A-45A6-8A2B-E6049703E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B806F-6010-407E-9107-F7F8B7303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E3D50-B5E4-4BAC-96D1-7A9EBEF07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D48A3-9482-4AA3-A0CF-ED6D3F981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B38E-98F0-4BB8-A70C-E1C5A6B7E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767EF-6F8D-4D7C-A734-983DC97C6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FD763-12D9-49EA-A912-49036A64F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CA883-61C1-4BA2-83F1-3277EEC4F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11EBF-B13E-47DC-A861-0200B632B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167A9-5978-425C-99BB-EB1CD0CBE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6BAB-4732-4B5B-81EF-380378559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8E73-2B8F-42E2-AF81-95D54F51B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8459-7FC6-49EF-8F6A-FCBA03126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C9CF-7E61-407F-B836-834690E2A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3964-877E-4CA4-8B4B-BC232E0ED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0C6D-592E-4597-874A-A08C21AB8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7281-D529-44F3-815E-D67CC5BE8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858F6-F852-4285-ABEE-6CCBEE672147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A30E0-B20B-45FC-9D9E-6A09EED375A9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image" Target="../media/image6.gif"/><Relationship Id="rId5" Type="http://schemas.openxmlformats.org/officeDocument/2006/relationships/image" Target="../media/image7.gif"/><Relationship Id="rId6" Type="http://schemas.openxmlformats.org/officeDocument/2006/relationships/image" Target="../media/image8.gif"/><Relationship Id="rId7" Type="http://schemas.openxmlformats.org/officeDocument/2006/relationships/image" Target="../media/image9.gif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1979640" y="2276640"/>
            <a:ext cx="6024600" cy="165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пасные места.</a:t>
            </a:r>
            <a:endParaRPr b="0" lang="en-US" sz="60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7451640" y="549360"/>
            <a:ext cx="812880" cy="15127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755640" y="4437000"/>
            <a:ext cx="1447920" cy="8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9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2556000" y="692280"/>
            <a:ext cx="3171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думай!</a:t>
            </a:r>
            <a:endParaRPr b="0" lang="en-US" sz="6000" spc="1" strike="noStrike">
              <a:ln w="0">
                <a:noFill/>
              </a:ln>
              <a:solidFill>
                <a:srgbClr val="ff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3" name=""/>
          <p:cNvSpPr/>
          <p:nvPr/>
        </p:nvSpPr>
        <p:spPr>
          <a:xfrm>
            <a:off x="755640" y="1916280"/>
            <a:ext cx="60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Безопасно ли гулять по крышам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948360" y="3068640"/>
            <a:ext cx="1289160" cy="18730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413640" y="2997360"/>
            <a:ext cx="556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Чем опасны чердаки и подвалы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56720" y="4076640"/>
            <a:ext cx="586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Чем опасен открытый люк на тротуаре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14000" y="5157720"/>
            <a:ext cx="64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сегда ли безопасны качели во дворе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9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9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9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9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2916360" y="692280"/>
            <a:ext cx="3024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дание.</a:t>
            </a:r>
            <a:endParaRPr b="0" lang="en-US" sz="1800" spc="1" strike="noStrike">
              <a:ln w="0">
                <a:noFill/>
              </a:ln>
              <a:solidFill>
                <a:srgbClr val="ff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9" name=""/>
          <p:cNvSpPr/>
          <p:nvPr/>
        </p:nvSpPr>
        <p:spPr>
          <a:xfrm>
            <a:off x="471960" y="2492280"/>
            <a:ext cx="54126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идумайте и нарисуйт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словные знаки к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авилам безопасности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оторые вы изучили на урока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6227640" y="2708280"/>
            <a:ext cx="191628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900000" y="476280"/>
            <a:ext cx="7344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Что  же  опасного может  быть  в  доме?</a:t>
            </a:r>
            <a:endParaRPr b="0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3" name=""/>
          <p:cNvSpPr/>
          <p:nvPr/>
        </p:nvSpPr>
        <p:spPr>
          <a:xfrm>
            <a:off x="826920" y="2708280"/>
            <a:ext cx="6969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187280" y="1844640"/>
            <a:ext cx="1241640" cy="16556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948360" y="2492280"/>
            <a:ext cx="1019160" cy="7336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6948360" y="4005360"/>
            <a:ext cx="809640" cy="9428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1187280" y="4005360"/>
            <a:ext cx="990720" cy="10191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>
            <a:off x="5219640" y="1484280"/>
            <a:ext cx="870120" cy="22320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3203640" y="4149720"/>
            <a:ext cx="1895400" cy="9525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7"/>
          <a:stretch/>
        </p:blipFill>
        <p:spPr>
          <a:xfrm>
            <a:off x="3708360" y="2492280"/>
            <a:ext cx="762120" cy="7621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403280" y="530064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Если будете знать, какими опасностями грозят вам эти и другие предметы, вы сможете их избежа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4000"/>
                            </p:stCondLst>
                            <p:childTnLst>
                              <p:par>
                                <p:cTn id="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6000"/>
                            </p:stCondLst>
                            <p:childTnLst>
                              <p:par>
                                <p:cTn id="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8000"/>
                            </p:stCondLst>
                            <p:childTnLst>
                              <p:par>
                                <p:cTn id="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0"/>
                            </p:stCondLst>
                            <p:childTnLst>
                              <p:par>
                                <p:cTn id="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2000"/>
                            </p:stCondLst>
                            <p:childTnLst>
                              <p:par>
                                <p:cTn id="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4000"/>
                            </p:stCondLst>
                            <p:childTnLst>
                              <p:par>
                                <p:cTn id="7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1476360" y="907920"/>
            <a:ext cx="6267600" cy="62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Формула безопасности.</a:t>
            </a:r>
            <a:endParaRPr b="0" lang="en-US" sz="4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10680" y="2276640"/>
            <a:ext cx="86166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едвидеть опасност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 возможности избегать е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 необходимости действовать  - решительно и четк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ороться до последнего, активно просить помощи 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амому ее оказывать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звестный путешественник Яцек Палкевич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156360" y="1916280"/>
            <a:ext cx="165564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1763640" y="907920"/>
            <a:ext cx="5076720" cy="61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пасные места в доме.</a:t>
            </a:r>
            <a:endParaRPr b="0" lang="en-US" sz="4000" spc="1" strike="noStrike">
              <a:ln w="0">
                <a:noFill/>
              </a:ln>
              <a:solidFill>
                <a:srgbClr val="ff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>
            <a:lum contrast="18000"/>
          </a:blip>
          <a:srcRect l="66000" t="9335" r="16627" b="64507"/>
          <a:stretch/>
        </p:blipFill>
        <p:spPr>
          <a:xfrm>
            <a:off x="4788000" y="1989000"/>
            <a:ext cx="2466720" cy="28800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>
            <a:lum contrast="18000"/>
          </a:blip>
          <a:srcRect l="50791" t="9335" r="34004" b="64507"/>
          <a:stretch/>
        </p:blipFill>
        <p:spPr>
          <a:xfrm>
            <a:off x="1187280" y="1989000"/>
            <a:ext cx="2216160" cy="29527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189080" y="4941720"/>
            <a:ext cx="117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балко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90160" y="4869000"/>
            <a:ext cx="180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доконни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763640" y="907920"/>
            <a:ext cx="5076720" cy="61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пасные места в доме.</a:t>
            </a:r>
            <a:endParaRPr b="0" lang="en-US" sz="4000" spc="1" strike="noStrike">
              <a:ln w="0">
                <a:noFill/>
              </a:ln>
              <a:solidFill>
                <a:srgbClr val="ff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66754" r="53566" b="7087"/>
          <a:stretch/>
        </p:blipFill>
        <p:spPr>
          <a:xfrm>
            <a:off x="826920" y="3645000"/>
            <a:ext cx="5123160" cy="22352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>
            <a:lum contrast="12000"/>
          </a:blip>
          <a:srcRect l="83680" t="8882" r="2971" b="64960"/>
          <a:stretch/>
        </p:blipFill>
        <p:spPr>
          <a:xfrm>
            <a:off x="6227640" y="2565360"/>
            <a:ext cx="2183040" cy="33116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901440" y="1916280"/>
            <a:ext cx="52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Легкий подъемник быстро домчи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верх поднимаясь, вниз опускаяс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864680" y="3068640"/>
            <a:ext cx="92124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лиф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684360" y="981000"/>
            <a:ext cx="755964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Что   опасного есть  в  окрестностях дома?</a:t>
            </a:r>
            <a:endParaRPr b="0" lang="en-US" sz="3200" spc="1" strike="noStrike">
              <a:ln w="1260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rcRect l="25241" t="9273" r="53230" b="53678"/>
          <a:stretch/>
        </p:blipFill>
        <p:spPr>
          <a:xfrm>
            <a:off x="4643280" y="1989000"/>
            <a:ext cx="2303640" cy="28800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rcRect l="3695" t="9273" r="74776" b="53678"/>
          <a:stretch/>
        </p:blipFill>
        <p:spPr>
          <a:xfrm>
            <a:off x="1258920" y="1989000"/>
            <a:ext cx="2303280" cy="28800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260720" y="4941720"/>
            <a:ext cx="239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тройплощад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646160" y="4869000"/>
            <a:ext cx="382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трансформаторная буд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684360" y="981000"/>
            <a:ext cx="755964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Что   опасного есть  в  окрестностях дома?</a:t>
            </a:r>
            <a:endParaRPr b="0" lang="en-US" sz="3200" spc="1" strike="noStrike">
              <a:ln w="1260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1" name=""/>
          <p:cNvSpPr/>
          <p:nvPr/>
        </p:nvSpPr>
        <p:spPr>
          <a:xfrm>
            <a:off x="3571560" y="3068640"/>
            <a:ext cx="4463280" cy="947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е гуляй с наступлением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емноты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>
            <a:lum contrast="12000"/>
          </a:blip>
          <a:srcRect l="50485" t="10171" r="29992" b="53678"/>
          <a:stretch/>
        </p:blipFill>
        <p:spPr>
          <a:xfrm>
            <a:off x="826920" y="2205000"/>
            <a:ext cx="257040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4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1547640" y="692280"/>
            <a:ext cx="5616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авила четырех НЕ.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755640" y="2060640"/>
            <a:ext cx="7056360" cy="111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1. Никогда не разговаривай с незнакомцем.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755640" y="3068640"/>
            <a:ext cx="77058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2. Никогда не садись в машину к незнакомцу.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755640" y="4005360"/>
            <a:ext cx="69120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3. Не играй по дороге из школы домой.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4360" y="5084640"/>
            <a:ext cx="798660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4. Не играй с наступлением темноты на улице.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7524720" y="476280"/>
            <a:ext cx="95256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>
            <a:lum contrast="12000"/>
          </a:blip>
          <a:srcRect l="72683" t="10171" r="6454" b="53701"/>
          <a:stretch/>
        </p:blipFill>
        <p:spPr>
          <a:xfrm>
            <a:off x="539640" y="1844640"/>
            <a:ext cx="3260880" cy="410544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553400" y="765000"/>
            <a:ext cx="608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Будь осторожен на льду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918960" y="2133720"/>
            <a:ext cx="4968720" cy="32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Увеличить сцепление своих ботино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о льдом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и ходьбе наступать на всю подошву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оги слегка расслабить в коленях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ыйти из дома пораньше, чтобы н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торопитьс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освободить руки от сумок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3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8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1T09:35:42Z</dcterms:created>
  <dc:creator>Соловьева Е.В.</dc:creator>
  <dc:description/>
  <dc:language>en-US</dc:language>
  <cp:lastModifiedBy>Admin</cp:lastModifiedBy>
  <dcterms:modified xsi:type="dcterms:W3CDTF">2009-02-01T13:09:59Z</dcterms:modified>
  <cp:revision>5</cp:revision>
  <dc:subject>Опасные места.</dc:subject>
  <dc:title>Урок окр. мир 3 четверть</dc:title>
</cp:coreProperties>
</file>