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2.jpeg" ContentType="image/jpeg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8DE-F80C-4C83-931A-8059E08F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6F5-5193-4295-A929-35391EEB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B42-5524-4FA9-A7C1-ACBA6DD1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27D-58A8-4C30-AD8B-31C0BE2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6567-D5C4-4759-AEC4-F2292ADD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3F58-2BAF-4F49-A231-7CE51445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E29D-4914-4D06-B361-29748199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9C6E-8972-4E7A-80B2-F3EEB6F2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9699-2FCD-432C-A336-85BFCA88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BF47-18C6-49A6-80B6-E2D65B6E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E527-EAD2-4DD1-A733-3734401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B3D-2A82-46BB-BF79-31927C8B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A5CE-0BA6-40F3-AAE4-B5E44B0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08C9-C951-4325-9683-B49CD02B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DEA3-69B3-426A-BC14-7609D6DD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1A6C-980D-4169-94DD-9086DD18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9782-F6A0-4EC6-A10A-B75DE153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4E4-F982-483B-A4C5-A1EC66F5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0D4-DB76-45D6-9EE3-3DF2E54F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479-56BD-4198-BD67-4C7C1F91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2CC-0005-416A-8D9A-9F54D0BC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ED8-0029-4B94-96C2-E06583A2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39D-6595-4562-BD7C-27651056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37D-94B7-4A1F-9AC7-C3C3B69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8C79-389A-4B3F-90B0-2EA732D6F8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0F1D-E2D0-4CC9-99E9-3F03D750C4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2276640"/>
            <a:ext cx="6024600" cy="16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ые места.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51640" y="549360"/>
            <a:ext cx="812880" cy="151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14479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56000" y="692280"/>
            <a:ext cx="3171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!</a:t>
            </a:r>
            <a:endParaRPr b="0" lang="en-US" sz="60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91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опасно ли гулять по крыша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48360" y="3068640"/>
            <a:ext cx="1289160" cy="1873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3640" y="2997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м опасны чердаки и подвал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720" y="407664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м опасен открытый люк на тротуа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000" y="5157720"/>
            <a:ext cx="64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гда ли безопасны качели во дво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16360" y="69228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.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471960" y="2492280"/>
            <a:ext cx="5412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думайте и нарисуй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ловные знаки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ам безопасно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торые вы изучили на уро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27640" y="2708280"/>
            <a:ext cx="1916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00000" y="476280"/>
            <a:ext cx="73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же  опасного может  быть  в  доме?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2708280"/>
            <a:ext cx="69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124164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948360" y="2492280"/>
            <a:ext cx="1019160" cy="733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4005360"/>
            <a:ext cx="809640" cy="942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990720" cy="1019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219640" y="1484280"/>
            <a:ext cx="87012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203640" y="4149720"/>
            <a:ext cx="189540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708360" y="2492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03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Если будете знать, какими опасностями грозят вам эти и другие предметы, вы сможете их избеж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476360" y="907920"/>
            <a:ext cx="62676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ормула безопасности.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0680" y="2276640"/>
            <a:ext cx="8616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идеть 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озможности избегать 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необходимости действовать  - решительно и чет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роться до последнего, активно просить помощи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му ее оказы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стный путешественник Яцек Палкевич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16556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63640" y="907920"/>
            <a:ext cx="5076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ые места в доме.</a:t>
            </a:r>
            <a:endParaRPr b="0" lang="en-US" sz="40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18000"/>
          </a:blip>
          <a:srcRect l="66000" t="9335" r="16627" b="64507"/>
          <a:stretch/>
        </p:blipFill>
        <p:spPr>
          <a:xfrm>
            <a:off x="4788000" y="1989000"/>
            <a:ext cx="2466720" cy="288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>
            <a:lum contrast="18000"/>
          </a:blip>
          <a:srcRect l="50791" t="9335" r="34004" b="64507"/>
          <a:stretch/>
        </p:blipFill>
        <p:spPr>
          <a:xfrm>
            <a:off x="1187280" y="1989000"/>
            <a:ext cx="2216160" cy="295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89080" y="49417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к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0160" y="4869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окон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63640" y="907920"/>
            <a:ext cx="5076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ые места в доме.</a:t>
            </a:r>
            <a:endParaRPr b="0" lang="en-US" sz="40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66754" r="53566" b="7087"/>
          <a:stretch/>
        </p:blipFill>
        <p:spPr>
          <a:xfrm>
            <a:off x="826920" y="3645000"/>
            <a:ext cx="5123160" cy="2235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>
            <a:lum contrast="12000"/>
          </a:blip>
          <a:srcRect l="83680" t="8882" r="2971" b="64960"/>
          <a:stretch/>
        </p:blipFill>
        <p:spPr>
          <a:xfrm>
            <a:off x="6227640" y="2565360"/>
            <a:ext cx="2183040" cy="3311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1440" y="1916280"/>
            <a:ext cx="52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гкий подъемник быстро домч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верх поднимаясь, вниз опуская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4680" y="3068640"/>
            <a:ext cx="92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981000"/>
            <a:ext cx="7559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 опасного есть  в  окрестностях дома?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5241" t="9273" r="53230" b="53678"/>
          <a:stretch/>
        </p:blipFill>
        <p:spPr>
          <a:xfrm>
            <a:off x="4643280" y="1989000"/>
            <a:ext cx="2303640" cy="288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3695" t="9273" r="74776" b="53678"/>
          <a:stretch/>
        </p:blipFill>
        <p:spPr>
          <a:xfrm>
            <a:off x="1258920" y="1989000"/>
            <a:ext cx="2303280" cy="288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60720" y="49417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йплоща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6160" y="48690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ансформаторная бу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4360" y="981000"/>
            <a:ext cx="7559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 опасного есть  в  окрестностях дома?</a:t>
            </a:r>
            <a:endParaRPr b="0" lang="en-US" sz="32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3571560" y="3068640"/>
            <a:ext cx="4463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гуляй с наступле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нот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12000"/>
          </a:blip>
          <a:srcRect l="50485" t="10171" r="29992" b="53678"/>
          <a:stretch/>
        </p:blipFill>
        <p:spPr>
          <a:xfrm>
            <a:off x="826920" y="2205000"/>
            <a:ext cx="2570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692280"/>
            <a:ext cx="56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четырех НЕ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55640" y="2060640"/>
            <a:ext cx="7056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. Никогда не разговаривай с незнакомцем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3068640"/>
            <a:ext cx="770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. Никогда не садись в машину к незнакомцу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400536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3. Не играй по дороге из школы домой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5084640"/>
            <a:ext cx="7986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. Не играй с наступлением темноты на улице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24720" y="476280"/>
            <a:ext cx="952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2000"/>
          </a:blip>
          <a:srcRect l="72683" t="10171" r="6454" b="53701"/>
          <a:stretch/>
        </p:blipFill>
        <p:spPr>
          <a:xfrm>
            <a:off x="539640" y="1844640"/>
            <a:ext cx="3260880" cy="410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53400" y="76500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 осторожен на льд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18960" y="2133720"/>
            <a:ext cx="49687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еличить сцепление своих ботин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 льд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ходьбе наступать на всю подошв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ги слегка расслабить в колен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йти из дома пораньше, чтобы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ропить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освободить руки от сумо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9:35:42Z</dcterms:created>
  <dc:creator>Соловьева Е.В.</dc:creator>
  <dc:description/>
  <dc:language>en-US</dc:language>
  <cp:lastModifiedBy>Admin</cp:lastModifiedBy>
  <dcterms:modified xsi:type="dcterms:W3CDTF">2009-02-01T13:09:59Z</dcterms:modified>
  <cp:revision>5</cp:revision>
  <dc:subject>Опасные места.</dc:subject>
  <dc:title>Урок окр. мир 3 четверть</dc:title>
</cp:coreProperties>
</file>