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371-C5EE-4588-A4BD-5ABD536E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ABD-70FC-4893-B31C-FF7FCA62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1893BA-4802-4E1B-9592-F924FAC9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64731-4931-452C-880B-290D77D3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ECEBE7-1F24-4ECC-9AFA-DEBF7B40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E846E-82DC-443D-8EB7-4E06A74B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5A0E7-AD8C-4B5F-992C-3407163D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3CFA9-202F-4C42-B0EE-1130FDE2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43F65-1BC0-45BC-9E6A-F7E75225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E3FAE6-5F22-46E7-B453-DB9E7008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48078-82E3-4AF9-9878-A8019EA7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FAF9C3-254E-4FF8-BED7-9FB3DD6C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126-770C-48EF-AED7-C81DF4BC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68471A-55D0-46A8-81FE-23697355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5045B5-7BBA-48B1-84DF-F36A8050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28864-D648-4DBF-B1F5-B4A50100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621DA-3772-4D2C-B79B-EC809AC6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0C435E-3398-4D7F-8152-3B862FFC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470FE-1BF7-4692-BEE9-94C54D48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9EAB58-3D0F-4F3D-89EE-A700D732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6617D-D5D3-4E4F-A1B2-25075B72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B0BAF7-93A4-4A94-8A02-A8669F54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994AD-1C33-4E27-8895-9EEEE67A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55C1-A1AA-46AD-AE6D-E6A09D6B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749573-B095-4FC4-A323-00DDA831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0E12D-916B-4BDA-B99C-B80EF50B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E4530-2DCA-4063-B7FC-D091CB56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93503-A4BA-4351-AE07-2A9BE839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717CE-3A5D-425B-B269-DFBF85E4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960B2-F1AB-42E1-B5B2-5F89BB9C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EFB36-DAE2-401C-89B9-EA24F824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FF937-838B-4B92-A4C6-72BABD75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3BA18-6125-48A0-8AB5-635EDBCC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B597F-F393-4903-889C-AACF7141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B733-236A-4D52-8B76-B281CBBF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DFEE6-6691-4397-B05B-8D04AFA6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3A535-37FA-4CCE-8D45-CEF70350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65B6A-EE6F-4F5F-AC37-01C1B207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692A6E-04F9-4DCA-A6F9-C16CFA36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F0530-EB70-49BC-B3CB-BD70E4BC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1F1EC9-A784-499F-8FD6-F19E521B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DD27D-0D2F-4FC5-A428-0D7D9160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11209A-D369-4C11-BEE9-3A19CF12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3F005F-EEFC-4E4F-9EA9-B6FC0302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4438F6-8D7A-4F39-B6A6-AD28E49A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6708-C466-41C5-B8B2-8200F9EB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485232-4AE0-4C90-9C14-43B1C158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C55A6-75FB-4E76-AC0C-66635F7D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52F91-4907-40A5-B0A0-916EC509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599FDE-A716-45D1-8CE3-1D772069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CD091-FF23-47F1-9389-A6E75F71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BDE6-649E-4DE8-A1C6-BD70FCC8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3714-390D-4205-AB3E-675D4754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9747-9271-4DD3-868F-C9342E52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8B14-A53A-4C6F-8C91-93A896B5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4E02-2197-40A2-AA4E-878EDE59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BAB-87D5-4830-907C-1B900EC7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DA38-F1CD-4410-9F8C-C8E16220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CD71-132B-4143-8970-F0AD0CB0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FF75-E6D9-4FF5-9688-8D2011A9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FDC7-8799-4CA5-93AC-60F29E51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D839-2A6C-4963-B3E3-E586CB2E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16370-37FA-408F-952E-3F965E78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92ED5-612F-4CD7-B89D-7C87D7B9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A2E64-C6A1-4756-97E4-6959B778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84DC7-96CB-4A59-A14F-01D71BCB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AD591-E05A-4F07-996C-D17165EA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E26F-B4F4-478F-9540-B5B29293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4725-DDC9-46C1-8049-D131A942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BBB13-637D-4D26-9E7C-9CB85D7B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C305B-3344-4CEF-B906-22552B9D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DF436-A6F2-4193-89A4-7206BE03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B13E1-1888-4CCB-8931-106235A1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BBAFC-81D3-450A-80B1-F51EBDBB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C1F9A-DCCC-479A-90F4-F941BF81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1F493-E297-45AE-AE11-68DF59E4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B3B96-10F7-4A13-A955-27B6C556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CCC24-7506-4611-AB71-5434D42D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21A7-D8E0-4BA1-A1C7-77656077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C4543-A19A-46FB-AA8D-0EE99B48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7A7DF-EEBC-4DAD-86D8-9571E987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A1931-7578-4AAD-B99B-9B2224E8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8B5E0-E0B8-4217-A10D-BE4E8679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1C0F2-4072-42A5-9332-6CC9C499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6BB7B-B3CA-4F34-98D6-9021FEDF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438B4-91BB-45B9-9DD8-637F7B43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8B923-4C49-40E3-A169-CE7328A7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49168-53D9-411B-82D9-7E92AAE6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D6D9F-41AC-4803-947E-716F1399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B06E-6632-44FE-AFFF-7BC17AAF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96A4C-30CD-4EFB-B126-AD725F25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E2F12-3AE8-449E-813C-90BD431B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112AD-EEFB-4EC8-B693-8577421E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D457F-3941-48C7-9984-A72545C2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D7C0E-2DC2-47D9-AC5D-3CCEF8EA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5A009-6C8E-486E-B53E-4738021E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B52B9-7EA7-4D79-A804-440A002C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36052-AE64-4E17-9E51-563678E5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741F5-EE09-4496-8B40-2F37D4F7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7AEEF-53B6-496E-BA6E-F6A18EC7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3BF-B9A5-43A0-802E-521D03A3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814CE-A54D-473F-A086-FC2E18EF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5EB18-6FC7-410D-849E-71B8B922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AF102-0726-40BB-A182-5B987AE2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5FB3D-5934-4B46-B196-A34B7432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0AEF8-3E10-46D8-A9E4-9206B3CC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EE1B2-A84A-4FA8-9E43-516E13D9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29517-F665-44E4-9B26-B3FE07B8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8D165-06C2-4940-8F3F-03F41548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1551D-E022-4746-8B57-ED3D098A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A0C97-E880-4B18-A26F-B9B33449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FBD-DA35-4A48-9A2E-9C5E8F07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9B34B-4538-4C01-869E-1166FEA3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CB6B3-D7BD-4F56-AAB8-32A6E060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11812-E05D-4252-9E17-5BF6CD2A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89E58-C44C-463E-B74B-B8A605D2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A6E06-9241-47E4-801A-95BAB207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08CD6-BD3F-42B2-BEA2-1078720D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9F92B-05E4-450C-9DF7-1702AFC1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667C8-F1AC-40C8-B353-F6AF7697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72ACC-E031-493F-A7B4-92CB421C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9F957-A4C5-4534-8712-9540CBB7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2B6-8F18-4A60-95C5-4E21505C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DE009-157B-4517-A20F-3900699A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89682-A395-49FB-A296-C1F06B50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2E21D-E526-4CAF-A41F-5B117A26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F36BF-3645-474B-A150-20BDB6CD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AF5D1-49F7-46EB-9D8A-70B22266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D51A4-8D8D-4440-A8EF-ED08DC39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18A99-587B-4FEB-BEF1-0168DBDF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2555F-E9F9-4D73-B219-F750584B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5ED68-8901-4B15-BADC-83CB1C42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F1A6E-A3AB-4841-85A0-74DA133A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3AFA-BF2F-45D1-B325-3B79FD58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9314C-0B91-483D-9E7E-F89B5EBF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7D560-69F9-4027-8D60-5B58B7EC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D32BA-AF1D-477B-B62A-88D761E9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57E63-FD80-441C-AB3F-93DE9667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B5923-B84D-489A-9FB2-032D29FE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A1534-E7C3-408E-B23A-AB3D1DB2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80563-79A9-49DC-AC5F-32C8C2C1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04BB0-7A01-4EB9-B376-DA50616D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9F3862-C1DF-43DF-ADFE-88303D48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235153-D0FC-4905-93D3-BC089D9B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A049-28EE-490A-938E-2A114FEC4B7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3313-835A-43AF-A91B-98BD17ED034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25BA-6578-4C32-897D-53DCC58633A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15C0-812B-4621-BDE7-588C36A443F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3047-64B8-48A3-8430-2D6685B9D8F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BF72-962F-4B10-ADFA-314675263CF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5051-0A9A-443D-9A38-6819EAFF481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9047-F4A1-4F55-AEC5-DE21CE83CC4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0466-2142-4050-8179-C764F0034DA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BB3A-C1DA-47E8-9B23-481F7A3DF83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78E5-90EF-4D58-BE46-742A3CDF886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68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68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0160" indent="-22716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0160" indent="-22716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8FAF-2FB5-4B9E-8184-7F2F83F3E40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42920" y="999720"/>
            <a:ext cx="8858160" cy="5357880"/>
          </a:xfrm>
          <a:prstGeom prst="rect">
            <a:avLst/>
          </a:prstGeom>
          <a:solidFill>
            <a:srgbClr val="e3bc92"/>
          </a:solidFill>
          <a:ln w="9360">
            <a:solidFill>
              <a:srgbClr val="415b5c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ГЛАСНЫЕ И СОГЛАСНЫЕ В ПРИСТАВКАХ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ЗА-, НАД-, ДО-, ОБ-, ОТ-, ПО-, ПОД-, ПРО- ПИШУТСЯ ВСЕГДА ОДИНАКОВО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ПРА- (ЗНАЧЕНИЕ РОДСТВА)-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НАПРИМЕР: ПРАБАБУШКА, ПРАСЛАВЯНСКИЙ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АЗ-, РАС- (БЕЗ УДАРЕНИЯ) –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ОЗ- РОС- (ПОД УДАРЕНИЕМ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ПРИМЕР: Р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ЫСКАТЬ, Р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ЫСК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371600" y="33300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d16349"/>
                </a:solidFill>
                <a:latin typeface="Book Antiqua"/>
              </a:rPr>
              <a:t>Орфограммы в приставках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68709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Примечание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71320" y="1285920"/>
            <a:ext cx="8057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ратите внимание на омофоны, различающиеся приставками </a:t>
            </a:r>
            <a:r>
              <a:rPr b="0" lang="ru-RU" sz="2400" spc="-1" strike="noStrike">
                <a:solidFill>
                  <a:srgbClr val="646b86"/>
                </a:solidFill>
                <a:latin typeface="Georgia"/>
              </a:rPr>
              <a:t>ПР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и </a:t>
            </a:r>
            <a:r>
              <a:rPr b="0" lang="ru-RU" sz="2400" spc="-1" strike="noStrike">
                <a:solidFill>
                  <a:srgbClr val="646b86"/>
                </a:solidFill>
                <a:latin typeface="Georgia"/>
              </a:rPr>
              <a:t>ПРИ-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142920" y="2143080"/>
          <a:ext cx="8786880" cy="3840120"/>
        </p:xfrm>
        <a:graphic>
          <a:graphicData uri="http://schemas.openxmlformats.org/drawingml/2006/table">
            <a:tbl>
              <a:tblPr/>
              <a:tblGrid>
                <a:gridCol w="4392720"/>
                <a:gridCol w="4394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зреть сироту (дать приют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зирать льстец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ложить ус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ложное прави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ерпеться к лишения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ерпеть лиш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ходящий (являющийс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ходящий (временны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тавить (придвину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тавиться (умере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лонить (приблизить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лониться (чувство поклонени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646b86"/>
                </a:solidFill>
                <a:latin typeface="Georgia"/>
              </a:rPr>
              <a:t>1. Упражнени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42920" y="907920"/>
            <a:ext cx="8858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Book Antiqua"/>
              </a:rPr>
              <a:t>Вставьте пропущенные буквы, найдите соответствия (цифра-буква)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597240" indent="-597240">
              <a:spcBef>
                <a:spcPts val="82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Пр…зидент, пр…лестный, пр…зирать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597240" indent="-597240">
              <a:spcBef>
                <a:spcPts val="82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Пр…мудрый, пр…забавный, пр…отличный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597240" indent="-597240">
              <a:spcBef>
                <a:spcPts val="82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Пр…рекания, пр…секать, пр…градить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597240" indent="-5972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Georgia"/>
              </a:rPr>
              <a:t>А</a:t>
            </a: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 – значение ПЕРЕ-;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597240" indent="-5972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Georgia"/>
              </a:rPr>
              <a:t>Б</a:t>
            </a: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 – близко слову «ОЧЕНЬ»;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597240" indent="-5972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Georgia"/>
              </a:rPr>
              <a:t>В</a:t>
            </a: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 – ПРЕ- не выделяется как приставка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2.Решение орфографической задачи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8920" y="907560"/>
            <a:ext cx="8750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ctr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ставьте пропущенные буквы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 algn="ctr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ыпишите слова без приставок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 algn="ctr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…бережение, …доровье, …дернуть (з/с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 algn="just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 Во…душный,в…тревожиться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 algn="just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во…ненавидеть (з/с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 algn="just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 О…лака, о…ласканный, о…сыпанный (б/п)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646b86"/>
                </a:solidFill>
                <a:latin typeface="Georgia"/>
              </a:rPr>
              <a:t>3.Тест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856800" y="1000080"/>
            <a:ext cx="7696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ыпишите слова, в которых пишется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двоенна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согласна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а(с,сс)каз        6. ра(с,сс)читыва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ере(с,сс)каз    7. ра(с,сс)тоя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а(з,зз)орение  8. ра(с,сс)ольник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о(с,сс)тание    9. ра(с,сс)трати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а(с,сс)чет       10. бе(с,сс)рочны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646b86"/>
                </a:solidFill>
                <a:latin typeface="Georgia"/>
              </a:rPr>
              <a:t>4.Тест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214200" y="1071720"/>
            <a:ext cx="8715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Буквы З или С?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 algn="ctr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Выпишите слова, в которых пишется З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е..вкусица              6. ди..бактериоз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чере..чур                  7. ..дес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и..провергать       8. ..жеч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..жарить                 9. не..доброва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и..вергать              10.бли..сидящи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99720" y="2858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46b86"/>
                </a:solidFill>
                <a:latin typeface="Georgia"/>
              </a:rPr>
              <a:t>5.Тренировочные упражнения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71680" y="9997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ставьте пропущенные буквы, найдите соответствия (цифра-буква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0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..озерный, пр..бывать (в страну), пр..ходить к друг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0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..открыть, пр..сесть, пр..остановитьс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0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..судить, пр..учить, пр..стегну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 –близость, присоединение. Б – доведение действия до конц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– неполнота действ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28480" y="2858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Сочинение-миниатюра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713880" y="1642680"/>
            <a:ext cx="769644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Задание: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использовать в тексте слова с приставками-орфограммами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..вет, ни..вергаться, бе..пр..станно, ра..пустилась, п..желтела, ра..цветилась, ..брасывает, и..сохшие, ра..ст..лает, и..чезли, и..мокшие, бе..конечный, во..ходит, ни..ходит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d16349"/>
                </a:solidFill>
                <a:latin typeface="Book Antiqua"/>
              </a:rPr>
              <a:t>Орфограммы в приставках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42920" y="1285560"/>
            <a:ext cx="8858160" cy="507204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Иноязычные приставки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Инфр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а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-, ультр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а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-, экстр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а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ff0000"/>
                </a:solidFill>
                <a:latin typeface="Georgia"/>
              </a:rPr>
              <a:t>инфр</a:t>
            </a:r>
            <a:r>
              <a:rPr b="1" lang="ru-RU" sz="2700" spc="-1" strike="noStrike" u="sng">
                <a:solidFill>
                  <a:srgbClr val="ff0000"/>
                </a:solidFill>
                <a:uFillTx/>
                <a:latin typeface="Georgia"/>
              </a:rPr>
              <a:t>а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красный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ff0000"/>
                </a:solidFill>
                <a:latin typeface="Georgia"/>
              </a:rPr>
              <a:t>ультр</a:t>
            </a:r>
            <a:r>
              <a:rPr b="1" lang="ru-RU" sz="2700" spc="-1" strike="noStrike" u="sng">
                <a:solidFill>
                  <a:srgbClr val="ff0000"/>
                </a:solidFill>
                <a:uFillTx/>
                <a:latin typeface="Georgia"/>
              </a:rPr>
              <a:t>а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фиолетовый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ff0000"/>
                </a:solidFill>
                <a:latin typeface="Georgia"/>
              </a:rPr>
              <a:t>экстр</a:t>
            </a:r>
            <a:r>
              <a:rPr b="1" lang="ru-RU" sz="2700" spc="-1" strike="noStrike" u="sng">
                <a:solidFill>
                  <a:srgbClr val="ff0000"/>
                </a:solidFill>
                <a:uFillTx/>
                <a:latin typeface="Georgia"/>
              </a:rPr>
              <a:t>а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ординарный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85560" y="428400"/>
            <a:ext cx="68706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d16349"/>
                </a:solidFill>
                <a:latin typeface="Book Antiqua"/>
              </a:rPr>
              <a:t>Орфограммы в приставках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42920" y="1285560"/>
            <a:ext cx="8858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. Согласные на конце приставо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От-, над-, под-, пред-, об-, с-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шутся всегда одинаков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Отдельную группу составляют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приставки на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З-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ноязычных приставках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дез-  (дес-), диз-(дис-), экз-(экс-)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уква </a:t>
            </a: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З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пишется только перед гласными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646b86"/>
                </a:solidFill>
                <a:latin typeface="Georgia"/>
              </a:rPr>
              <a:t>       </a:t>
            </a: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Дез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о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ганизация, </a:t>
            </a: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дис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г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рмония,   </a:t>
            </a: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экс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к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р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42920" y="1143000"/>
            <a:ext cx="8858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Georgia"/>
              </a:rPr>
              <a:t>АЛГОРИТ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1. ПРИСТАВКА НА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З – С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(ЕСЛИ НЕТ, ПИШИТЕ НЕЗАВИСИМО ОТ ФОНЕТИЧЕСКОЙ ПОЗИЦИИ В СЛОВЕ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2. ЕСЛИ НА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З – С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, Т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ЕД ГЛАСНЫМ И ЗВОНКИМ СОГЛАСНЫМ –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З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ЕД ГЛУХИМ СОГЛАСНЫМ –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d16349"/>
                </a:solidFill>
                <a:latin typeface="Book Antiqua"/>
              </a:rPr>
              <a:t>Орфограммы в приставках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2920" y="152280"/>
            <a:ext cx="88581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Гласные в приставках ПРЕ- и ПРИ-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50560" y="90792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1" lang="ru-RU" sz="2700" spc="-1" strike="noStrike">
                <a:solidFill>
                  <a:srgbClr val="c00000"/>
                </a:solidFill>
                <a:latin typeface="Georgia"/>
              </a:rPr>
              <a:t>ПРЕ- </a:t>
            </a:r>
            <a:r>
              <a:rPr b="1" lang="ru-RU" sz="2700" spc="-1" strike="noStrike">
                <a:solidFill>
                  <a:srgbClr val="646b86"/>
                </a:solidFill>
                <a:latin typeface="Georgia"/>
              </a:rPr>
              <a:t>               </a:t>
            </a:r>
            <a:r>
              <a:rPr b="1" lang="ru-RU" sz="2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c00000"/>
                </a:solidFill>
                <a:latin typeface="Georgia"/>
              </a:rPr>
              <a:t> ПРИ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= очень         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присоедин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= пере-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приближ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лиз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еполное     действ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700" spc="-1" strike="noStrike">
                <a:solidFill>
                  <a:srgbClr val="c00000"/>
                </a:solidFill>
                <a:latin typeface="Georgia"/>
              </a:rPr>
              <a:t>Примечание!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Чтобы проверить приставку ПРЕ- заменой на приставку ПЕРЕ-, можно подобрать слово с другим корнем. Например: дожд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пр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ратился – дожд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пер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та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Исключения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24000" y="620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Слова, в которых трудно установить значение приставки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just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пр</a:t>
            </a:r>
            <a:r>
              <a:rPr b="0" lang="ru-RU" sz="4100" spc="-1" strike="noStrike">
                <a:solidFill>
                  <a:srgbClr val="646b86"/>
                </a:solidFill>
                <a:latin typeface="Georgia"/>
              </a:rPr>
              <a:t>е</a:t>
            </a: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вратности, 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just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знаки пр</a:t>
            </a:r>
            <a:r>
              <a:rPr b="0" lang="ru-RU" sz="4100" spc="-1" strike="noStrike">
                <a:solidFill>
                  <a:srgbClr val="646b86"/>
                </a:solidFill>
                <a:latin typeface="Georgia"/>
              </a:rPr>
              <a:t>е</a:t>
            </a: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пинания, 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just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пр</a:t>
            </a:r>
            <a:r>
              <a:rPr b="0" lang="ru-RU" sz="4100" spc="-1" strike="noStrike">
                <a:solidFill>
                  <a:srgbClr val="646b86"/>
                </a:solidFill>
                <a:latin typeface="Georgia"/>
              </a:rPr>
              <a:t>е</a:t>
            </a: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словутый, 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just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пр</a:t>
            </a:r>
            <a:r>
              <a:rPr b="0" lang="ru-RU" sz="4100" spc="-1" strike="noStrike">
                <a:solidFill>
                  <a:srgbClr val="646b86"/>
                </a:solidFill>
                <a:latin typeface="Georgia"/>
              </a:rPr>
              <a:t>е</a:t>
            </a: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смыкаться, 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just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пр</a:t>
            </a:r>
            <a:r>
              <a:rPr b="0" lang="ru-RU" sz="4100" spc="-1" strike="noStrike">
                <a:solidFill>
                  <a:srgbClr val="646b86"/>
                </a:solidFill>
                <a:latin typeface="Georgia"/>
              </a:rPr>
              <a:t>е</a:t>
            </a: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стол, 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just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пр</a:t>
            </a:r>
            <a:r>
              <a:rPr b="0" lang="ru-RU" sz="4100" spc="-1" strike="noStrike">
                <a:solidFill>
                  <a:srgbClr val="646b86"/>
                </a:solidFill>
                <a:latin typeface="Georgia"/>
              </a:rPr>
              <a:t>е</a:t>
            </a:r>
            <a:r>
              <a:rPr b="0" lang="ru-RU" sz="4100" spc="-1" strike="noStrike">
                <a:solidFill>
                  <a:srgbClr val="000000"/>
                </a:solidFill>
                <a:latin typeface="Georgia"/>
              </a:rPr>
              <a:t>имущество.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646b86"/>
                </a:solidFill>
                <a:latin typeface="Georgia"/>
              </a:rPr>
              <a:t>Исключения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50920" y="83664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1320" indent="-571320" algn="just">
              <a:spcBef>
                <a:spcPts val="1001"/>
              </a:spcBef>
              <a:buClr>
                <a:srgbClr val="d16349"/>
              </a:buClr>
              <a:buSzPct val="85000"/>
              <a:buFont typeface="Georgia"/>
              <a:buAutoNum type="arabicPeriod" startAt="2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eorgia"/>
              </a:rPr>
              <a:t>Иноязычные слова с традиционным написанием приставок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571320" indent="-571320" algn="just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3600" spc="-1" strike="noStrike">
                <a:solidFill>
                  <a:srgbClr val="646b86"/>
                </a:solidFill>
                <a:latin typeface="Georgia"/>
              </a:rPr>
              <a:t>ПРЕ-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71320" indent="-571320" algn="just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реамбула, превалировать, презент, президент, президиум, прелюдия, премьера, престиж, препарат, препоны, прерогативы, претендент, претензия, преферанс, прецедент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71320" indent="-57132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687060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Исключения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95280" y="1285560"/>
            <a:ext cx="835344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 algn="just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Иноязычные слова с традиционным написанием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РИ-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78880" indent="-5788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78880" indent="-578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Пр</a:t>
            </a:r>
            <a:r>
              <a:rPr b="0" lang="ru-RU" sz="5400" spc="-1" strike="noStrike">
                <a:solidFill>
                  <a:srgbClr val="646b86"/>
                </a:solidFill>
                <a:latin typeface="Georgia"/>
              </a:rPr>
              <a:t>и</a:t>
            </a: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ватный, пр</a:t>
            </a:r>
            <a:r>
              <a:rPr b="0" lang="ru-RU" sz="5400" spc="-1" strike="noStrike">
                <a:solidFill>
                  <a:srgbClr val="646b86"/>
                </a:solidFill>
                <a:latin typeface="Georgia"/>
              </a:rPr>
              <a:t>и</a:t>
            </a: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вилегия, пр</a:t>
            </a:r>
            <a:r>
              <a:rPr b="0" lang="ru-RU" sz="5400" spc="-1" strike="noStrike">
                <a:solidFill>
                  <a:srgbClr val="646b86"/>
                </a:solidFill>
                <a:latin typeface="Georgia"/>
              </a:rPr>
              <a:t>и</a:t>
            </a: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мадонна, пр</a:t>
            </a:r>
            <a:r>
              <a:rPr b="0" lang="ru-RU" sz="5400" spc="-1" strike="noStrike">
                <a:solidFill>
                  <a:srgbClr val="646b86"/>
                </a:solidFill>
                <a:latin typeface="Georgia"/>
              </a:rPr>
              <a:t>и</a:t>
            </a: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мат,  пр</a:t>
            </a:r>
            <a:r>
              <a:rPr b="0" lang="ru-RU" sz="5400" spc="-1" strike="noStrike">
                <a:solidFill>
                  <a:srgbClr val="646b86"/>
                </a:solidFill>
                <a:latin typeface="Georgia"/>
              </a:rPr>
              <a:t>и</a:t>
            </a: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митив, пр</a:t>
            </a:r>
            <a:r>
              <a:rPr b="0" lang="ru-RU" sz="5400" spc="-1" strike="noStrike">
                <a:solidFill>
                  <a:srgbClr val="646b86"/>
                </a:solidFill>
                <a:latin typeface="Georgia"/>
              </a:rPr>
              <a:t>и</a:t>
            </a: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оритет.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14280" y="357120"/>
            <a:ext cx="68709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римечание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57120" y="1000080"/>
            <a:ext cx="835344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тите внимание на омофоны, различающиеся приставками </a:t>
            </a:r>
            <a:r>
              <a:rPr b="1" lang="ru-RU" sz="2800" spc="-1" strike="noStrike">
                <a:solidFill>
                  <a:srgbClr val="646b86"/>
                </a:solidFill>
                <a:latin typeface="Georgia"/>
              </a:rPr>
              <a:t>ПРЕ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lang="ru-RU" sz="2800" spc="-1" strike="noStrike">
                <a:solidFill>
                  <a:srgbClr val="646b86"/>
                </a:solidFill>
                <a:latin typeface="Georgia"/>
              </a:rPr>
              <a:t>ПРИ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142920" y="2071800"/>
          <a:ext cx="8858160" cy="4144680"/>
        </p:xfrm>
        <a:graphic>
          <a:graphicData uri="http://schemas.openxmlformats.org/drawingml/2006/table">
            <a:tbl>
              <a:tblPr/>
              <a:tblGrid>
                <a:gridCol w="4173480"/>
                <a:gridCol w="4684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ворить двер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ворить идеи в жиз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тупить к учеб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тупить зак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ать храбр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ать суд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ать форм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ать друз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ывать поездо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ывать  в тос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ходящие бо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ходящие цен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интить к пол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ентивное ле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ел храм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Book Antiqua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ел мечт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5:03:44Z</dcterms:created>
  <dc:creator>mama</dc:creator>
  <dc:description/>
  <dc:language>en-US</dc:language>
  <cp:lastModifiedBy>Person</cp:lastModifiedBy>
  <dcterms:modified xsi:type="dcterms:W3CDTF">2011-12-04T14:57:04Z</dcterms:modified>
  <cp:revision>16</cp:revision>
  <dc:subject/>
  <dc:title>Орфограммы в приставках</dc:title>
</cp:coreProperties>
</file>