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71D-D586-4952-B2CF-D9E3187C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506-213A-47D8-9B91-F893A120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687CD-4D0F-4D3A-BEF2-DFF1EE8D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E52EE-C6E9-454C-930E-6DF4AB2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F3281-EB47-49AC-9CC4-66188F46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AEF13-3872-4856-BF7A-4C324DDC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E8A38-1197-4910-853C-DF02BB0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994EB-EBDA-44C5-A90A-B6FADC7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E2438-0538-4148-B59F-2217ADA9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CEDE7-BB46-4EE4-A483-942C4E7A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B807A-2B10-4D05-B411-AA09D608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C6391-E095-4624-BE4F-E3D49A39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8B6-BEB1-433C-960E-77918E14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6BDAE-DFBC-4313-987A-555A97F0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24C7C-E36F-431A-8658-3305A8AF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06A3B-69E9-490F-875C-E5476846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56E75-72C5-4153-9824-19031EBE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90755-F414-4659-A9EF-AEBBBBE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0DF9B-ADFE-4F4E-B3DB-B7D33C2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A1A7F-E8FA-42F2-99D7-C1F1E11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E46A4-588F-47E0-BD73-6DCF817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28387-4C5B-4EC4-92A1-7083D86A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DB377-9D0E-457C-960A-38121A62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408-9BED-417D-9221-2F440551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15923-8F98-451E-B720-202E5481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0F26B-865E-4FC7-88A6-B5FA2D51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DEB01-2E17-4F3A-8BA1-00D8F010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9B0C7-9815-40FB-B2B8-9BC178F4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4D1D9-61E1-435A-8538-3311A1AF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631D8-9B91-4F32-8287-162B90A3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E6A06-43FF-4FC0-8274-48EB58B8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5EEB5-E9FC-46A3-BC87-3BF1C5C2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D0F1-8F5A-4D41-82C6-BF7731A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A7471-3DB2-43EF-8B5F-9C05A14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0064-8E55-455D-B669-F3BC29E8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60774-0221-47D0-A20A-E38DD306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24B06-8FAE-4637-ABEB-D63471E3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8BDF8-4925-4DF8-8B2D-7DB4182C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C49B4-2CE7-4C4E-85AD-3833E6CF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D20D9-7A56-4BB7-8068-42A50FF2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74022-B82F-431D-AA0F-B520BC7E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DAEE6-0979-4C85-91FF-251ACBE3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0BAB9-8ED3-4B32-B1CA-30C6792B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C7710-BEB7-42CB-9781-B1E169A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DF16C-387B-4C29-A351-B55AF121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04A2-C35D-4094-8D01-929E62EA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42610-2EC6-412D-A25A-01D03B1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2E29E-FC24-4C5A-85D2-554E850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4CEBF-1B55-47DF-BE6F-7AA091CD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6136E-B534-45B6-B2A5-5F7E279F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3BD7F-7BD1-4CEE-9EF4-B82AA422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F8E-0733-4399-8122-128B4B36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4CBB-1322-4AB0-B84E-5419CA6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7878-D7C5-46B4-B187-1A432E8C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8A06-0491-4D66-86E0-49077F4B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14D5-FEBB-4EC2-AFEB-CC70273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4AC-6AC6-4C41-A610-B7A747C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A5B0-3E7E-405B-8368-F098A26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9F2-F9F7-446A-A7E1-DFEBA7C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78CA-4755-4AAF-8DDF-E472CF6E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AF4C-8D90-432B-AA76-3584AAB2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B170-50E7-48BC-AC1D-ABEF494C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B375-D91F-4C7B-A20E-50EB9C7D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B8DD-A651-49E5-B8C7-7DF66F8B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8DEF-7180-42A8-BDC3-D2524E39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CAC1-B201-42B2-9BA2-4964423C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0E91-28AF-4CB7-963E-C0BC3044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D49-FE35-4CEB-A3E2-E6F3FCB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907B-03A2-432A-B040-6CDE4749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FEFE-19BC-49BF-BDDE-8B3A30C4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0786-19D9-43E7-8A9A-33A2A7B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6B95-C12D-447D-941E-2C6EA3F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2F61-7F8D-44C6-8845-DDC63151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FE45-6534-4DEA-9ACE-1C65B96D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29D1-82BA-42E1-8A0F-689EC563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EFE4-26EC-4740-8845-9FA8FF0C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73F5-BA8B-4767-BAAE-96EF2089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7E50-27E2-4C86-85A7-25D79F38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A1C-C890-430B-A5E4-1BA0E019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7D48-CF92-48A1-8919-32C735B7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AD76-506E-4ECD-9458-B956AB2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5B9B-DEEE-405E-B88B-50EDF51F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508C-A517-4424-81C7-9A921E8C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7438-1C3C-43F6-838F-616447F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AE3D-D1ED-4C3D-BADB-431D571A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EA1F-3F38-4252-9017-8C235497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1907-9E76-4FF6-B5BC-AB1E0C6E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3A25-1F9B-4695-9091-325C83BC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338FE-8633-4009-BD31-F7F47DCC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372-8581-4D15-B59D-67B65074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C4C5-14AA-485B-9E88-AEC80F2E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3BD10-39A6-4319-AFD3-5BC838C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5965-3861-4FB8-A688-A7C194A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E378E-ED28-4675-99C3-8170CD35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B1C91-6EE5-4E16-AC1C-EEA05355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A9211-5F68-4BC2-8E4D-769DB83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A88D3-9F3F-4E31-A7CF-D689E8A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CA91-526D-4CC5-86D8-A389F81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014B2-6C5B-4F67-AC71-96A3A0EA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CBAB7-015C-409E-A982-DD7859E7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F7A-C1C3-4CF1-9366-3DCEFCF6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7642A-CDB5-4172-8CA2-D7D0707E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42375-5F98-499E-8892-51CB368E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7721E-DACB-4B70-9DFE-C29B04B4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089DE-C448-4F50-8CB7-9C97BAA3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E76BC-AF95-428E-8FDC-DBBEAD90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9BDEB-58E3-49E8-AAD4-7CBC57D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81AE-C6F6-48C9-BBC0-1B270681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E8C65-349F-490F-9BF1-62A2C616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D5178-6DAB-4FEB-9FE2-23B91EFC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8B9B-661F-4A7C-B889-AB46998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B9E-339E-40BD-BA64-1F07E9E0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CDD95-64D4-4354-9BA8-7DA0070D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A043F-DFC4-40B1-A6E6-F3387173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56128-8688-498A-AB05-0A31351A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53E43-67BC-447F-992B-4C88B7E2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DFFA0-9C96-46A7-BB1F-D63775D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24E9-F05F-49F8-A4BD-B635BF9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1D7D1-E8B1-4EBC-98C6-74AF368A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3E24D-84B8-451E-8A35-380B0B87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B9C18-22C8-43DE-BC90-3D3C432A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E7667-AD9C-434E-B6A7-65D4716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822-95C1-4318-9DC0-EAF36C9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C9CD-2F8E-48B0-906A-BB36395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ED2C0-D505-4AD1-A284-23B7DFC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022E-4E0D-49E0-951B-A5C650A3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84C2-A61F-40A9-BC04-4AADF5DB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6CA99-CA41-4B6F-8728-118B784C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2E9E-3C3B-4A4A-8C36-0C096B07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B9C0-3D27-49F4-AAE8-5D5E004A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270DD-97D1-4402-889A-EDEA16D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F770-C023-4170-9255-3D265827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77ED9-8A9C-459B-B632-9765992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440-27C2-4C71-9D96-9CBC00C8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544DD-A96A-42E4-8ED2-E11DC01C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FE714-7033-4E37-8811-962779A0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CB822-6DA9-4AD2-BD3C-1AD14094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5B354-4C99-4831-AA82-EF7C4C94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75C3C-C56B-4D2B-A751-76F422C5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DBA7C-156B-4B77-80A9-9A1106E9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BFD52-1C5A-4249-AA15-DBDEE49B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0B63C-619A-45CE-9A65-CEB11103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E56B2-D088-4DC0-A59B-14EA1D23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CE67D-7A35-476D-8559-40AEB03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476F-D7C2-4599-9BF0-39741217F59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878F-F48D-49F3-8ACB-829264C6F04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2245-C9C7-4AB5-A5EF-8863FDD27DF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E1C1-27C2-4F99-ACD5-F37C0EECC80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9385-3776-4ABF-8CB1-F40E649249D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AAD0-CACF-4262-B845-6C36418D462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9294-C150-43F1-968C-3924433A831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8B51-DC17-4EB3-80C0-62793E3104D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4CC1-046C-4F1E-816F-681DD0A872F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BAF9-509B-4636-BB74-A49B74B25B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A60A-4A8F-4643-BB97-694BD24F32F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949B-E448-4270-AF37-136A10DF1E0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2920" y="999720"/>
            <a:ext cx="8858160" cy="5357880"/>
          </a:xfrm>
          <a:prstGeom prst="rect">
            <a:avLst/>
          </a:prstGeom>
          <a:solidFill>
            <a:srgbClr val="e3bc92"/>
          </a:solidFill>
          <a:ln w="9360">
            <a:solidFill>
              <a:srgbClr val="415b5c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ЛАСНЫЕ И СОГЛАСНЫЕ В ПРИСТАВКА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ЗА-, НАД-, ДО-, ОБ-, ОТ-, ПО-, ПОД-, ПРО- ПИШУТСЯ ВСЕГДА ОДИНАКОВ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ПРА- (ЗНАЧЕНИЕ РОДСТВА)-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НАПРИМЕР: ПРАБАБУШКА, ПРАСЛАВЯНСКИ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-, РАС- (БЕЗ УДАРЕНИЯ) –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ОЗ- РОС- (ПОД УДАРЕНИЕМ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ПРИМЕР: 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ЫСКАТЬ, 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ЫС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Book Antiqua"/>
              </a:rPr>
              <a:t>Орфограммы в приставк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68709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имечани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71320" y="1285920"/>
            <a:ext cx="8057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тите внимание на омофоны, различающиеся приставками </a:t>
            </a:r>
            <a:r>
              <a:rPr b="0" lang="ru-RU" sz="2400" spc="-1" strike="noStrike">
                <a:solidFill>
                  <a:srgbClr val="646b86"/>
                </a:solidFill>
                <a:latin typeface="Georgia"/>
              </a:rPr>
              <a:t>ПР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и </a:t>
            </a:r>
            <a:r>
              <a:rPr b="0" lang="ru-RU" sz="2400" spc="-1" strike="noStrike">
                <a:solidFill>
                  <a:srgbClr val="646b86"/>
                </a:solidFill>
                <a:latin typeface="Georgia"/>
              </a:rPr>
              <a:t>ПРИ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42920" y="2143080"/>
          <a:ext cx="8786880" cy="3840120"/>
        </p:xfrm>
        <a:graphic>
          <a:graphicData uri="http://schemas.openxmlformats.org/drawingml/2006/table">
            <a:tbl>
              <a:tblPr/>
              <a:tblGrid>
                <a:gridCol w="4392720"/>
                <a:gridCol w="4394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реть сироту (дать приют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ирать льстец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ожить ус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ожное прави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ерпеться к лишения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ерпеть ли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одящий (являющий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одящий (времен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вить (придвину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виться (умере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лонить (приблизить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лониться (чувство поклонен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1. Упражне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2920" y="907920"/>
            <a:ext cx="8858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Вставьте пропущенные буквы, найдите соответствия (цифра-буква)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р…зидент, пр…лестный, пр…зирать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р…мудрый, пр…забавный, пр…отличный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р…рекания, пр…секать, пр…градить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– значение ПЕРЕ-;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Б</a:t>
            </a: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– близко слову «ОЧЕНЬ»;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– ПРЕ- не выделяется как приставка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2.Решение орфографической задач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90756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ctr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авьте пропущенные буквы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ctr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пишите слова без приставо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ctr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…бережение, …доровье, …дернуть (з/с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Во…душный,в…тревожиться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о…ненавидеть (з/с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О…лака, о…ласканный, о…сыпанный (б/п)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646b86"/>
                </a:solidFill>
                <a:latin typeface="Georgia"/>
              </a:rPr>
              <a:t>3.Тест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856800" y="1000080"/>
            <a:ext cx="7696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пишите слова, в которых пишется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двоенна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огласн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(с,сс)каз        6. ра(с,сс)читыва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ере(с,сс)каз    7. ра(с,сс)тоя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(з,зз)орение  8. ра(с,сс)ольни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о(с,сс)тание    9. ра(с,сс)трати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(с,сс)чет       10. бе(с,сс)рочны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646b86"/>
                </a:solidFill>
                <a:latin typeface="Georgia"/>
              </a:rPr>
              <a:t>4.Тест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14200" y="1071720"/>
            <a:ext cx="8715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уквы З или С?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ctr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ыпишите слова, в которых пишется З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..вкусица              6. ди..бактерио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ере..чур                  7. ..дес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и..провергать       8. ..жеч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..жарить                 9. не..доброва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и..вергать              10.бли..сидящ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46b86"/>
                </a:solidFill>
                <a:latin typeface="Georgia"/>
              </a:rPr>
              <a:t>5.Тренировочные упражнения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71680" y="9997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авьте пропущенные буквы, найдите соответствия (цифра-буква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..озерный, пр..бывать (в страну), пр..ходить к друг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..открыть, пр..сесть, пр..остановить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..судить, пр..учить, пр..стегну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 –близость, присоединение. Б – доведение действия до конц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– неполнота действ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Сочинение-миниатю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13880" y="1642680"/>
            <a:ext cx="76964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Задание: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использовать в тексте слова с приставками-орфограммам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..вет, ни..вергаться, бе..пр..станно, ра..пустилась, п..желтела, ра..цветилась, ..брасывает, и..сохшие, ра..ст..лает, и..чезли, и..мокшие, бе..конечный, во..ходит, ни..ходи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Book Antiqua"/>
              </a:rPr>
              <a:t>Орфограммы в приставк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2920" y="1285560"/>
            <a:ext cx="8858160" cy="507204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ноязычные приставк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нф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, ульт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, экст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инфр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расный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ультр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фиолетовый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экстр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рдинарны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68706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Book Antiqua"/>
              </a:rPr>
              <a:t>Орфограммы в приставк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2920" y="12855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. Согласные на конце пристав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От-, над-, под-, пред-, об-, с-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шутся всегда одинаков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тдельную группу составляют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риставки на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З-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оязычных приставках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дез-  (дес-), диз-(дис-), экз-(экс-)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уква 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З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ишется только перед гласным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646b86"/>
                </a:solidFill>
                <a:latin typeface="Georgia"/>
              </a:rPr>
              <a:t>       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Дез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ганизация, 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дис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г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рмония,   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экс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к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р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2920" y="114300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</a:rPr>
              <a:t>АЛГОРИТ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. ПРИСТАВКА НА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 – С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ЕСЛИ НЕТ, ПИШИТЕ НЕЗАВИСИМО ОТ ФОНЕТИЧЕСКОЙ ПОЗИЦИИ В СЛОВ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ЕСЛИ НА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 – С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ЕД ГЛАСНЫМ И ЗВОНКИМ СОГЛАСНЫМ –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ЕД ГЛУХИМ СОГЛАСНЫМ –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Book Antiqua"/>
              </a:rPr>
              <a:t>Орфограммы в приставк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2920" y="152280"/>
            <a:ext cx="885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Гласные в приставках ПРЕ- и ПРИ-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ПРЕ- 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               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 ПРИ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= очень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присоедин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= пере-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приближ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лиз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полное     действ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700" spc="-1" strike="noStrike">
                <a:solidFill>
                  <a:srgbClr val="c00000"/>
                </a:solidFill>
                <a:latin typeface="Georgia"/>
              </a:rPr>
              <a:t>Примечание!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тобы проверить приставку ПРЕ- заменой на приставку ПЕРЕ-, можно подобрать слово с другим корнем. Например: дожд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ратился – дожд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пер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а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Исключ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24000" y="620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Слова, в которых трудно установить значение приставки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вратности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знаки 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инания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словутый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смыкаться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стол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имущество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646b86"/>
                </a:solidFill>
                <a:latin typeface="Georgia"/>
              </a:rPr>
              <a:t>Исключен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1320" indent="-571320" algn="just">
              <a:spcBef>
                <a:spcPts val="10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Иноязычные слова с традиционным написанием приставок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571320" indent="-57132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3600" spc="-1" strike="noStrike">
                <a:solidFill>
                  <a:srgbClr val="646b86"/>
                </a:solidFill>
                <a:latin typeface="Georgia"/>
              </a:rPr>
              <a:t>ПРЕ-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71320" indent="-57132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еамбула, превалировать, презент, президент, президиум, прелюдия, премьера, престиж, препарат, препоны, прерогативы, претендент, претензия, преферанс, прецедент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71320" indent="-57132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Исключ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95280" y="1285560"/>
            <a:ext cx="83534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ноязычные слова с традиционным написанием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-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78880" indent="-5788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78880" indent="-578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ватный,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вилегия,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мадонна,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мат, 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митив,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оритет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68709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мечани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57120" y="1000080"/>
            <a:ext cx="8353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тите внимание на омофоны, различающиеся приставками </a:t>
            </a: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ПР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ПРИ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42920" y="2071800"/>
          <a:ext cx="8858160" cy="4144680"/>
        </p:xfrm>
        <a:graphic>
          <a:graphicData uri="http://schemas.openxmlformats.org/drawingml/2006/table">
            <a:tbl>
              <a:tblPr/>
              <a:tblGrid>
                <a:gridCol w="4173480"/>
                <a:gridCol w="4684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ворить двер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ворить идеи в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упить к уч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упить зак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храбр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су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фор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друз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ывать поезд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ывать  в тос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одящие бо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одящие ц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нтить к пол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ентивное л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ел храм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ел мечт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5:03:44Z</dcterms:created>
  <dc:creator>mama</dc:creator>
  <dc:description/>
  <dc:language>en-US</dc:language>
  <cp:lastModifiedBy>Person</cp:lastModifiedBy>
  <dcterms:modified xsi:type="dcterms:W3CDTF">2011-12-04T14:57:04Z</dcterms:modified>
  <cp:revision>16</cp:revision>
  <dc:subject/>
  <dc:title>Орфограммы в приставках</dc:title>
</cp:coreProperties>
</file>