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F7BE5-C6DA-4DF5-8164-DB8A8F112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FEEEE-1BB6-4672-9012-685CD7E9A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75C55-C317-4328-98B6-9ECA1CC5F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9A31E-3F11-48CE-878D-61B7AB402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866D0-7F99-44A5-920A-28E4E5438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99E13-B132-4D9D-AA2F-DE33F2FA7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5289B-CD83-4BB1-9977-80ACBBC77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89E9C-9421-4770-B2DD-B370E1861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DA1EB-74B2-4986-A05B-C85E1834E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EE00F-F3A9-4A09-BF0E-84BFA4FC8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28D1C-1289-4CE0-A4EF-E20D3A73D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49A10-CBC2-43A6-B723-E257B816E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76017-5E85-4C8D-B782-8CEEE94FA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36681-6DA7-467D-BC85-5A9BAF85D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28105-C4DB-4079-B1FA-E75A02368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12018-EE30-407B-BA67-C807A1D49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D2C6A-FE83-4FC3-B5AA-2C1403D80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4E67B-4F06-4831-A7FC-8F817E40B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8D338-9619-4F6E-8109-1C02440DC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54066-9F65-49F2-89A8-DE035B0FA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EDA3C-CB6F-47FB-BB23-F04AF84AD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6C617-6898-4C56-908C-257101F2D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64389-78E3-4519-9936-A609D3EDC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B080B-C313-4A3D-8A56-B27E50854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A703E-7DF9-405B-A031-A8F0BE5DA3CE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8FD7F-EE7E-426B-A564-36BE0B75E72A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b9efee"/>
              </a:buClr>
              <a:buFont typeface="Garamond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ccff66"/>
              </a:buClr>
              <a:buFont typeface="Garamond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9efee"/>
                </a:solidFill>
                <a:latin typeface="Garamond"/>
              </a:rPr>
              <a:t>Особенности наследования леворукости на примере учащихся средней школы п.Усть-Баргузин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324480" cy="17524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ff"/>
                </a:solidFill>
                <a:latin typeface="Garamond"/>
              </a:rPr>
              <a:t>Выполнила: Добханова Анастасия ученица 9 «в» класс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ff"/>
                </a:solidFill>
                <a:latin typeface="Garamond"/>
              </a:rPr>
              <a:t>Руководитель: Фёдорова Е.Н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3" name=""/>
          <p:cNvGraphicFramePr/>
          <p:nvPr/>
        </p:nvGraphicFramePr>
        <p:xfrm>
          <a:off x="304920" y="228600"/>
          <a:ext cx="8458200" cy="6308640"/>
        </p:xfrm>
        <a:graphic>
          <a:graphicData uri="http://schemas.openxmlformats.org/drawingml/2006/table">
            <a:tbl>
              <a:tblPr/>
              <a:tblGrid>
                <a:gridCol w="1341360"/>
                <a:gridCol w="792000"/>
                <a:gridCol w="3417840"/>
                <a:gridCol w="1001880"/>
                <a:gridCol w="1905120"/>
              </a:tblGrid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од рожден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л-во левше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Леворукие родственники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л-во амбидекстров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одственники амбидекстры и левш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0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- отец2 – сестра матер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 – бабушка4-  мать, отец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- мать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---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0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---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---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0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 – сестра матер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- мать левш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 – бабушка 2 – мать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 - отец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---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99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- мать, отец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---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99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- мать, отец1-бабушк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 - отец2- мать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-мать левш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99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-отец (амбидекстр) 2 – мать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 - мать, отец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---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99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- мать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---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99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-брат  2 - отец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---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99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-отец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-сестра матери и дедушк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-мать амбидекстр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99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---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---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сего: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Леворукие матери – 2;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атери амбидекстры – 1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0" y="609120"/>
            <a:ext cx="822960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9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92% учащихся нашей школы являются правшами, 7% левшами и около 1% амбидекстрами;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У 11% левшей –леворукими являются их отцы, у 1% - отец амбидекстр, у 14% левшей – леворуки матери, 19% - оба родителя леворуки, 14% - другие родственники (братья, сестра, бабушки, дедушки и т.д.) и 40% левшей не имеют леворуких родственников левшей либо не помнят таковых.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2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9efee"/>
                </a:solidFill>
                <a:latin typeface="Garamond"/>
              </a:rPr>
              <a:t>2003 2002 2001 2000 1999 1998 1997 1996 1995 1994 1993</a:t>
            </a:r>
            <a:endParaRPr b="1" lang="en-US" sz="20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914400" y="1371600"/>
            <a:ext cx="7543800" cy="521964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199440" y="539640"/>
            <a:ext cx="859788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9efee"/>
                </a:solidFill>
                <a:latin typeface="Garamond"/>
              </a:rPr>
              <a:t>Динамика численности леворуких и амбидекстров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9efee"/>
                </a:solidFill>
                <a:latin typeface="Garamond"/>
              </a:rPr>
              <a:t>за 1993 по 2003 гг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aramond"/>
              </a:rPr>
              <a:t>2003 2002 2001 2000 1999 1998 1997 1996 1995 1994 1993</a:t>
            </a: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4000" spc="-1" strike="noStrike">
                <a:solidFill>
                  <a:srgbClr val="ffffff"/>
                </a:solidFill>
                <a:latin typeface="Garamond"/>
              </a:rPr>
              <a:t>данный график показывает, что с 1993 по 1998 гг. наблюдался рост численности леворуких детей, с 1998 по 2002 гг. – снижение, а в 2003 г. количество левшей снова возросло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По данным статистики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4000" spc="-1" strike="noStrike">
                <a:solidFill>
                  <a:srgbClr val="ffffff"/>
                </a:solidFill>
                <a:latin typeface="Garamond"/>
              </a:rPr>
              <a:t>на земле леворуких детей - 10 %, и прослеживается тенденция к увеличению их числа. Психологи убеждены, леворукость - не патология и не недостаток развития, а важнейшая индивидуальная особенность, которую должны учитывать родители и педагоги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ff"/>
                </a:solidFill>
                <a:latin typeface="Garamond"/>
              </a:rPr>
              <a:t>Выводы: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Исследования показали, что в Усть-Баргузинской школе обучается 7%  детей хорошо владеющих левой рукой и около 1% владеющих обеими руками в равной степени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Проведенные исследования позволили выявить, что в настоящее время имеется тенденция к увеличению количества леворуких детей, а следовательно есть необходимость проводить разъяснительные беседы с педагогами и родителями об особенностях таких детей и  методам их успешного обучения и воспитания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spcBef>
                <a:spcPts val="45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Невнимательное, а порой и пренебрежительное отношение к особенностям леворуких, к сожалению, встречается и сейчас. Это происходит отчасти потому, что педагоги не помогают левше с раннего детства раскрыть свой потенциал и легче адаптироваться к социуму. Если же не отворачиваться и тем более не пытаться переделывать на правый «нормальный» лад личность леворукого ребенка, а помочь ему развить присущие ему способности для более полной интеграции в общество в качестве его равноценного члена, можно достичь замечательного результата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252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533160"/>
            <a:ext cx="82296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 algn="just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Garamond"/>
              </a:rPr>
              <a:t>Актуальность работы: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тема работы актуальна и может представлять интерес, так как по имеющимся данным 70%  леворуких детей имеют трудности  школьного обучения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 algn="just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Garamond"/>
              </a:rPr>
              <a:t>Цель работы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: выявить соотношение правшей, левшей и амбидекстров в Усть-Баргузинской средней школе, для определения динамики численности леворуких в настоящее время, привлечь внимание к проблемам левшей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ff"/>
                </a:solidFill>
                <a:latin typeface="Garamond"/>
              </a:rPr>
              <a:t>Задачи: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Garamond"/>
              </a:rPr>
              <a:t>Изучить литературные данные о леворукости и леворуких детях;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Garamond"/>
              </a:rPr>
              <a:t>Провести анкетирование учащихся школы;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Garamond"/>
              </a:rPr>
              <a:t>Изучить анкетные данные, сделать анализ;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5040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ffff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45720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 u="sng">
                <a:solidFill>
                  <a:srgbClr val="ffccff"/>
                </a:solidFill>
                <a:uFillTx/>
                <a:latin typeface="Garamond"/>
              </a:rPr>
              <a:t>Объект исследования</a:t>
            </a:r>
            <a:r>
              <a:rPr b="0" lang="en-US" sz="4000" spc="-1" strike="noStrike">
                <a:solidFill>
                  <a:srgbClr val="ffccff"/>
                </a:solidFill>
                <a:latin typeface="Garamond"/>
              </a:rPr>
              <a:t>: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Arial Black"/>
              </a:rPr>
              <a:t>учащиеся школы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 u="sng">
                <a:solidFill>
                  <a:srgbClr val="ffccff"/>
                </a:solidFill>
                <a:uFillTx/>
                <a:latin typeface="Garamond"/>
              </a:rPr>
              <a:t>Предмет исследования</a:t>
            </a:r>
            <a:r>
              <a:rPr b="0" lang="en-US" sz="4000" spc="-1" strike="noStrike">
                <a:solidFill>
                  <a:srgbClr val="ffccff"/>
                </a:solidFill>
                <a:latin typeface="Garamond"/>
              </a:rPr>
              <a:t>: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Arial Black"/>
              </a:rPr>
              <a:t>Леворукость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588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b9efee"/>
                </a:solidFill>
                <a:uFillTx/>
                <a:latin typeface="Garamond"/>
              </a:rPr>
              <a:t>Практическая значимость</a:t>
            </a:r>
            <a:r>
              <a:rPr b="1" lang="ru-RU" sz="3200" spc="-1" strike="noStrike">
                <a:solidFill>
                  <a:srgbClr val="b9efee"/>
                </a:solidFill>
                <a:latin typeface="Garamond"/>
              </a:rPr>
              <a:t>: </a:t>
            </a:r>
            <a:br>
              <a:rPr sz="3200"/>
            </a:br>
            <a:r>
              <a:rPr b="0" lang="ru-RU" sz="3200" spc="-1" strike="noStrike">
                <a:solidFill>
                  <a:srgbClr val="b9efee"/>
                </a:solidFill>
                <a:latin typeface="Garamond"/>
              </a:rPr>
              <a:t>данная работа, позволит выяснить какой процент детей нашей школы являются леворукими, проследить имеется ли тенденция к увеличению числа леворуких детей на сегодняшнее время,  а также познакомит с особенностями леворуких людей, которые необходимо учитывать родителям и педагогам в процессе воспитания леворукого ребенка.</a:t>
            </a:r>
            <a:endParaRPr b="1" lang="en-US" sz="32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6324480"/>
            <a:ext cx="8229600" cy="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9520" bIns="295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381880" cy="57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b9efee"/>
                </a:solidFill>
                <a:latin typeface="Garamond"/>
              </a:rPr>
              <a:t>Леворукость </a:t>
            </a: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- преимущественное пользование левой рукой при выполнении различных действий. Сюда не относится вынужденная  леворукость вследствие перенесенных различных заболеваний.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9efee"/>
                </a:solidFill>
                <a:latin typeface="Garamond"/>
              </a:rPr>
              <a:t>Образец написания у леворуких детей</a:t>
            </a:r>
            <a:endParaRPr b="1" lang="en-US" sz="32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1600200" y="1905120"/>
            <a:ext cx="44956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ff"/>
                </a:solidFill>
                <a:latin typeface="Garamond"/>
              </a:rPr>
              <a:t>Образец почерка леворуких</a:t>
            </a:r>
            <a:endParaRPr b="1" lang="en-US" sz="3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457200" y="1447920"/>
            <a:ext cx="8229600" cy="45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9efee"/>
                </a:solidFill>
                <a:latin typeface="Garamond"/>
              </a:rPr>
              <a:t>Генетические аспекты леворукости.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рукость определяется действием одного гена, имеющего две различные формы (два аллеля): один аллель 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R - доминантный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, кодирует праворукость, второй 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l - рецессивный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, кодирует леворукость. Ребенок, унаследовавший аллели R от обоих родителей, будет праворуким, равно как и ребенок с генотипом 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Rl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(R- от одного из родителей, l - от другого). Леворукими будут дети с генотипом 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ll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, которые унаследовали аллель l от обоих родителей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BLACKEDITION</cp:lastModifiedBy>
  <dcterms:modified xsi:type="dcterms:W3CDTF">2010-12-15T04:37:54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