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FA5-77A9-42C4-8788-C063E4A1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95B-9220-447F-8626-8FEBBE8F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7D8-008E-4434-936C-ECFFECD1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D20-B289-4564-9DCC-51C7F197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AFD-2C10-422D-BD63-65F2AC50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10DA-0D4A-442A-9783-8F80D6B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EE7-9118-49CB-AF1F-E2E2294B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6049-9C05-4761-BC20-C0FB0E36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91B-791C-4E70-9792-F2F2F0F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2A1-AE2B-41F0-8666-0B90ED77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473C-7CDD-4196-8763-806093B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052-99FB-48F8-969F-105106DB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DC42-8ACE-4404-A81E-BA3420B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652-FDE9-4D6A-8547-B4A8BFFD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1A0-22AD-4B3C-A960-27ACE784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60E9-E9C2-4838-B36D-1927493E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AE5-8332-41B8-982E-61E5D007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428-F474-4D2F-8369-961FCC3D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53B-C6F6-4BB9-9FC3-ADF32D2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215-3AF7-4464-8A86-4E01180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58E-A3F6-405D-8567-2294F950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C9D-CE69-4EF9-88D3-39A339F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743-30A3-45F7-8724-E668E83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30C-8C49-40C1-B5A7-1C6B34E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C60-0690-4FC9-9E4E-74EC5D8BD5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517-7602-4F1F-BEB9-977DC24CF2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Особенности наследования леворукости на примере учащихся средней школы п.Усть-Баргузин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324480" cy="17524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Garamond"/>
              </a:rPr>
              <a:t>Выполнила: Добханова Анастасия ученица 9 «в» кла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Garamond"/>
              </a:rPr>
              <a:t>Руководитель: Фёдорова Е.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04920" y="228600"/>
          <a:ext cx="8458200" cy="6308640"/>
        </p:xfrm>
        <a:graphic>
          <a:graphicData uri="http://schemas.openxmlformats.org/drawingml/2006/table">
            <a:tbl>
              <a:tblPr/>
              <a:tblGrid>
                <a:gridCol w="1341360"/>
                <a:gridCol w="792000"/>
                <a:gridCol w="3417840"/>
                <a:gridCol w="1001880"/>
                <a:gridCol w="1905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ро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левш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рукие родственни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амбидекстр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ственники амбидекстры и лев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отец2 – сестра мате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бабушка4- 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сестра мате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 мать лев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бабушка 2 –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-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 мать, отец1-баб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- отец2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мать лев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отец (амбидекстр) 2 –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- мать,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 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брат  2 - 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от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сестра матери и дед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мать амбидекс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рукие матери – 2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 амбидекстры – 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92% учащихся нашей школы являются правшами, 7% левшами и около 1% амбидекстрами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 11% левшей –леворукими являются их отцы, у 1% - отец амбидекстр, у 14% левшей – леворуки матери, 19% - оба родителя леворуки, 14% - другие родственники (братья, сестра, бабушки, дедушки и т.д.) и 40% левшей не имеют леворуких родственников левшей либо не помнят таковых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2003 2002 2001 2000 1999 1998 1997 1996 1995 1994 1993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543800" cy="521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9440" y="539640"/>
            <a:ext cx="859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Динамика численности леворуких и амбидекст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за 1993 по 2003 г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2003 2002 2001 2000 1999 1998 1997 1996 1995 1994 1993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анный график показывает, что с 1993 по 1998 гг. наблюдался рост численности леворуких детей, с 1998 по 2002 гг. – снижение, а в 2003 г. количество левшей снова возросл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данным статист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а земле леворуких детей - 10 %, и прослеживается тенденция к увеличению их числа. Психологи убеждены, леворукость - не патология и не недостаток развития, а важнейшая индивидуальная особенность, которую должны учитывать родители и педагог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Garamond"/>
              </a:rPr>
              <a:t>Выводы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следования показали, что в Усть-Баргузинской школе обучается 7%  детей хорошо владеющих левой рукой и около 1% владеющих обеими руками в равной степ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ные исследования позволили выявить, что в настоящее время имеется тенденция к увеличению количества леворуких детей, а следовательно есть необходимость проводить разъяснительные беседы с педагогами и родителями об особенностях таких детей и  методам их успешного обучения и воспита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внимательное, а порой и пренебрежительное отношение к особенностям леворуких, к сожалению, встречается и сейчас. Это происходит отчасти потому, что педагоги не помогают левше с раннего детства раскрыть свой потенциал и легче адаптироваться к социуму. Если же не отворачиваться и тем более не пытаться переделывать на правый «нормальный» лад личность леворукого ребенка, а помочь ему развить присущие ему способности для более полной интеграции в общество в качестве его равноценного члена, можно достичь замечательного результа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Актуальность работы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ема работы актуальна и может представлять интерес, так как по имеющимся данным 70%  леворуких детей имеют трудности  школьного обуч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работ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выявить соотношение правшей, левшей и амбидекстров в Усть-Баргузинской средней школе, для определения динамики численности леворуких в настоящее время, привлечь внимание к проблемам левш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Garamond"/>
              </a:rPr>
              <a:t>Задач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Изучить литературные данные о леворукости и леворуких детях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Провести анкетирование учащихся школы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Garamond"/>
              </a:rPr>
              <a:t>Изучить анкетные данные, сделать анализ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ccff"/>
                </a:solidFill>
                <a:uFillTx/>
                <a:latin typeface="Garamond"/>
              </a:rPr>
              <a:t>Объект исследования</a:t>
            </a:r>
            <a:r>
              <a:rPr b="0" lang="en-US" sz="4000" spc="-1" strike="noStrike">
                <a:solidFill>
                  <a:srgbClr val="ffccff"/>
                </a:solidFill>
                <a:latin typeface="Garamond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учащиеся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ccff"/>
                </a:solidFill>
                <a:uFillTx/>
                <a:latin typeface="Garamond"/>
              </a:rPr>
              <a:t>Предмет исследования</a:t>
            </a:r>
            <a:r>
              <a:rPr b="0" lang="en-US" sz="4000" spc="-1" strike="noStrike">
                <a:solidFill>
                  <a:srgbClr val="ffcc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Леворук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9efee"/>
                </a:solidFill>
                <a:uFillTx/>
                <a:latin typeface="Garamond"/>
              </a:rPr>
              <a:t>Практическая значимость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данная работа, позволит выяснить какой процент детей нашей школы являются леворукими, проследить имеется ли тенденция к увеличению числа леворуких детей на сегодняшнее время,  а также познакомит с особенностями леворуких людей, которые необходимо учитывать родителям и педагогам в процессе воспитания леворукого ребенка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3244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9efee"/>
                </a:solidFill>
                <a:latin typeface="Garamond"/>
              </a:rPr>
              <a:t>Леворукость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- преимущественное пользование левой рукой при выполнении различных действий. Сюда не относится вынужденная  леворукость вследствие перенесенных различных заболеваний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бразец написания у леворуких дете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Garamond"/>
              </a:rPr>
              <a:t>Образец почерка леворуких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енетические аспекты леворукости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сть определяется действием одного гена, имеющего две различные формы (два аллеля): один аллель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R - доминантны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дирует праворукость, второй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l - рецессивны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дирует леворукость. Ребенок, унаследовавший аллели R от обоих родителей, будет праворуким, равно как и ребенок с генотипом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R- от одного из родителей, l - от другого). Леворукими будут дети с генотипом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l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которые унаследовали аллель l от обоих род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0-12-15T04:3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