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636-57EB-4294-A2A1-115DC60A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F03-6E14-465C-9CF8-A5AA9D5C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F9F-22B5-42CD-9DD1-CA6BA302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63A-6ED3-4BA4-B7FF-DCB7963E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5EF2-95B5-4819-9D3E-D496E1BF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9185-D102-42AC-8136-894E75F3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1AE7-847A-4108-9532-D5C140B3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EBFD-B589-470F-8774-5B1A12BE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1FAD-0B01-4B29-B4EE-66371C11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366C-FA5D-4B2A-A5FB-96A7F8EC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0D75-E279-48C0-BBB0-45184DC4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CA6-087C-4354-98E3-1AED7BCC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089A-B370-4823-8FB5-8453CF86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48CB-11C7-4633-AF86-EC53E07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6ADA-7824-4045-B1C0-F3077C0D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38C3-7CA7-4470-9931-DD976E2F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F0E0-9B92-4D8E-8DF6-F2A8D2E0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59C-3158-446E-92DC-77C12F97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926-6A5B-45A1-81B7-4CCB9183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C4A-17C8-4DF9-9319-41BA60F1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1E5-51D9-4457-9635-35228F50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E4E-AC51-4394-B8C1-CF5488F2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7EF-AD1C-455C-8E4B-29C7C73D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95F-C13E-4A85-8AC9-57E007FD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1BCD-F87F-40DB-AA38-10D2A7F68C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9550-83E2-45C7-B3DB-1C1A5AB5A8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1;&#1089;&#1089;&#1082;&#1080;&#1081;_&#1103;&#1079;&#1099;&#1082;" TargetMode="External"/><Relationship Id="rId2" Type="http://schemas.openxmlformats.org/officeDocument/2006/relationships/hyperlink" Target="http://ru.wikipedia.org/wiki/&#1044;&#1088;&#1077;&#1074;&#1085;&#1077;&#1088;&#1091;&#1089;&#1089;&#1082;&#1080;&#1081;_&#1103;&#1079;&#1099;&#1082;" TargetMode="External"/><Relationship Id="rId3" Type="http://schemas.openxmlformats.org/officeDocument/2006/relationships/hyperlink" Target="http://ru.wikipedia.org/wiki/&#1050;&#1085;&#1103;&#1079;&#1100;" TargetMode="External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9037" r="22437" b="321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3143160" y="2378160"/>
            <a:ext cx="28576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421080" cy="4103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788000" y="2421000"/>
            <a:ext cx="3456000" cy="2046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66080" y="54936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гер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3200" y="549360"/>
            <a:ext cx="13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фла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179280" y="5805360"/>
            <a:ext cx="468360" cy="289080"/>
          </a:xfrm>
          <a:prstGeom prst="leftArrow">
            <a:avLst>
              <a:gd name="adj1" fmla="val 50000"/>
              <a:gd name="adj2" fmla="val 405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51280" y="530064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гим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5280" y="-39600"/>
            <a:ext cx="845964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3458" t="20203" r="0" b="0"/>
          <a:stretch/>
        </p:blipFill>
        <p:spPr>
          <a:xfrm>
            <a:off x="2627280" y="2349360"/>
            <a:ext cx="4032360" cy="3129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94" name=""/>
          <p:cNvSpPr txBox="1"/>
          <p:nvPr/>
        </p:nvSpPr>
        <p:spPr>
          <a:xfrm>
            <a:off x="3132000" y="260280"/>
            <a:ext cx="25815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вропа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50320" y="1484280"/>
            <a:ext cx="16866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Север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65880" y="5805360"/>
            <a:ext cx="1340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Юж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5840" y="3645000"/>
            <a:ext cx="2297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Verdana"/>
              </a:rPr>
              <a:t>Центр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5840" y="3645000"/>
            <a:ext cx="1855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Восточ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зделимся на груп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верная Евро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ентральная Евро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Южная Евро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сточная Евро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пределить, какие страны будет исследовать групп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полнить листы путешествий по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план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оставить викторин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думать игр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812000" y="573408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звание государства, его столиц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траны-сосед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лава государств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осударственный флаг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осударственный язык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остопримечательност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нтересные фак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68360" y="5661000"/>
            <a:ext cx="718920" cy="36036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08000" y="2205000"/>
            <a:ext cx="52768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работу!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067280" y="4365720"/>
            <a:ext cx="14508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709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258920" y="2349360"/>
            <a:ext cx="704844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о политическая карта Европы</a:t>
            </a:r>
            <a:endParaRPr b="0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627280" y="3573360"/>
            <a:ext cx="33847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971640" y="2565360"/>
            <a:ext cx="74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чему карта разноцветная?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4365720"/>
            <a:ext cx="1139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0" r="23547" b="0"/>
          <a:stretch/>
        </p:blipFill>
        <p:spPr>
          <a:xfrm>
            <a:off x="4716360" y="2205000"/>
            <a:ext cx="4211640" cy="3159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2556000" y="404640"/>
            <a:ext cx="3324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узнаем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1773360"/>
            <a:ext cx="460872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траны Евро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ие страны являются ближайшими соседями наш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ие достопримечательности есть в каждой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рана (государство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«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государств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» в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русском язык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роисходит от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древнерусского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«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государ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» (так называли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князя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- правителя в древней Руси). «Г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осударств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» - владения «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государя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»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иболее древними известными государствами являются государства Древнего Востока (на территории современных Ирака, Египта, Индии, Китая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Страна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 — географическая территория, имеющая определенные границ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596360" y="5445000"/>
            <a:ext cx="1161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Что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 есть в каждом государств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раниц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Это линии раздела между территориями государств. Государство охраняет и защищает свои Государственные границ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Гла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государств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Президент        -Монар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Столиц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осударственный язы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Это язык, на котором говорит большинство населения стра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осударственные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символ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Герб      -гимн         - фла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остопримеча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>
            <a:hlinkClick r:id="rId5" action="ppaction://hlinksldjump"/>
          </p:cNvPr>
          <p:cNvSpPr/>
          <p:nvPr/>
        </p:nvSpPr>
        <p:spPr>
          <a:xfrm>
            <a:off x="7956720" y="6165720"/>
            <a:ext cx="544320" cy="341280"/>
          </a:xfrm>
          <a:prstGeom prst="rightArrow">
            <a:avLst>
              <a:gd name="adj1" fmla="val 50000"/>
              <a:gd name="adj2" fmla="val 3987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езидент В.В. Пут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395280" y="6093000"/>
            <a:ext cx="431640" cy="288720"/>
          </a:xfrm>
          <a:prstGeom prst="leftArrow">
            <a:avLst>
              <a:gd name="adj1" fmla="val 50000"/>
              <a:gd name="adj2" fmla="val 3737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264636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5067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564000" y="476280"/>
            <a:ext cx="181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сква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25360"/>
          </a:xfrm>
          <a:prstGeom prst="leftArrow">
            <a:avLst>
              <a:gd name="adj1" fmla="val 50000"/>
              <a:gd name="adj2" fmla="val 4788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5:41:31Z</dcterms:created>
  <dc:creator>1</dc:creator>
  <dc:description/>
  <dc:language>en-US</dc:language>
  <cp:lastModifiedBy>Admin</cp:lastModifiedBy>
  <dcterms:modified xsi:type="dcterms:W3CDTF">2013-03-03T13:41:47Z</dcterms:modified>
  <cp:revision>41</cp:revision>
  <dc:subject/>
  <dc:title>Слайд 1</dc:title>
</cp:coreProperties>
</file>