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A6D-EE83-4B2F-8ACA-D9D59393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A28-A940-4F9E-8030-52320C64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9A7-C84F-4BA8-ABC2-B1388CD9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B6AC-C7C7-49B8-A91D-ED81D7CC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BF8-B397-458B-A9AB-66D49DA8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93B6-738E-4B8D-B2C4-72EDB25E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B67-6B79-4650-91F9-B5DAC2DC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9C8-C832-49C7-831A-7D53C81E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CFB-318C-44BA-BC6C-B6F0AE94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219-28BD-460E-9572-0E55B8EC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844-F5A1-4DFE-9C44-E5B7B7EA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242D-8CE2-49F8-BE20-348CCFE9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F26D-B109-47FC-9C69-78271B0DEA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CARKI6UKCAUCREILCA66V80KCAXP2EQNCAPFI5DQCAPYH380CA437WO4CA4P80GOCAHDZF2PCAHMPP9ECANGPCC9CA309XX3CATSBQSACA6XT0W1CA2W6VB5CAFWPVXWCA3TNSN9CAM3LRF1CA65SR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нспект открытого урока по ОБЖ в 5 классе «Деловая игра по правилам дорожного движения»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иготовила: Ефимова Светлана Александровн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читель физической культуры и ОБЖ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ОБУ Талаканская СОШ № 5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6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анспорт, работающий от электрич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4" descr="вфыв.JPG"/>
          <p:cNvPicPr/>
          <p:nvPr/>
        </p:nvPicPr>
        <p:blipFill>
          <a:blip r:embed="rId2"/>
          <a:stretch/>
        </p:blipFill>
        <p:spPr>
          <a:xfrm>
            <a:off x="6500880" y="5072040"/>
            <a:ext cx="2390760" cy="15145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мер телефона скорой помощ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4" descr="1275576686_pdd.jpg"/>
          <p:cNvPicPr/>
          <p:nvPr/>
        </p:nvPicPr>
        <p:blipFill>
          <a:blip r:embed="rId2"/>
          <a:stretch/>
        </p:blipFill>
        <p:spPr>
          <a:xfrm>
            <a:off x="642960" y="4286160"/>
            <a:ext cx="1806480" cy="2571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сто, где на время оставляют свой транспорт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1230821402_pdd.jpg"/>
          <p:cNvPicPr/>
          <p:nvPr/>
        </p:nvPicPr>
        <p:blipFill>
          <a:blip r:embed="rId2"/>
          <a:stretch/>
        </p:blipFill>
        <p:spPr>
          <a:xfrm>
            <a:off x="5786280" y="3965400"/>
            <a:ext cx="19288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9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ногоместный автомобиль для перевозки пассажи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4" descr="1280306047_2010-07-28_094546.jpg"/>
          <p:cNvPicPr/>
          <p:nvPr/>
        </p:nvPicPr>
        <p:blipFill>
          <a:blip r:embed="rId2"/>
          <a:stretch/>
        </p:blipFill>
        <p:spPr>
          <a:xfrm>
            <a:off x="5786280" y="4143240"/>
            <a:ext cx="3067200" cy="221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 страничка Азбуки – Проверочн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ждой команде предоставляется по 7 дорожных знаков, их нужно разместить на магнитном стенде  «Улица» и дать объясн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 Страничка Азбуки  - Транспортн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сказать, какие правила поведения в общественном транспорте должен знать каждый пассажир. (Какая команда больше правил назовет.) - жетон дается только той команде, которая даст больше правильных ответов на этот в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ьные отв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бус нужно ожидать только на автобусной площад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адка только при полной остановке транспор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спеши сразу сесть, помни, что кроме тебя есть старики, женщины с маленькими детьми, инвали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льзя шуметь, громко разговаривать, мусо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прислоняться к двер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высовываться из ок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 Станция Азбуки  « Разгадай кроссворд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785880"/>
            <a:ext cx="36147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Водители – лихачи очень любят его соверш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 Трехглазый посто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 Самые строгие дорожные зна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 Дорожка вдоль дороги, не для маши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 Это случается с теми, кто не соблюдает правила дорожного движ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 Пешеходный переход по-другом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 Самое опасное место для пешеход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Это “говорит” желтый свет светофо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 Часть автомобиля, под которую попадает разин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 Его боятся нарушители прави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 В него попадает зазевавшийся водите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http://festival.1september.ru/articles/514270/img2.jpg"/>
          <p:cNvPicPr/>
          <p:nvPr/>
        </p:nvPicPr>
        <p:blipFill>
          <a:blip r:embed="rId2"/>
          <a:stretch/>
        </p:blipFill>
        <p:spPr>
          <a:xfrm>
            <a:off x="4032360" y="3000240"/>
            <a:ext cx="4924440" cy="2643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исовать в рабочей тетради те дорожные знаки, которые вам встречаются по пути из дома в школу. Их необходимо раскрасить и дать поясн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4" descr="1275576686_pdd.jpg"/>
          <p:cNvPicPr/>
          <p:nvPr/>
        </p:nvPicPr>
        <p:blipFill>
          <a:blip r:embed="rId2"/>
          <a:stretch/>
        </p:blipFill>
        <p:spPr>
          <a:xfrm>
            <a:off x="6929280" y="4105440"/>
            <a:ext cx="1933560" cy="27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Попова Л.П. «Поурочные разработки по основам безопасности жизнедеятельности» 5 класс. – М.: ВАКО, 2008. – 240 с. – (В помощь школьному учителю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Шевченко Г.Н. «Основы безопасности жизнедеятельности: поурочные планы.» 5 клас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Волгоград: Учитель, 2007. – 115 с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Гальцова Е.А. Изучение правил дорожного движения: сценарии театрализованных занятий / - Волгоград: Учитель, 2007. – 89 с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Михайлов Л.А. Старостенко А.В. Основы безопасности жизнедеятельности: Методика обучения: 5 – 6 классы: Пособие для учителя. – СПб.: Изд-во РГПУ им. А.И.Герцена;, Изд-во «Союз», 2001. – 240 с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ние знаний по ПДД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навыки безопасного поведения на проезжей части, умение логически мыслить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культуру общения, способствующую созданию благоприятного психологического климата в коллективе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CARKI6UKCAUCREILCA66V80KCAXP2EQNCAPFI5DQCAPYH380CA437WO4CA4P80GOCAHDZF2PCAHMPP9ECANGPCC9CA309XX3CATSBQSACA6XT0W1CA2W6VB5CAFWPVXWCA3TNSN9CAM3LRF1CA65SR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пасибо за вним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страничка Азбуки – информацио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ы хотим проверить ваши знания о видах дорожных зна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за каждый правильно отгаданный знак, команда получает жетончик светофор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опросы задаются по очереди каждой коман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imgpreview.jpg"/>
          <p:cNvPicPr/>
          <p:nvPr/>
        </p:nvPicPr>
        <p:blipFill>
          <a:blip r:embed="rId2"/>
          <a:stretch/>
        </p:blipFill>
        <p:spPr>
          <a:xfrm>
            <a:off x="5929200" y="4857840"/>
            <a:ext cx="2643480" cy="1973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 страничка Азбуки – испытательная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ответить на вопрос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манда, которая первой подняла карточку, имеет право на отве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каждый правильный ответ команде дается светофори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pdd-000003718.jpg"/>
          <p:cNvPicPr/>
          <p:nvPr/>
        </p:nvPicPr>
        <p:blipFill>
          <a:blip r:embed="rId2"/>
          <a:stretch/>
        </p:blipFill>
        <p:spPr>
          <a:xfrm>
            <a:off x="214200" y="471492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езжая часть дороги с твердым покрыти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pdd-000004928.jpg"/>
          <p:cNvPicPr/>
          <p:nvPr/>
        </p:nvPicPr>
        <p:blipFill>
          <a:blip r:embed="rId2"/>
          <a:stretch/>
        </p:blipFill>
        <p:spPr>
          <a:xfrm>
            <a:off x="5357880" y="5000760"/>
            <a:ext cx="34416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ловек, едущий на транспор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аа.jpg"/>
          <p:cNvPicPr/>
          <p:nvPr/>
        </p:nvPicPr>
        <p:blipFill>
          <a:blip r:embed="rId2"/>
          <a:stretch/>
        </p:blipFill>
        <p:spPr>
          <a:xfrm>
            <a:off x="2786040" y="4572000"/>
            <a:ext cx="2806560" cy="2093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ловек, совершающий движение пешк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7" descr="pic.JPG"/>
          <p:cNvPicPr/>
          <p:nvPr/>
        </p:nvPicPr>
        <p:blipFill>
          <a:blip r:embed="rId2"/>
          <a:stretch/>
        </p:blipFill>
        <p:spPr>
          <a:xfrm>
            <a:off x="6072120" y="4786200"/>
            <a:ext cx="2390760" cy="16858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 бывает запрещающий, разрешающий, информационный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1326291911_logo.jpg"/>
          <p:cNvPicPr/>
          <p:nvPr/>
        </p:nvPicPr>
        <p:blipFill>
          <a:blip r:embed="rId2"/>
          <a:stretch/>
        </p:blipFill>
        <p:spPr>
          <a:xfrm>
            <a:off x="285840" y="457200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сто ожидания автоб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4" descr="1322777146_dtp_000.jpg"/>
          <p:cNvPicPr/>
          <p:nvPr/>
        </p:nvPicPr>
        <p:blipFill>
          <a:blip r:embed="rId2"/>
          <a:stretch/>
        </p:blipFill>
        <p:spPr>
          <a:xfrm>
            <a:off x="285840" y="3666960"/>
            <a:ext cx="2000160" cy="2857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6:11:38Z</dcterms:created>
  <dc:creator>Светуля</dc:creator>
  <dc:description/>
  <dc:language>en-US</dc:language>
  <cp:lastModifiedBy>Светуля</cp:lastModifiedBy>
  <dcterms:modified xsi:type="dcterms:W3CDTF">2013-02-10T02:47:48Z</dcterms:modified>
  <cp:revision>4</cp:revision>
  <dc:subject/>
  <dc:title>    Конспект открытого урока по ОБЖ в 5 классе «Деловая игра по правилам дорожного движения»    Приготовила: Ефимова Светлана Александровна Учитель физической культуры и ОБЖ  МОБУ Талаканская СОШ № 5   </dc:title>
</cp:coreProperties>
</file>