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dt" idx="4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ftr" idx="4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 type="sldNum" idx="4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0FBE4-EF74-4994-9619-23736A17983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2FD4F-8B6A-46FD-927F-86E71F244B05}" type="slidenum"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31A7-67D4-4601-90C1-3BA45F6D6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A2A5-E16E-4CAE-98B5-80C879E62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10B650-6B90-4872-9394-8A94B4F93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E3F25E-776B-4777-9CAA-E9AAEA471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042394-3125-4BF2-89DD-7BF70DFE0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D5F595-4385-4B49-8CE4-445495AE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3C8ED2-8480-46E5-B322-2D387536D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50752D-F458-43EE-A5F7-7161ED5B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0A25C9-5954-4DEA-965F-504D46D90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0629A8-7F25-4CF8-95B4-1C09550D1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8F7463-5C1B-47C4-8552-8F0154DEA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3D2B07-0408-45D7-81B5-A5AF1FB4E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D65C-1B2D-437F-97F2-CA5DE67B0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1EEE7B-3A47-40A2-9F78-A29F40C28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7E1C21-4724-4C3C-BCC3-54B0710CA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D8F9B3-221E-4E05-8007-F957F6D3D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E670D9-24C4-4CE0-BD2B-AAD940997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C9904F-B6FD-46C6-942B-F8F2688D5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5EB534-98AD-4253-9F6B-F7DB678FE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36545E-B8EA-42C0-B83E-EBF095B1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1D013F-6BC8-4D70-86BB-4BC38DBB5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3D1E86-B9BF-4D74-BFD3-CCAB338D1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252DE7-DF72-439A-A1AC-2BC4B839C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F2B2-A141-424A-B3B2-24594A687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AC0272-DAF1-4C46-B434-DD58B123E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F130D0-DF36-413F-ACC6-771D3CF53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8C9EBF-BC55-4FF9-9345-614213D7E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22733C-F1C5-45BA-A768-26B245CE1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EC0ED9-0F1C-429E-86ED-700FCC66C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9666F9-23E7-4FE4-8FCD-9EDAEF6B2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D5CA73-982E-4A60-AABB-6794A8A07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B6C1E3-CA54-406B-8338-FE03FEBF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90355C-D4B8-475B-A902-9658AE47E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F2A63B-5F37-4B53-888D-913D0398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79C0D-14E0-4F4F-B3C0-BC89567E1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E4F1B1-8142-4395-9252-42F773BE5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161566-AB7B-407F-ABA4-C332AFBE5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4F2556-C281-49A9-B58A-E4D98E099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59B1E5-C451-4769-A465-D20441275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7286D4-78F4-47B0-96E4-8275F0062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2C35DD-7687-4211-B5BB-821A1E1F4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76B376-D3F6-458D-95C7-B8F709EA3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039D7D-FA90-4B79-8EE3-34A08803A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8858AE-1F03-411A-9B9B-EBB72318F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E37F3A-135A-48E2-8277-E9F7124B5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3A6CE-6764-4485-AF8C-7D048A6C6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60D7F9-A601-46B2-A7F9-82B663A93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A1960C-5222-4157-A5EB-A9E06B52E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3CECB3-079D-4F17-8628-6155F8423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0BCB5B-1C79-46E9-A2D0-745CEB5FE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55B18F-9EE1-486C-8165-467E99CEE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E37480-746F-4826-9A7D-7ED93EBF1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DCA1A9-C616-4047-8FC8-6B99EBC1F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C73145-7806-4BA8-BD66-CCED59846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38BF87-EE2E-4BEE-80A5-FF0B82D4B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48C3C9-805E-4B20-9981-90934990F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50476-57B2-4B61-8EA1-9F8B32DA5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6AB7D4-0946-4CEF-9694-A4E613FFC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4DE845-4613-4946-8D38-46F8F6CB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94F725-A4F7-47C9-9462-45F6B380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3FE5C5-A59B-42A8-B127-468E3C733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46B231-07C7-4B87-8851-3B61CDC57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79A30C-12DE-4E8E-9CBC-44DDD12CB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353DB0-A917-4E34-B036-B3132F483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A88B2-32AD-40D1-8BCB-E351372F0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45574-F940-44D0-80F5-4AB700AE2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8CBAA-DDEC-44BF-AE2B-250836456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F707C-0409-453D-966F-CF67A1A5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0C9E-D40D-4571-A382-28FF685ED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AC158-EC6F-4D23-BF2F-CB1C67243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E3A55-D9EB-44E5-B49D-57D14C78A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0BC6B-9766-4D98-846E-EF514B4FB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653AB-A818-448D-B6D4-32DDDEE0E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647E0-0D43-4F22-9A26-CD42D840F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314F3-F16C-4461-AB21-844A209D6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E2916-AE23-488C-86FE-116F7DBCB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54560-A3C0-40CF-83D6-ADC9B42E5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3F591-4BBF-4924-9459-0BB6EA942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C1B71-36C1-4D2B-A0DF-231DB858F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D976-B833-4EA7-8896-B254F642F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E6848-DF69-4F2E-B469-182F61DE5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20A38-AEF8-46BD-97F5-838DD76D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96E33-7762-461E-BDA1-A26F502B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B2E9C-CFBC-46B3-936E-D04833A0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47E4F-4C4F-4DF0-8C33-D416A8916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59AAA-CD22-42D3-AB85-FDC71DD3E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6DEE5-20CD-46E5-A18E-A5D671E84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4FECD-A62B-4915-B194-175BE318C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CD430-AB73-4283-9193-73346289E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A3640-2B3E-4534-874A-5C70117F8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8FF3-825F-4096-B980-C6BB70AA5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B4930-4C07-4995-8631-A4AC7E42A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7B312-A4B9-4DED-8364-7E96CF896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7DB2D-7081-496C-A698-73329758A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E06D3-7E05-4358-8F8C-E7D310546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A4AB5-4324-43C9-93BC-44DD04ED1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A97EC-234A-4AE5-B593-B21319607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EEC38-81BD-47B3-91D8-C9F296D61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F37C8-C147-40B8-97B0-E3E53156E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4BBB5-60BA-4A19-A943-BBD111B1B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419322-E9EC-4FC4-9562-233418110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4E0E-5B07-49BD-B660-E458AD39D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2C0F35-18ED-4170-A285-335CEDE89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7EEABB-9731-4F9A-BDEB-A9D3141D0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246BF-6521-47A6-AB87-79E8B4A92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53B5C-73B0-46F0-8FAE-332E52500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FAC40-7AFE-40FB-AAC8-932CD6A1B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E581D-1F41-48AB-A4BC-3E506D50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AB9B3E-24CA-49DE-B6EE-68E723C9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E095C-4AAA-48B9-A900-FF606BCE3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C00A5-31CA-4D0A-9E0E-B757025F5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0CD083-49FC-4816-8E48-1C92566E6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22C4-AD6D-4647-A326-CC325953B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437E6C-F576-4D32-ADBD-5FA7611A0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8A3056-C6B2-41FE-8C06-62DBBBB92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C6F83-5BEE-46A3-9489-C36A8C50C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17911-1564-4459-B73E-4DEBDE68A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E1FB84-689F-4F05-B597-873D3EABE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CBA209-E6FC-4E8F-B878-1D694EFB4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1FA884-AC35-41FD-BB40-CD725A85D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0E9EB4-774B-4CEF-ADD6-C1247D16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8AC357-C450-4443-A791-D15C1FF9C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706769-963D-4CDA-99AE-9FB71AC9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7F80-BD52-4378-BA4C-F07B2963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5CC028-A7D9-4638-9901-96E8B0ECA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A4B52E-7A05-432D-BD24-5B6CD5C45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AFDA9F-FA18-4B7F-9D70-BB3116420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4F36BA-9860-4629-B90C-357C8A260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8DE8F8-825B-41D2-9800-661C60774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880049-EED5-4CFA-B488-C8DA54259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30645E-16B2-476D-9431-ABCA9776D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660805-DE52-452B-8EE7-AF2D5BF17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5E20D6-1EC2-463F-BCD4-EFB74163D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83EE24-9FB9-409A-BA4C-138566B0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BA41-80E3-4EEA-997F-1CE7563BD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4BB2C8-4FEF-4906-A67D-0CD12CC2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4FE462-B7CC-4A94-BD1D-2DE57C585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488954-BCEB-41FF-B38D-72312AECF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EEEF28-513A-4791-943A-F744368EE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E1F2B0-B09F-46BB-BA23-BE4EAE535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20C702-386B-4638-ABCA-75E8DEC27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7CAC90-0FAA-4802-8468-DDEBB56BA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0615CF-CB98-451A-B08B-B53CB48D8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B29EAB-04CE-4A0D-BB01-B94E1D97D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9CC2FC-2A86-45FF-9411-B846F8609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42D8-2741-472B-A1D8-06E2A3CCE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05BABF-1C3F-47BE-9162-EDA5A739E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410761-FD2E-4E9D-B431-7FA7F792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7BD6CF-B5D6-425B-89A6-C816D907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3FB536-7D74-46D5-AF50-C87379BC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554C32-0791-4018-A664-75FF9BBFD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C11BE9-A920-4163-9093-CBDFF531D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D03B99-29A9-40DA-AEE6-236598D40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443237-D8F0-4011-8234-C6CB249D9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0F8CF7-D0B5-40E9-A57F-0E2060563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92A03D-EE84-4000-938E-4C2E2E6DD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0042D-B568-4B5B-B651-5876B21977F2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B6164-925A-40C8-A08A-BCB580BEE33C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79F96-1224-46CB-8C27-8743290F2B23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3F641-2E19-46D7-A554-D8B0C60ABFAC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BF49E-4630-4F5C-920B-1CC8BDABEBF7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90480" y="3340080"/>
            <a:ext cx="7653600" cy="485640"/>
          </a:xfrm>
          <a:custGeom>
            <a:avLst/>
            <a:gdLst>
              <a:gd name="textAreaLeft" fmla="*/ 0 w 7653600"/>
              <a:gd name="textAreaRight" fmla="*/ 7653960 w 765360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07B18-9376-48A6-94F2-3699ED08E1A3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B8214-CD24-4C74-BF29-EBC2A089A8ED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436BE-0D11-40F0-8E59-911CE21D894A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27BA3-F8E3-4AE6-A470-7BD587905404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500BF-E14A-480A-8A66-55D635016AD9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1C735-B49C-437E-BEC9-A21BC8AAD206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3AE20-C977-4F39-AAD5-16CF535A5025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B21C7-A7CD-4F15-94DE-5224D2C90B79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4c2b"/>
                </a:solidFill>
                <a:latin typeface="Times New Roman"/>
              </a:rPr>
              <a:t>МУНИЦИПАЛЬНОЕ  БЮДЖЕТНОЕ  ОБРАЗОВАТЕЛЬНОЕ УЧРЕЖДЕНИЕ </a:t>
            </a:r>
            <a:br>
              <a:rPr sz="1400"/>
            </a:br>
            <a:r>
              <a:rPr b="0" lang="ru-RU" sz="1400" spc="-1" strike="noStrike">
                <a:solidFill>
                  <a:srgbClr val="004c2b"/>
                </a:solidFill>
                <a:latin typeface="Times New Roman"/>
              </a:rPr>
              <a:t>СЫЧЕВСКАЯ  СРЕДНЯЯ  ОБЩЕОБРАЗОВАТЕЛЬНАЯ  ШКОЛА  №1</a:t>
            </a:r>
            <a:br>
              <a:rPr sz="1400"/>
            </a:br>
            <a:r>
              <a:rPr b="0" lang="ru-RU" sz="1400" spc="-1" strike="noStrike">
                <a:solidFill>
                  <a:srgbClr val="004c2b"/>
                </a:solidFill>
                <a:latin typeface="Times New Roman"/>
              </a:rPr>
              <a:t>Г. СЫЧЕВКИ  СМОЛЕНСКОЙ  ОБЛАСТИ </a:t>
            </a:r>
            <a:br>
              <a:rPr sz="1400"/>
            </a:b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213840" y="1071360"/>
            <a:ext cx="892980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marL="191880" indent="-191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Изготовление серии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191880" indent="-191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декоративных  панно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191880" indent="-191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«Смоленские зарисовки. Времена года»,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191880" indent="-191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выполненных в технике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191880" indent="-191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валяние из шерсти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191880" indent="-191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                                                                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Разработала: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marL="191880" indent="-191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                                                                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ученица  9Б класса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marL="191880" indent="-191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                                                               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Жукова Наталья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marL="191880" indent="-191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marL="191880" indent="-191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                                                               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Руководитель: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marL="191880" indent="-191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                                                               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учитель  технологии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marL="191880" indent="-191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                                                               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Ревва  Марина Викторовна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marL="191880" indent="-1918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Сычевка 2013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543" name="Picture 4" descr="DSCN0694"/>
          <p:cNvPicPr/>
          <p:nvPr/>
        </p:nvPicPr>
        <p:blipFill>
          <a:blip r:embed="rId1"/>
          <a:stretch/>
        </p:blipFill>
        <p:spPr>
          <a:xfrm>
            <a:off x="1143000" y="4143240"/>
            <a:ext cx="4827600" cy="177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77724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357120" y="285480"/>
            <a:ext cx="678672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В качестве изображения на  пейзаже будут достопримечательности  </a:t>
            </a:r>
            <a:br>
              <a:rPr sz="2000"/>
            </a:b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г. Смоленска. Ведь в таком красивом городе очень  много замечательных мест, которыми гордится город. Из архитектурных построек я выбрала сюжеты с изображением  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Успенского собора 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и 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Крепостной стены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, так  как  они являются  визитной  карточкой Смоленска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Из памятников я отдала предпочтение не скульптурным композициям, так как они будут трудны в исполнении, а памятникам, посвященным войне 1812года. Это 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памятники </a:t>
            </a: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«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Героям 1812года</a:t>
            </a: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»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 и 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Софийскому полку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indent="17784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613" name="Рисунок 25" descr="&amp;Ucy;&amp;mcy;&amp;iecy;&amp;ncy;&amp;softcy;&amp;shcy;&amp;icy;&amp;tcy;&amp;softcy;"/>
          <p:cNvPicPr/>
          <p:nvPr/>
        </p:nvPicPr>
        <p:blipFill>
          <a:blip r:embed="rId1"/>
          <a:stretch/>
        </p:blipFill>
        <p:spPr>
          <a:xfrm>
            <a:off x="785880" y="4214880"/>
            <a:ext cx="2805120" cy="2014560"/>
          </a:xfrm>
          <a:prstGeom prst="rect">
            <a:avLst/>
          </a:prstGeom>
          <a:ln w="0">
            <a:noFill/>
          </a:ln>
        </p:spPr>
      </p:pic>
      <p:pic>
        <p:nvPicPr>
          <p:cNvPr id="614" name="Рисунок 26" descr="&amp;Fcy;&amp;ocy;&amp;mcy;&amp;icy;&amp;ncy; &amp;Ncy;&amp;icy;&amp;kcy;&amp;icy;&amp;tcy;&amp;acy;. &amp;Scy;&amp;mcy;&amp;ocy;&amp;lcy;&amp;iecy;&amp;ncy;&amp;scy;&amp;kcy; &amp;vcy;&amp;iecy;&amp;scy;&amp;ncy;&amp;ocy;&amp;jcy;"/>
          <p:cNvPicPr/>
          <p:nvPr/>
        </p:nvPicPr>
        <p:blipFill>
          <a:blip r:embed="rId2"/>
          <a:stretch/>
        </p:blipFill>
        <p:spPr>
          <a:xfrm>
            <a:off x="6357960" y="3714840"/>
            <a:ext cx="2500200" cy="1871640"/>
          </a:xfrm>
          <a:prstGeom prst="rect">
            <a:avLst/>
          </a:prstGeom>
          <a:ln w="0">
            <a:noFill/>
          </a:ln>
        </p:spPr>
      </p:pic>
      <p:pic>
        <p:nvPicPr>
          <p:cNvPr id="615" name="Рисунок 27" descr="&amp;Dcy;&amp;iecy;&amp;ncy;&amp;icy;&amp;scy;&amp;ocy;&amp;vcy; &amp;Vcy;&amp;lcy;&amp;acy;&amp;dcy;&amp;icy;&amp;mcy;&amp;icy;&amp;rcy;. &amp;Bcy;&amp;acy;&amp;shcy;&amp;ncy;&amp;icy; &amp;Scy;&amp;mcy;&amp;ocy;&amp;lcy;&amp;iecy;&amp;ncy;&amp;scy;&amp;kcy;&amp;ocy;&amp;jcy; &amp;kcy;&amp;rcy;&amp;iecy;&amp;pcy;&amp;ocy;&amp;scy;&amp;tcy;&amp;ncy;&amp;ocy;&amp;jcy; &amp;scy;&amp;tcy;&amp;iecy;&amp;ncy;&amp;ycy;."/>
          <p:cNvPicPr/>
          <p:nvPr/>
        </p:nvPicPr>
        <p:blipFill>
          <a:blip r:embed="rId3"/>
          <a:stretch/>
        </p:blipFill>
        <p:spPr>
          <a:xfrm>
            <a:off x="3714840" y="4143240"/>
            <a:ext cx="2523960" cy="2067120"/>
          </a:xfrm>
          <a:prstGeom prst="rect">
            <a:avLst/>
          </a:prstGeom>
          <a:ln w="0">
            <a:noFill/>
          </a:ln>
        </p:spPr>
      </p:pic>
      <p:pic>
        <p:nvPicPr>
          <p:cNvPr id="616" name="Рисунок 28" descr="http://admin.smolensk.ru/history/kep/Smolensk/monuments/1812/eagles.jpg"/>
          <p:cNvPicPr/>
          <p:nvPr/>
        </p:nvPicPr>
        <p:blipFill>
          <a:blip r:embed="rId4"/>
          <a:stretch/>
        </p:blipFill>
        <p:spPr>
          <a:xfrm>
            <a:off x="7143840" y="785880"/>
            <a:ext cx="1643040" cy="242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8964720" cy="672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2980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4c2b"/>
                </a:solidFill>
                <a:latin typeface="Times New Roman"/>
              </a:rPr>
              <a:t>1. </a:t>
            </a:r>
            <a:r>
              <a:rPr b="1" i="1" lang="ru-RU" sz="2800" spc="-1" strike="noStrike">
                <a:solidFill>
                  <a:srgbClr val="004c2b"/>
                </a:solidFill>
                <a:latin typeface="Times New Roman"/>
              </a:rPr>
              <a:t>Обоснование возникшей проблемы и потребности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57120" y="999720"/>
            <a:ext cx="814392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Взявши однажды в руки маленький кусочек шерсти,  такой мягкий и теплый, с ним не расстанешься никогда. За полгода я попробовала разные техники валяния: мокрое и сухое, «шерстяную акварель», изготовила различные изделия (бусы, картины, игрушки). Но больше всего мне понравилось «писать» шерстью картины, они получаются такие воздушные, акварельные и теплые.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       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Узнав, что 2013 году г. Смоленск будет отмечать свое 1150-летие, я решила, что именно этой дате я посвящу свой проект. Смоленск очень тщательно готовится к празднованию, я хочу тоже внести частичку души в подготовку этого знаменательного  юбилея. Думаю, мои работы могут украсить  интерьер школы, детского садика, дома детского творчества г. Смоленска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356760" y="1071360"/>
            <a:ext cx="8101080" cy="192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789948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     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789948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547" name="Рисунок 2" descr="http://www.admin-smolensk.ru/%7Esmol1150/img/tape.png"/>
          <p:cNvPicPr/>
          <p:nvPr/>
        </p:nvPicPr>
        <p:blipFill>
          <a:blip r:embed="rId1"/>
          <a:stretch/>
        </p:blipFill>
        <p:spPr>
          <a:xfrm>
            <a:off x="706320" y="5425920"/>
            <a:ext cx="7731360" cy="541440"/>
          </a:xfrm>
          <a:prstGeom prst="rect">
            <a:avLst/>
          </a:prstGeom>
          <a:ln w="0">
            <a:noFill/>
          </a:ln>
        </p:spPr>
      </p:pic>
      <p:pic>
        <p:nvPicPr>
          <p:cNvPr id="548" name="Рисунок 1" descr="http://www.admin-smolensk.ru/%7Esmol1150/img/logo.png"/>
          <p:cNvPicPr/>
          <p:nvPr/>
        </p:nvPicPr>
        <p:blipFill>
          <a:blip r:embed="rId2"/>
          <a:stretch/>
        </p:blipFill>
        <p:spPr>
          <a:xfrm>
            <a:off x="3500280" y="5143680"/>
            <a:ext cx="2940120" cy="135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642600" y="571680"/>
            <a:ext cx="8001000" cy="589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3333"/>
                </a:solidFill>
                <a:uFillTx/>
                <a:latin typeface="Times New Roman"/>
              </a:rPr>
              <a:t>Цель проекта: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создание серии декоративных панно, выполненных в различных техниках  валяния из шерсти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3333"/>
                </a:solidFill>
                <a:uFillTx/>
                <a:latin typeface="Times New Roman"/>
              </a:rPr>
              <a:t>Задачи: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Познакомиться с  историей валяния из шерсти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Исследовать и проанализировать работы, выполненные в различных техниках валяния;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Разработать собственные эскизы декоративных панно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Пополнить багаж знаний по использованию шерсти в прикладном искусстве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Выполнить работу в различных техниках валяния, которая будет приносить радость и эстетическое наслаждение.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5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5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5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5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004c2b"/>
                </a:solidFill>
                <a:latin typeface="Times New Roman"/>
              </a:rPr>
              <a:t>2.Схема обдумывания</a:t>
            </a:r>
            <a:br>
              <a:rPr sz="2800"/>
            </a:b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51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552" name="Group 1"/>
          <p:cNvGrpSpPr/>
          <p:nvPr/>
        </p:nvGrpSpPr>
        <p:grpSpPr>
          <a:xfrm>
            <a:off x="642960" y="1022400"/>
            <a:ext cx="7929720" cy="5484600"/>
            <a:chOff x="642960" y="1022400"/>
            <a:chExt cx="7929720" cy="5484600"/>
          </a:xfrm>
        </p:grpSpPr>
        <p:sp>
          <p:nvSpPr>
            <p:cNvPr id="553" name="AutoShape 25"/>
            <p:cNvSpPr/>
            <p:nvPr/>
          </p:nvSpPr>
          <p:spPr>
            <a:xfrm>
              <a:off x="642960" y="1022400"/>
              <a:ext cx="7929720" cy="548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4" name="Oval 24"/>
            <p:cNvSpPr/>
            <p:nvPr/>
          </p:nvSpPr>
          <p:spPr>
            <a:xfrm>
              <a:off x="5935680" y="3844440"/>
              <a:ext cx="230436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bd4b4"/>
                </a:gs>
              </a:gsLst>
              <a:lin ang="5400000"/>
            </a:gradFill>
            <a:ln w="12600">
              <a:solidFill>
                <a:srgbClr val="fabf8f"/>
              </a:solidFill>
              <a:miter/>
            </a:ln>
            <a:effectLst>
              <a:outerShdw dist="17819" dir="2700000" blurRad="0" rotWithShape="0">
                <a:srgbClr val="97470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333333"/>
                  </a:solidFill>
                  <a:latin typeface="Times New Roman"/>
                  <a:ea typeface="Times New Roman"/>
                </a:rPr>
                <a:t>Материалы, инструменты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5" name="Oval 23"/>
            <p:cNvSpPr/>
            <p:nvPr/>
          </p:nvSpPr>
          <p:spPr>
            <a:xfrm>
              <a:off x="3365640" y="2840760"/>
              <a:ext cx="2349720" cy="1933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bd4b4"/>
                </a:gs>
              </a:gsLst>
              <a:lin ang="5400000"/>
            </a:gradFill>
            <a:ln w="12600">
              <a:solidFill>
                <a:srgbClr val="fabf8f"/>
              </a:solidFill>
              <a:miter/>
            </a:ln>
            <a:effectLst>
              <a:outerShdw dist="17819" dir="2700000" blurRad="0" rotWithShape="0">
                <a:srgbClr val="97470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333333"/>
                  </a:solidFill>
                  <a:latin typeface="Times New Roman"/>
                  <a:ea typeface="Times New Roman"/>
                </a:rPr>
                <a:t>Изделие, выполненное в технике валяния из шерсти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6" name="Oval 22"/>
            <p:cNvSpPr/>
            <p:nvPr/>
          </p:nvSpPr>
          <p:spPr>
            <a:xfrm>
              <a:off x="1050480" y="1890000"/>
              <a:ext cx="2210760" cy="587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bd4b4"/>
                </a:gs>
              </a:gsLst>
              <a:lin ang="5400000"/>
            </a:gradFill>
            <a:ln w="12600">
              <a:solidFill>
                <a:srgbClr val="fabf8f"/>
              </a:solidFill>
              <a:miter/>
            </a:ln>
            <a:effectLst>
              <a:outerShdw dist="17819" dir="2700000" blurRad="0" rotWithShape="0">
                <a:srgbClr val="97470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333333"/>
                  </a:solidFill>
                  <a:latin typeface="Times New Roman"/>
                  <a:ea typeface="Times New Roman"/>
                </a:rPr>
                <a:t>Самооценка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7" name="Oval 21"/>
            <p:cNvSpPr/>
            <p:nvPr/>
          </p:nvSpPr>
          <p:spPr>
            <a:xfrm>
              <a:off x="3900240" y="1022400"/>
              <a:ext cx="2987640" cy="988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bd4b4"/>
                </a:gs>
              </a:gsLst>
              <a:lin ang="5400000"/>
            </a:gradFill>
            <a:ln w="12600">
              <a:solidFill>
                <a:srgbClr val="fabf8f"/>
              </a:solidFill>
              <a:miter/>
            </a:ln>
            <a:effectLst>
              <a:outerShdw dist="17819" dir="2700000" blurRad="0" rotWithShape="0">
                <a:srgbClr val="97470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333333"/>
                  </a:solidFill>
                  <a:latin typeface="Times New Roman"/>
                  <a:ea typeface="Times New Roman"/>
                </a:rPr>
                <a:t>История и современность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8" name="Oval 20"/>
            <p:cNvSpPr/>
            <p:nvPr/>
          </p:nvSpPr>
          <p:spPr>
            <a:xfrm>
              <a:off x="6157800" y="1890000"/>
              <a:ext cx="1970640" cy="67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bd4b4"/>
                </a:gs>
              </a:gsLst>
              <a:lin ang="5400000"/>
            </a:gradFill>
            <a:ln w="12600">
              <a:solidFill>
                <a:srgbClr val="fabf8f"/>
              </a:solidFill>
              <a:miter/>
            </a:ln>
            <a:effectLst>
              <a:outerShdw dist="17819" dir="2700000" blurRad="0" rotWithShape="0">
                <a:srgbClr val="97470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333333"/>
                  </a:solidFill>
                  <a:latin typeface="Times New Roman"/>
                  <a:ea typeface="Times New Roman"/>
                </a:rPr>
                <a:t>Банк  идей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9" name="Oval 19"/>
            <p:cNvSpPr/>
            <p:nvPr/>
          </p:nvSpPr>
          <p:spPr>
            <a:xfrm>
              <a:off x="642960" y="3912840"/>
              <a:ext cx="2505960" cy="929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bd4b4"/>
                </a:gs>
              </a:gsLst>
              <a:lin ang="5400000"/>
            </a:gradFill>
            <a:ln w="12600">
              <a:solidFill>
                <a:srgbClr val="fabf8f"/>
              </a:solidFill>
              <a:miter/>
            </a:ln>
            <a:effectLst>
              <a:outerShdw dist="17819" dir="2700000" blurRad="0" rotWithShape="0">
                <a:srgbClr val="97470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333333"/>
                  </a:solidFill>
                  <a:latin typeface="Times New Roman"/>
                  <a:ea typeface="Times New Roman"/>
                </a:rPr>
                <a:t>Экономическое  обоснование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0" name="Oval 18"/>
            <p:cNvSpPr/>
            <p:nvPr/>
          </p:nvSpPr>
          <p:spPr>
            <a:xfrm>
              <a:off x="920160" y="5012640"/>
              <a:ext cx="2341080" cy="975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bd4b4"/>
                </a:gs>
              </a:gsLst>
              <a:lin ang="5400000"/>
            </a:gradFill>
            <a:ln w="12600">
              <a:solidFill>
                <a:srgbClr val="fabf8f"/>
              </a:solidFill>
              <a:miter/>
            </a:ln>
            <a:effectLst>
              <a:outerShdw dist="17819" dir="2700000" blurRad="0" rotWithShape="0">
                <a:srgbClr val="97470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333333"/>
                  </a:solidFill>
                  <a:latin typeface="Times New Roman"/>
                  <a:ea typeface="Times New Roman"/>
                </a:rPr>
                <a:t>Технология изготовления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1" name="Oval 17"/>
            <p:cNvSpPr/>
            <p:nvPr/>
          </p:nvSpPr>
          <p:spPr>
            <a:xfrm>
              <a:off x="3148920" y="5500080"/>
              <a:ext cx="2880360" cy="1006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bd4b4"/>
                </a:gs>
              </a:gsLst>
              <a:lin ang="5400000"/>
            </a:gradFill>
            <a:ln w="12600">
              <a:solidFill>
                <a:srgbClr val="fabf8f"/>
              </a:solidFill>
              <a:miter/>
            </a:ln>
            <a:effectLst>
              <a:outerShdw dist="17819" dir="2700000" blurRad="0" rotWithShape="0">
                <a:srgbClr val="97470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333333"/>
                  </a:solidFill>
                  <a:latin typeface="Times New Roman"/>
                  <a:ea typeface="Times New Roman"/>
                </a:rPr>
                <a:t>Правила техники безопасности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2" name="Oval 16"/>
            <p:cNvSpPr/>
            <p:nvPr/>
          </p:nvSpPr>
          <p:spPr>
            <a:xfrm>
              <a:off x="6585120" y="2837880"/>
              <a:ext cx="1542960" cy="705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bd4b4"/>
                </a:gs>
              </a:gsLst>
              <a:lin ang="5400000"/>
            </a:gradFill>
            <a:ln w="12600">
              <a:solidFill>
                <a:srgbClr val="fabf8f"/>
              </a:solidFill>
              <a:miter/>
            </a:ln>
            <a:effectLst>
              <a:outerShdw dist="17819" dir="2700000" blurRad="0" rotWithShape="0">
                <a:srgbClr val="97470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333333"/>
                  </a:solidFill>
                  <a:latin typeface="Times New Roman"/>
                  <a:ea typeface="Times New Roman"/>
                </a:rPr>
                <a:t>эскизы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cxnSp>
          <p:nvCxnSpPr>
            <p:cNvPr id="563" name="AutoShape 15"/>
            <p:cNvCxnSpPr/>
            <p:nvPr/>
          </p:nvCxnSpPr>
          <p:spPr>
            <a:xfrm flipV="1">
              <a:off x="4884120" y="2027880"/>
              <a:ext cx="261000" cy="830520"/>
            </a:xfrm>
            <a:prstGeom prst="straightConnector1">
              <a:avLst/>
            </a:prstGeom>
            <a:ln w="63360">
              <a:solidFill>
                <a:srgbClr val="c0504d"/>
              </a:solidFill>
              <a:miter/>
              <a:tailEnd len="med" type="triangle" w="med"/>
            </a:ln>
          </p:spPr>
        </p:cxnSp>
        <p:cxnSp>
          <p:nvCxnSpPr>
            <p:cNvPr id="564" name="AutoShape 14"/>
            <p:cNvCxnSpPr/>
            <p:nvPr/>
          </p:nvCxnSpPr>
          <p:spPr>
            <a:xfrm flipH="1" flipV="1">
              <a:off x="2976840" y="2365200"/>
              <a:ext cx="732600" cy="759240"/>
            </a:xfrm>
            <a:prstGeom prst="straightConnector1">
              <a:avLst/>
            </a:prstGeom>
            <a:ln w="63360">
              <a:solidFill>
                <a:srgbClr val="c0504d"/>
              </a:solidFill>
              <a:miter/>
              <a:tailEnd len="med" type="triangle" w="med"/>
            </a:ln>
          </p:spPr>
        </p:cxnSp>
        <p:cxnSp>
          <p:nvCxnSpPr>
            <p:cNvPr id="565" name="AutoShape 13"/>
            <p:cNvCxnSpPr/>
            <p:nvPr/>
          </p:nvCxnSpPr>
          <p:spPr>
            <a:xfrm flipH="1">
              <a:off x="2848320" y="4065120"/>
              <a:ext cx="564480" cy="257040"/>
            </a:xfrm>
            <a:prstGeom prst="straightConnector1">
              <a:avLst/>
            </a:prstGeom>
            <a:ln w="63360">
              <a:solidFill>
                <a:srgbClr val="c0504d"/>
              </a:solidFill>
              <a:miter/>
              <a:tailEnd len="med" type="triangle" w="med"/>
            </a:ln>
          </p:spPr>
        </p:cxnSp>
        <p:cxnSp>
          <p:nvCxnSpPr>
            <p:cNvPr id="566" name="AutoShape 12"/>
            <p:cNvCxnSpPr/>
            <p:nvPr/>
          </p:nvCxnSpPr>
          <p:spPr>
            <a:xfrm flipH="1">
              <a:off x="2918880" y="4491360"/>
              <a:ext cx="790560" cy="665640"/>
            </a:xfrm>
            <a:prstGeom prst="straightConnector1">
              <a:avLst/>
            </a:prstGeom>
            <a:ln w="63360">
              <a:solidFill>
                <a:srgbClr val="c0504d"/>
              </a:solidFill>
              <a:miter/>
              <a:tailEnd len="med" type="triangle" w="med"/>
            </a:ln>
          </p:spPr>
        </p:cxnSp>
        <p:cxnSp>
          <p:nvCxnSpPr>
            <p:cNvPr id="567" name="AutoShape 11"/>
            <p:cNvCxnSpPr/>
            <p:nvPr/>
          </p:nvCxnSpPr>
          <p:spPr>
            <a:xfrm>
              <a:off x="4540680" y="4774320"/>
              <a:ext cx="50040" cy="726480"/>
            </a:xfrm>
            <a:prstGeom prst="straightConnector1">
              <a:avLst/>
            </a:prstGeom>
            <a:ln w="63360">
              <a:solidFill>
                <a:srgbClr val="c0504d"/>
              </a:solidFill>
              <a:miter/>
              <a:tailEnd len="med" type="triangle" w="med"/>
            </a:ln>
          </p:spPr>
        </p:cxnSp>
        <p:cxnSp>
          <p:nvCxnSpPr>
            <p:cNvPr id="568" name="AutoShape 10"/>
            <p:cNvCxnSpPr/>
            <p:nvPr/>
          </p:nvCxnSpPr>
          <p:spPr>
            <a:xfrm>
              <a:off x="5828760" y="3827520"/>
              <a:ext cx="444960" cy="198000"/>
            </a:xfrm>
            <a:prstGeom prst="straightConnector1">
              <a:avLst/>
            </a:prstGeom>
            <a:ln w="63360">
              <a:solidFill>
                <a:srgbClr val="c0504d"/>
              </a:solidFill>
              <a:miter/>
              <a:tailEnd len="med" type="triangle" w="med"/>
            </a:ln>
          </p:spPr>
        </p:cxnSp>
        <p:cxnSp>
          <p:nvCxnSpPr>
            <p:cNvPr id="569" name="AutoShape 9"/>
            <p:cNvCxnSpPr/>
            <p:nvPr/>
          </p:nvCxnSpPr>
          <p:spPr>
            <a:xfrm flipV="1">
              <a:off x="5713920" y="3191040"/>
              <a:ext cx="783000" cy="352440"/>
            </a:xfrm>
            <a:prstGeom prst="straightConnector1">
              <a:avLst/>
            </a:prstGeom>
            <a:ln w="63360">
              <a:solidFill>
                <a:srgbClr val="c0504d"/>
              </a:solidFill>
              <a:miter/>
              <a:tailEnd len="med" type="triangle" w="med"/>
            </a:ln>
          </p:spPr>
        </p:cxnSp>
        <p:cxnSp>
          <p:nvCxnSpPr>
            <p:cNvPr id="570" name="AutoShape 8"/>
            <p:cNvCxnSpPr/>
            <p:nvPr/>
          </p:nvCxnSpPr>
          <p:spPr>
            <a:xfrm flipV="1">
              <a:off x="5370840" y="2462400"/>
              <a:ext cx="1077120" cy="662400"/>
            </a:xfrm>
            <a:prstGeom prst="straightConnector1">
              <a:avLst/>
            </a:prstGeom>
            <a:ln w="63360">
              <a:solidFill>
                <a:srgbClr val="c0504d"/>
              </a:solidFill>
              <a:miter/>
              <a:tailEnd len="med" type="triangle" w="med"/>
            </a:ln>
          </p:spPr>
        </p:cxnSp>
        <p:sp>
          <p:nvSpPr>
            <p:cNvPr id="571" name="Oval 7"/>
            <p:cNvSpPr/>
            <p:nvPr/>
          </p:nvSpPr>
          <p:spPr>
            <a:xfrm>
              <a:off x="1689120" y="1215360"/>
              <a:ext cx="2210760" cy="589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bd4b4"/>
                </a:gs>
              </a:gsLst>
              <a:lin ang="5400000"/>
            </a:gradFill>
            <a:ln w="12600">
              <a:solidFill>
                <a:srgbClr val="fabf8f"/>
              </a:solidFill>
              <a:miter/>
            </a:ln>
            <a:effectLst>
              <a:outerShdw dist="17819" dir="2700000" blurRad="0" rotWithShape="0">
                <a:srgbClr val="97470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333333"/>
                  </a:solidFill>
                  <a:latin typeface="Times New Roman"/>
                  <a:ea typeface="Times New Roman"/>
                </a:rPr>
                <a:t>Потребность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2" name="Oval 6"/>
            <p:cNvSpPr/>
            <p:nvPr/>
          </p:nvSpPr>
          <p:spPr>
            <a:xfrm>
              <a:off x="6029640" y="5158800"/>
              <a:ext cx="2210760" cy="829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bd4b4"/>
                </a:gs>
              </a:gsLst>
              <a:lin ang="5400000"/>
            </a:gradFill>
            <a:ln w="12600">
              <a:solidFill>
                <a:srgbClr val="fabf8f"/>
              </a:solidFill>
              <a:miter/>
            </a:ln>
            <a:effectLst>
              <a:outerShdw dist="17819" dir="2700000" blurRad="0" rotWithShape="0">
                <a:srgbClr val="97470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333333"/>
                  </a:solidFill>
                  <a:latin typeface="Times New Roman"/>
                  <a:ea typeface="Times New Roman"/>
                </a:rPr>
                <a:t>Требования к изделию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3" name="Oval 5"/>
            <p:cNvSpPr/>
            <p:nvPr/>
          </p:nvSpPr>
          <p:spPr>
            <a:xfrm>
              <a:off x="772920" y="2714760"/>
              <a:ext cx="2375640" cy="829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bd4b4"/>
                </a:gs>
              </a:gsLst>
              <a:lin ang="5400000"/>
            </a:gradFill>
            <a:ln w="12600">
              <a:solidFill>
                <a:srgbClr val="fabf8f"/>
              </a:solidFill>
              <a:miter/>
            </a:ln>
            <a:effectLst>
              <a:outerShdw dist="17819" dir="2700000" blurRad="0" rotWithShape="0">
                <a:srgbClr val="97470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333333"/>
                  </a:solidFill>
                  <a:latin typeface="Times New Roman"/>
                  <a:ea typeface="Times New Roman"/>
                </a:rPr>
                <a:t>Экологическое обоснование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cxnSp>
          <p:nvCxnSpPr>
            <p:cNvPr id="574" name="AutoShape 4"/>
            <p:cNvCxnSpPr/>
            <p:nvPr/>
          </p:nvCxnSpPr>
          <p:spPr>
            <a:xfrm>
              <a:off x="5419800" y="4622760"/>
              <a:ext cx="933480" cy="658080"/>
            </a:xfrm>
            <a:prstGeom prst="straightConnector1">
              <a:avLst/>
            </a:prstGeom>
            <a:ln w="63360">
              <a:solidFill>
                <a:srgbClr val="c0504d"/>
              </a:solidFill>
              <a:miter/>
              <a:tailEnd len="med" type="triangle" w="med"/>
            </a:ln>
          </p:spPr>
        </p:cxnSp>
        <p:cxnSp>
          <p:nvCxnSpPr>
            <p:cNvPr id="575" name="AutoShape 3"/>
            <p:cNvCxnSpPr/>
            <p:nvPr/>
          </p:nvCxnSpPr>
          <p:spPr>
            <a:xfrm flipH="1" flipV="1">
              <a:off x="2848320" y="3421800"/>
              <a:ext cx="516960" cy="387360"/>
            </a:xfrm>
            <a:prstGeom prst="straightConnector1">
              <a:avLst/>
            </a:prstGeom>
            <a:ln w="63360">
              <a:solidFill>
                <a:srgbClr val="c0504d"/>
              </a:solidFill>
              <a:miter/>
              <a:tailEnd len="med" type="triangle" w="med"/>
            </a:ln>
          </p:spPr>
        </p:cxnSp>
        <p:cxnSp>
          <p:nvCxnSpPr>
            <p:cNvPr id="576" name="AutoShape 2"/>
            <p:cNvCxnSpPr/>
            <p:nvPr/>
          </p:nvCxnSpPr>
          <p:spPr>
            <a:xfrm flipH="1" flipV="1">
              <a:off x="3574800" y="1718640"/>
              <a:ext cx="744120" cy="1140480"/>
            </a:xfrm>
            <a:prstGeom prst="straightConnector1">
              <a:avLst/>
            </a:prstGeom>
            <a:ln w="63360">
              <a:solidFill>
                <a:srgbClr val="c0504d"/>
              </a:solidFill>
              <a:miter/>
              <a:tailEnd len="med" type="triangle" w="med"/>
            </a:ln>
          </p:spPr>
        </p:cxnSp>
      </p:grp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99680" y="35676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4c2b"/>
                </a:solidFill>
                <a:latin typeface="Times New Roman"/>
              </a:rPr>
              <a:t>3. Выявление основных параметров и ограничений</a:t>
            </a:r>
            <a:br>
              <a:rPr sz="2800"/>
            </a:b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642960" y="1071360"/>
            <a:ext cx="777240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        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Работа должна отвечать следующим требованиям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Изделие должно быть  выполнено качественно, аккуратно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Изделие должно соответствовать выбранной модели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Возникающие дефекты должны быть устранены в процессе работы над изделием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Изделие должно быть оригинальным и  красивым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Изделие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должно быть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прочным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Изделие должно быть экологически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чистым  и иметь низкую себестоимость. 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579" name="Рисунок 6" descr="http://ekosaj.narod.ru/p94/i0125rp.jpg"/>
          <p:cNvPicPr/>
          <p:nvPr/>
        </p:nvPicPr>
        <p:blipFill>
          <a:blip r:embed="rId1"/>
          <a:stretch/>
        </p:blipFill>
        <p:spPr>
          <a:xfrm>
            <a:off x="5786280" y="3857760"/>
            <a:ext cx="2689560" cy="2143080"/>
          </a:xfrm>
          <a:prstGeom prst="rect">
            <a:avLst/>
          </a:prstGeom>
          <a:ln w="57240">
            <a:solidFill>
              <a:srgbClr val="ddd8c2"/>
            </a:solidFill>
            <a:miter/>
          </a:ln>
        </p:spPr>
      </p:pic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5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5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5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5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5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5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5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5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5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1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4c2b"/>
                </a:solidFill>
                <a:latin typeface="Times New Roman"/>
              </a:rPr>
              <a:t>4. История и современность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142920" y="1285920"/>
            <a:ext cx="857232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763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Валяние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- самая древняя техника изготовления текстиля на Земле.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763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Археологи датируют возникновение первых валяных изделий 8000 летним возрастом.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763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Древние люди начинали валять из найденной шерсти диких животных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763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И только потом они научились прясть, вязать и изготавливать ткани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763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Кочевники были первыми людьми, оценившими уникальные свойства войлока. Они делали из шерсти дома, одежду, предметы интерьера, скотоводческое снаряжение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582" name="Рисунок 1" descr="http://www.citycelebrity.ru/uploads/Slippers.jpg"/>
          <p:cNvPicPr/>
          <p:nvPr/>
        </p:nvPicPr>
        <p:blipFill>
          <a:blip r:embed="rId1"/>
          <a:stretch/>
        </p:blipFill>
        <p:spPr>
          <a:xfrm>
            <a:off x="6286680" y="4357800"/>
            <a:ext cx="2357280" cy="177012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3" descr="&amp;shcy;&amp;iecy;&amp;rcy;&amp;scy;&amp;tcy;&amp;softcy; &amp;dcy;&amp;lcy;&amp;yacy; &amp;vcy;&amp;acy;&amp;lcy;&amp;yacy;&amp;ncy;&amp;icy;&amp;yacy;"/>
          <p:cNvPicPr/>
          <p:nvPr/>
        </p:nvPicPr>
        <p:blipFill>
          <a:blip r:embed="rId2"/>
          <a:stretch/>
        </p:blipFill>
        <p:spPr>
          <a:xfrm rot="16200000">
            <a:off x="304560" y="3766680"/>
            <a:ext cx="2884680" cy="192240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4" descr="Original 500BC saddle pad"/>
          <p:cNvPicPr/>
          <p:nvPr/>
        </p:nvPicPr>
        <p:blipFill>
          <a:blip r:embed="rId3"/>
          <a:stretch/>
        </p:blipFill>
        <p:spPr>
          <a:xfrm>
            <a:off x="3214800" y="4357800"/>
            <a:ext cx="2541600" cy="178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4c2b"/>
                </a:solidFill>
                <a:latin typeface="Times New Roman"/>
              </a:rPr>
              <a:t>Традиции валяния в России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571680" y="1000080"/>
            <a:ext cx="792936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Особенно глубоки традиции валяния в Азии, России, Финляндии и Перу. Пожалуй, нет ни одного народа в мире, который с древнейших времен не создавал бы в этой технике множество удобных и полезных вещей для жизни.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Россия имеет собственные традиции в искусстве валяния. У нас валяные  бурки, кошмы, шляпы, ковры делали из овечьей шерсти с помощью, так называемых, шерстобит или шаповал. Но больше всего прославилась  теплая и удобная русская обувь — валенки, которые изготавливают непосредственно валянием, смачивая шерсть горячим паром и натягивая на специальные колодки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587" name="Picture 2" descr="http://dlm3.meta.ua/pic/0/55/49/4uwrDX15Vy.jpg"/>
          <p:cNvPicPr/>
          <p:nvPr/>
        </p:nvPicPr>
        <p:blipFill>
          <a:blip r:embed="rId1"/>
          <a:stretch/>
        </p:blipFill>
        <p:spPr>
          <a:xfrm>
            <a:off x="642960" y="4214880"/>
            <a:ext cx="3129120" cy="204948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8" descr="http://hobby21.ru/_ph/15/672363785.jpg"/>
          <p:cNvPicPr/>
          <p:nvPr/>
        </p:nvPicPr>
        <p:blipFill>
          <a:blip r:embed="rId2"/>
          <a:stretch/>
        </p:blipFill>
        <p:spPr>
          <a:xfrm>
            <a:off x="3929040" y="4357800"/>
            <a:ext cx="2071800" cy="177804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4" descr="http://www.valenki-uyut.ru/data/valenok/IMG_0651_k__.jpg"/>
          <p:cNvPicPr/>
          <p:nvPr/>
        </p:nvPicPr>
        <p:blipFill>
          <a:blip r:embed="rId3"/>
          <a:stretch/>
        </p:blipFill>
        <p:spPr>
          <a:xfrm>
            <a:off x="5786280" y="4143240"/>
            <a:ext cx="2630520" cy="212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6" descr="http://img-fotki.yandex.ru/get/13/matilda-mokko.5/0_4495a_703f44d_XL"/>
          <p:cNvPicPr/>
          <p:nvPr/>
        </p:nvPicPr>
        <p:blipFill>
          <a:blip r:embed="rId1"/>
          <a:stretch/>
        </p:blipFill>
        <p:spPr>
          <a:xfrm>
            <a:off x="6715080" y="4143240"/>
            <a:ext cx="1792440" cy="2016360"/>
          </a:xfrm>
          <a:prstGeom prst="rect">
            <a:avLst/>
          </a:prstGeom>
          <a:ln w="0">
            <a:noFill/>
          </a:ln>
        </p:spPr>
      </p:pic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4c2b"/>
                </a:solidFill>
                <a:latin typeface="Times New Roman"/>
              </a:rPr>
              <a:t>                 </a:t>
            </a:r>
            <a:r>
              <a:rPr b="1" i="1" lang="ru-RU" sz="2800" spc="-1" strike="noStrike">
                <a:solidFill>
                  <a:srgbClr val="004c2b"/>
                </a:solidFill>
                <a:latin typeface="Times New Roman"/>
              </a:rPr>
              <a:t>Валяние сегодня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685800" y="1285560"/>
            <a:ext cx="777240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292040" indent="-84960" algn="just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В последние десятилетия увлечение валянием  охватило весь мир!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1292040" indent="-84960" algn="just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0" i="1" lang="ru-RU" sz="2000" spc="-1" strike="noStrike" u="sng">
                <a:solidFill>
                  <a:srgbClr val="333333"/>
                </a:solidFill>
                <a:uFillTx/>
                <a:latin typeface="Times New Roman"/>
              </a:rPr>
              <a:t>Сегодня 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войлоковаляние превратилось в интересную форму художественного самовыражения.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1292040" indent="-84960" algn="just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Художники по войлоку умудряются даже изобретать новые приемы валяния шерсти.   Уже давно в моде войлочные аксессуары и украшения из войлока, одежда, войлочные картины и игрушки. Неожиданными становятся сочетания войлока с керамикой, металлом, стеклом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1292040" indent="-84960" algn="just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593" name="Picture 4" descr="http://air-uc.at.ua/valjanie/313_4645c_xe01008f6.jpg"/>
          <p:cNvPicPr/>
          <p:nvPr/>
        </p:nvPicPr>
        <p:blipFill>
          <a:blip r:embed="rId2"/>
          <a:stretch/>
        </p:blipFill>
        <p:spPr>
          <a:xfrm>
            <a:off x="785880" y="785880"/>
            <a:ext cx="1311120" cy="153504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8" descr="http://www.livemaster.ru/item/mfoto681645.jpg"/>
          <p:cNvPicPr/>
          <p:nvPr/>
        </p:nvPicPr>
        <p:blipFill>
          <a:blip r:embed="rId3"/>
          <a:stretch/>
        </p:blipFill>
        <p:spPr>
          <a:xfrm>
            <a:off x="5214960" y="4071960"/>
            <a:ext cx="1635120" cy="217800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10" descr="http://drimm.ru/images/blog/valyanie-ulia-kazakova/valyanie-ulia-kazakova-5.jpg"/>
          <p:cNvPicPr/>
          <p:nvPr/>
        </p:nvPicPr>
        <p:blipFill>
          <a:blip r:embed="rId4"/>
          <a:stretch/>
        </p:blipFill>
        <p:spPr>
          <a:xfrm>
            <a:off x="3071880" y="4286160"/>
            <a:ext cx="2214360" cy="150012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2" descr="http://happy-hobby.ru/published/publicdata/SHOP/attachments/SC/products_pictures/7a0_enl.jpg"/>
          <p:cNvPicPr/>
          <p:nvPr/>
        </p:nvPicPr>
        <p:blipFill>
          <a:blip r:embed="rId5"/>
          <a:stretch/>
        </p:blipFill>
        <p:spPr>
          <a:xfrm>
            <a:off x="714240" y="4429080"/>
            <a:ext cx="2527560" cy="1911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356760"/>
            <a:ext cx="7772400" cy="50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4c2b"/>
                </a:solidFill>
                <a:latin typeface="Times New Roman"/>
              </a:rPr>
              <a:t>5. Банк  идей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642960" y="785880"/>
            <a:ext cx="7772400" cy="42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В  процессе  сбора  информации  был  рассмотрен  ряд  вариантов: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333333"/>
                </a:solidFill>
                <a:uFillTx/>
                <a:latin typeface="Times New Roman"/>
              </a:rPr>
              <a:t>1.Сельский пейзаж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599" name="Picture 2" descr="http://s017.radikal.ru/i407/1112/05/3d25fdae4fcd.jpg"/>
          <p:cNvPicPr/>
          <p:nvPr/>
        </p:nvPicPr>
        <p:blipFill>
          <a:blip r:embed="rId1"/>
          <a:stretch/>
        </p:blipFill>
        <p:spPr>
          <a:xfrm>
            <a:off x="857160" y="1714680"/>
            <a:ext cx="1771920" cy="1500120"/>
          </a:xfrm>
          <a:prstGeom prst="rect">
            <a:avLst/>
          </a:prstGeom>
          <a:ln w="76320">
            <a:solidFill>
              <a:srgbClr val="548dd4"/>
            </a:solidFill>
            <a:miter/>
          </a:ln>
        </p:spPr>
      </p:pic>
      <p:pic>
        <p:nvPicPr>
          <p:cNvPr id="600" name="Рисунок 8" descr="http://www.gift-butik.ru/voil/7_.jpg"/>
          <p:cNvPicPr/>
          <p:nvPr/>
        </p:nvPicPr>
        <p:blipFill>
          <a:blip r:embed="rId2"/>
          <a:stretch/>
        </p:blipFill>
        <p:spPr>
          <a:xfrm>
            <a:off x="3571920" y="1571760"/>
            <a:ext cx="2071800" cy="1614240"/>
          </a:xfrm>
          <a:prstGeom prst="rect">
            <a:avLst/>
          </a:prstGeom>
          <a:ln w="57240">
            <a:solidFill>
              <a:srgbClr val="fabf8f"/>
            </a:solidFill>
            <a:miter/>
          </a:ln>
        </p:spPr>
      </p:pic>
      <p:pic>
        <p:nvPicPr>
          <p:cNvPr id="601" name="Рисунок 11" descr="http://www.vishivka-igolochka.ru/images/product_images/info_images/5324_0.jpg"/>
          <p:cNvPicPr/>
          <p:nvPr/>
        </p:nvPicPr>
        <p:blipFill>
          <a:blip r:embed="rId3"/>
          <a:stretch/>
        </p:blipFill>
        <p:spPr>
          <a:xfrm>
            <a:off x="6215040" y="1357200"/>
            <a:ext cx="1785960" cy="1851120"/>
          </a:xfrm>
          <a:prstGeom prst="rect">
            <a:avLst/>
          </a:prstGeom>
          <a:ln w="0">
            <a:noFill/>
          </a:ln>
        </p:spPr>
      </p:pic>
      <p:sp>
        <p:nvSpPr>
          <p:cNvPr id="602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3" name="Rectangle 6"/>
          <p:cNvSpPr/>
          <p:nvPr/>
        </p:nvSpPr>
        <p:spPr>
          <a:xfrm>
            <a:off x="0" y="914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4" name="Rectangle 7"/>
          <p:cNvSpPr/>
          <p:nvPr/>
        </p:nvSpPr>
        <p:spPr>
          <a:xfrm>
            <a:off x="142920" y="1653480"/>
            <a:ext cx="8236080" cy="20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2610000"/>
                <a:tab algn="l" pos="4419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       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610000"/>
                <a:tab algn="l" pos="4419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610000"/>
                <a:tab algn="l" pos="4419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610000"/>
                <a:tab algn="l" pos="4419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610000"/>
                <a:tab algn="l" pos="4419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610000"/>
                <a:tab algn="l" pos="4419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610000"/>
                <a:tab algn="l" pos="4419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610000"/>
                <a:tab algn="l" pos="4419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610000"/>
                <a:tab algn="l" pos="4419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610000"/>
                <a:tab algn="l" pos="4419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Поля, луга                            Реки, озера                    Полянки, ручейки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605" name="Рисунок 3" descr="Untitled"/>
          <p:cNvPicPr/>
          <p:nvPr/>
        </p:nvPicPr>
        <p:blipFill>
          <a:blip r:embed="rId4"/>
          <a:stretch/>
        </p:blipFill>
        <p:spPr>
          <a:xfrm>
            <a:off x="3929040" y="3786120"/>
            <a:ext cx="1449360" cy="1928880"/>
          </a:xfrm>
          <a:prstGeom prst="rect">
            <a:avLst/>
          </a:prstGeom>
          <a:ln w="57240">
            <a:solidFill>
              <a:srgbClr val="8db3e2"/>
            </a:solidFill>
            <a:miter/>
          </a:ln>
        </p:spPr>
      </p:pic>
      <p:pic>
        <p:nvPicPr>
          <p:cNvPr id="606" name="Рисунок 7" descr="http://img-fotki.yandex.ru/get/4400/103827361.3/0_9744e_8e12e8de_XL"/>
          <p:cNvPicPr/>
          <p:nvPr/>
        </p:nvPicPr>
        <p:blipFill>
          <a:blip r:embed="rId5"/>
          <a:stretch/>
        </p:blipFill>
        <p:spPr>
          <a:xfrm>
            <a:off x="857160" y="4286160"/>
            <a:ext cx="2286000" cy="1413000"/>
          </a:xfrm>
          <a:prstGeom prst="rect">
            <a:avLst/>
          </a:prstGeom>
          <a:ln w="57240">
            <a:solidFill>
              <a:srgbClr val="fabf8f"/>
            </a:solidFill>
            <a:miter/>
          </a:ln>
        </p:spPr>
      </p:pic>
      <p:pic>
        <p:nvPicPr>
          <p:cNvPr id="607" name="Рисунок 10" descr="http://pics.livejournal.com/artfeltig/pic/000050yq"/>
          <p:cNvPicPr/>
          <p:nvPr/>
        </p:nvPicPr>
        <p:blipFill>
          <a:blip r:embed="rId6"/>
          <a:stretch/>
        </p:blipFill>
        <p:spPr>
          <a:xfrm>
            <a:off x="6000840" y="4357800"/>
            <a:ext cx="2120760" cy="1404720"/>
          </a:xfrm>
          <a:prstGeom prst="rect">
            <a:avLst/>
          </a:prstGeom>
          <a:ln w="76320">
            <a:solidFill>
              <a:srgbClr val="fabf8f"/>
            </a:solidFill>
            <a:miter/>
          </a:ln>
        </p:spPr>
      </p:pic>
      <p:sp>
        <p:nvSpPr>
          <p:cNvPr id="608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9" name="Rectangle 12"/>
          <p:cNvSpPr/>
          <p:nvPr/>
        </p:nvSpPr>
        <p:spPr>
          <a:xfrm>
            <a:off x="32760" y="508320"/>
            <a:ext cx="3273120" cy="41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              </a:t>
            </a:r>
            <a:r>
              <a:rPr b="0" i="1" lang="ru-RU" sz="20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2.Городской  пейзаж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0" name="Rectangle 13"/>
          <p:cNvSpPr/>
          <p:nvPr/>
        </p:nvSpPr>
        <p:spPr>
          <a:xfrm>
            <a:off x="419400" y="957960"/>
            <a:ext cx="7898400" cy="52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7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27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27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27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27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27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27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27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27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27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27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27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27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27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27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27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27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27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27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27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27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27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27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27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27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27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27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27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Архитектура, улицы                Достопримечательности       Парки, скверы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60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60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60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3T12:29:47Z</dcterms:created>
  <dc:creator>Аня</dc:creator>
  <dc:description/>
  <dc:language>en-US</dc:language>
  <cp:lastModifiedBy>маняша</cp:lastModifiedBy>
  <dcterms:modified xsi:type="dcterms:W3CDTF">2013-03-03T09:12:16Z</dcterms:modified>
  <cp:revision>74</cp:revision>
  <dc:subject>Натюрморт</dc:subject>
  <dc:title>Голландский натюрмор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c050000000000010243000207f6000400038000</vt:lpwstr>
  </property>
</Properties>
</file>