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823-84D0-4010-963B-40D8A423AE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626-9005-44C4-BBFE-6522849092F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63D-C17C-4665-9FFA-2D11D78B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AC5-686B-4EE6-A55F-E036AF8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4F7A1-5469-466D-AC1D-8D662F21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30104-58A5-467C-96E5-8B73D8E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2EA7D-7F08-44DC-BAA8-DF2C2BF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F415D-16F8-4C9B-BB92-D527C02C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B4B6C-3D7C-4CB8-ADFF-1A28D35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B7497-DE3C-4E98-9DD8-355079B9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B04C4-EA14-4D04-9950-532A9FDB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2C17D-66D1-4129-B267-08BBFB4A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D2946-8D34-43BF-B125-7DB26C0A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F8BDA-7CBE-4727-9B55-57C6DFCB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1F1-842F-46BD-83FD-5A35B464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6CFC2-B127-42FF-BB53-F1B6456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C810-7FE6-4D29-98FD-5EA93515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8DFC1-437C-4A87-821A-A85C2CBC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13151-9B17-4D42-80BB-F933AE4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5CBA6-FA51-4AB3-A61D-601DD2F6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1F9B0-B7D3-47EE-810A-02075EA1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FDC55-42FD-46E5-9F8B-D99F928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8E762-1B91-4659-B7F3-BCA5C04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A01B3-DE55-4543-BDA7-E4FB2FDE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E8AFC-DEC0-4209-9116-26C19536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200-26B3-460C-8A1D-B721B3E8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9B48-30FF-4832-AF4F-7F0C6817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39A6D-E141-415D-84BD-A4CBBDFC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2B811-F53C-4091-8351-28573C6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A944-92C5-4FB7-8428-93EFF6C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BD47E-C3C2-48DE-89C7-5CD634D3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E256F-F0D8-4920-9377-3034DB1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7F18-FBA2-4D56-B637-AF6048E3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9001D-7779-47AB-B942-D009EF0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1FBB-AAE9-4BA1-BE60-E51EC06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DBE2D-9809-4CCF-BC4F-97EB369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3C93-533D-4ECD-B558-BC1C5238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6642D-C165-4A76-8973-BC7BDCC4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789CF-418F-4806-8283-EF12E823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E4320-5B6D-47D0-9281-237828E2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6F206-4045-402D-995A-74B96F27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C2169-7FA1-4186-ACC0-0E84FBFE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293AE-D28E-4B1C-9A1E-B566E94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F4D01-5F7C-4725-A79B-BD6A953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E2AAC-57A6-4DDA-A8B9-52B99541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C15BC-B1EA-4B06-9BB9-C8F58594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F338C-BA9B-4E7B-9DED-A6B5229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3D3E-0BBD-45A1-9409-869E673E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80408-BE2F-4359-B158-173F8DA6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99D04-CF4C-4079-821A-CEE7F42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F3E40-F45C-43CF-9B75-D4D47FB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6F2D5-5029-49B8-A83E-E96855CF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F35C4-7814-46CF-8EB3-3FDEBD07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D81DB-D93A-405C-969B-64648D10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C941D-23C9-4EC1-A89F-F0E62EAE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67C7A-6DC2-4B1A-8EE5-1BCA8D4A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AC456-63E4-42DC-937E-96B01007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39AD5-4EC0-48D6-8ED1-9250C81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15E4-D4C4-4BA6-8652-16CFCBBB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D043E-5D34-49F4-98DF-A2C816D3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124E3-8343-431E-9ED7-ED0573F7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FE87A-E357-4A87-959D-6408F3C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1FF99-D1D5-4C8E-B728-A0E1F01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BBF0B-8057-4C17-85DD-A76B21F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2DE5E-89C0-4D97-B651-83E9262F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EBFEE-1316-45C0-95AD-B9AF7FAE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89CB-5DCC-41FD-AAD7-5B58748F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2F84-6615-4239-9E63-61FF1A5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95FD-5842-46FB-BE7E-67CF5C13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7960-0A70-4E7C-BD4A-7585E14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90E-3A93-48D2-A6FD-A36D5D1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9A5A-7109-43CF-945E-FE9655C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79D6-B426-4EB1-A7B8-ECA8E33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34F2-6E40-4B6D-B134-088E4CD5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F8E-7349-4F83-B74E-D008D606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E1DC-5C0A-4558-A849-089FBB82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0EE5-4E99-4E43-890C-670DE4F7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17B7-6BA6-4784-8EAA-8AB5E83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7F24-ECEE-47A1-B1F0-AD3ED50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FD95-306A-4116-97E2-381B114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85B3-1498-4403-8A81-2181303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657-9CED-4BE1-9EBB-34DA3474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9F09-272A-4A44-B352-FCD09DDC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150E-5289-41C5-ADE0-58766DD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BAF8-0D91-4E4B-9E20-3D6F3FE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8D56-CED6-4805-AE90-B8EFBC0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31AC-9A4B-4A9C-B70B-070427E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13F3-B22F-463E-88D9-906CB9B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424B-F5B5-4C51-AB35-57AE7AB3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851E-89BB-470C-AB61-6A96B984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C21A-D6CF-4DD2-8B15-A6DE82EE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C884-7C9B-4638-A274-F66ED34D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567-08F9-421D-A3CE-D49E10A6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2FD8-BBA9-496E-8EC3-E09C57A3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4E3C-99B9-4A5A-B29E-91EB5DA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E5AA-34D2-4A0E-8D22-848E40E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5B91-5FA2-4929-B702-96A26C5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61C7-4FFE-4E49-96B6-3BA2307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AC71A-F86F-4AB3-9333-9E0382F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2E35-C9FB-454E-B31F-7A54226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2BD7-C9D6-4AE2-AFE8-0660B7C0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EEC1-7157-42DC-822B-FEE240AE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6A2B9-B125-4936-BD7A-64B7A194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AD2-0A80-40E4-9102-957D6B3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4AE8-369F-408D-AEE8-B9CB514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84C3-33F9-44EB-B1FB-33BD7CF1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6551F-CE61-49BE-99AB-31E3784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AF5E-B115-4D6A-ADE1-DE23E882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4CBD4-88F0-4306-8696-509E2C83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86DF-AD38-45FB-8003-1D15128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CE2E-7338-4374-ABD9-9DD90FB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B56E-5AB5-4ABF-8BC5-573C581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8FB5A-9990-4B0F-A41E-165DC229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C4521-B4A2-4EBF-A853-B2F7BCDC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37B-B6BD-4364-A172-972610E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DB5C-ADF8-47DC-93CD-78AA149B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13C3-DAFA-4676-B3F8-76401EAB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209E-AA95-4AC5-9255-C0F619AE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78366-DF97-4DB6-9CB6-F02DB9C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1036-41DE-4605-9497-211AE87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881E-F65E-4458-899D-EDB1E77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62EA-BAB0-4EEB-9086-380AE04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7A5B-6FDC-4621-9F38-50F955C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C1F1-058F-4DF5-9979-C9100FA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FC25-C8E1-45F0-BCF2-8C50CCB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45C-D9A9-447A-9546-4563EFB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D9CE-D904-436B-B7A4-39E285F1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7D39-E027-4741-BE8B-CCF409E9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8A0A0-BDFD-4CBA-A84F-F67C00BC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C9BD4-EDFC-4876-AC6F-01324DC2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0E99-BC3C-41B7-8662-241E596E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E1747-A2BE-434D-84B4-524F6DB3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F744F-23DB-44F7-883F-83E96449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7718D-6E1D-4B4E-B0C7-8BD76F6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5A170-CA0E-4D8B-A008-E5DE0F3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9412-9ECC-4402-95B1-3156A37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5D7-0C27-49F5-B55C-D67555F0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9EF7-0496-4BF8-8D43-38F5FBE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DD6D-26BF-4048-BF92-D60715B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061A0-7155-4F8C-A908-18F1C1F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9177-7309-40FD-8176-08190E6F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370A5-E4C7-4890-B33B-1B26298D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3803-4D8E-418E-973C-72C87E0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F136E-AEEE-4475-87E8-6375F28A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D0BC-7BEB-4C27-BE7F-EA69CDBB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AE94-D500-463B-A81A-140AB24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6D51-513D-4307-A52C-6546014C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E87-30C0-40A2-B193-12AC3A9F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CF4D9-DD7D-4F8B-947C-9173864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584F-7F15-47C4-8D05-52D5BE2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0E7C9-2984-4D38-89F5-DB5A0AF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D26D2-BAAF-4BCC-995E-ADDA6E7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56553-E2C1-418F-A68E-7AC399D9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787FC-1A2C-4950-A2F0-817FBC9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AD416-6C0A-4109-98CE-7975598E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79EB3-0D5A-4A43-8165-457D451C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C29C1-99EB-4FD3-B471-EC29046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A80FD-B14F-4D60-B997-4C0EBD5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5D1C-84AF-4E40-A529-00FFC6218BF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8C26-D63B-478B-BE1D-1370EC968B5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2DC4-3F43-4002-9559-EAC17CB9FC8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F6E-94E6-405D-8613-9EBBB8745DB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230D-996D-4CA5-B158-BF3F93B5158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8EAB-097A-4290-9131-4B0B73A730D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A756-C182-43D0-A589-A694FA2B3A6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38C-4D7D-4300-A7EF-014014E5379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B82-1E43-4E0D-8838-32E58FEA88B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3B15-7AD5-4B70-9491-174BD4F3301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E67-689E-40BA-A843-3731B26D73D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DAC-B40C-437E-A2B2-54DCB095B3A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1675-BD06-4D70-BA3A-8A19C856092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c2b"/>
                </a:solidFill>
                <a:latin typeface="Times New Roman"/>
              </a:rPr>
              <a:t>МУНИЦИПАЛЬНОЕ  БЮДЖЕТНОЕ  ОБРАЗОВАТЕЛЬНОЕ УЧРЕЖДЕНИЕ </a:t>
            </a:r>
            <a:br>
              <a:rPr sz="1400"/>
            </a:br>
            <a:r>
              <a:rPr b="0" lang="ru-RU" sz="1400" spc="-1" strike="noStrike">
                <a:solidFill>
                  <a:srgbClr val="004c2b"/>
                </a:solidFill>
                <a:latin typeface="Times New Roman"/>
              </a:rPr>
              <a:t>СЫЧЕВСКАЯ  СРЕДНЯЯ  ОБЩЕОБРАЗОВАТЕЛЬНАЯ  ШКОЛА  №1</a:t>
            </a:r>
            <a:br>
              <a:rPr sz="1400"/>
            </a:br>
            <a:r>
              <a:rPr b="0" lang="ru-RU" sz="1400" spc="-1" strike="noStrike">
                <a:solidFill>
                  <a:srgbClr val="004c2b"/>
                </a:solidFill>
                <a:latin typeface="Times New Roman"/>
              </a:rPr>
              <a:t>Г. СЫЧЕВКИ  СМОЛЕНСКОЙ  ОБЛАСТИ </a:t>
            </a:r>
            <a:br>
              <a:rPr sz="1400"/>
            </a:b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13840" y="1071360"/>
            <a:ext cx="8929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зготовление серии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екоративных  панно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Смоленские зарисовки. Времена года»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ыполненных в техник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аляние из шер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зработала: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ченица  9Б класс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Жукова Наталь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читель  технологии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вва  Марина Викторовн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ычевка 201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3" name="Picture 4" descr="DSCN0694"/>
          <p:cNvPicPr/>
          <p:nvPr/>
        </p:nvPicPr>
        <p:blipFill>
          <a:blip r:embed="rId1"/>
          <a:stretch/>
        </p:blipFill>
        <p:spPr>
          <a:xfrm>
            <a:off x="1143000" y="4143240"/>
            <a:ext cx="482760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57120" y="285480"/>
            <a:ext cx="67867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качестве изображения на  пейзаже будут достопримечательности  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. Смоленска. Ведь в таком красивом городе очень  много замечательных мест, которыми гордится город. Из архитектурных построек я выбрала сюжеты с изображением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спенского собора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и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Крепостной сте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так  как  они являются  визитной  карточкой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 памятников я отдала предпочтение не скульптурным композициям, так как они будут трудны в исполнении, а памятникам, посвященным войне 1812года. Это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амятники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Героям 1812года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и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Софийскому полку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1778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13" name="Рисунок 25" descr="&amp;Ucy;&amp;mcy;&amp;iecy;&amp;ncy;&amp;softcy;&amp;shcy;&amp;icy;&amp;tcy;&amp;softcy;"/>
          <p:cNvPicPr/>
          <p:nvPr/>
        </p:nvPicPr>
        <p:blipFill>
          <a:blip r:embed="rId1"/>
          <a:stretch/>
        </p:blipFill>
        <p:spPr>
          <a:xfrm>
            <a:off x="785880" y="4214880"/>
            <a:ext cx="2805120" cy="20145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26" descr="&amp;Fcy;&amp;ocy;&amp;mcy;&amp;icy;&amp;ncy; &amp;Ncy;&amp;icy;&amp;kcy;&amp;icy;&amp;tcy;&amp;acy;. &amp;Scy;&amp;mcy;&amp;ocy;&amp;lcy;&amp;iecy;&amp;ncy;&amp;scy;&amp;kcy; &amp;vcy;&amp;iecy;&amp;scy;&amp;ncy;&amp;ocy;&amp;jcy;"/>
          <p:cNvPicPr/>
          <p:nvPr/>
        </p:nvPicPr>
        <p:blipFill>
          <a:blip r:embed="rId2"/>
          <a:stretch/>
        </p:blipFill>
        <p:spPr>
          <a:xfrm>
            <a:off x="6357960" y="3714840"/>
            <a:ext cx="2500200" cy="18716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27" descr="&amp;Dcy;&amp;iecy;&amp;ncy;&amp;icy;&amp;scy;&amp;ocy;&amp;vcy; &amp;Vcy;&amp;lcy;&amp;acy;&amp;dcy;&amp;icy;&amp;mcy;&amp;icy;&amp;rcy;. &amp;Bcy;&amp;acy;&amp;shcy;&amp;ncy;&amp;icy; &amp;Scy;&amp;mcy;&amp;ocy;&amp;lcy;&amp;iecy;&amp;ncy;&amp;scy;&amp;kcy;&amp;ocy;&amp;jcy; &amp;kcy;&amp;rcy;&amp;iecy;&amp;pcy;&amp;ocy;&amp;scy;&amp;tcy;&amp;ncy;&amp;ocy;&amp;jcy; &amp;scy;&amp;tcy;&amp;iecy;&amp;ncy;&amp;ycy;."/>
          <p:cNvPicPr/>
          <p:nvPr/>
        </p:nvPicPr>
        <p:blipFill>
          <a:blip r:embed="rId3"/>
          <a:stretch/>
        </p:blipFill>
        <p:spPr>
          <a:xfrm>
            <a:off x="3714840" y="4143240"/>
            <a:ext cx="2523960" cy="20671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28" descr="http://admin.smolensk.ru/history/kep/Smolensk/monuments/1812/eagles.jpg"/>
          <p:cNvPicPr/>
          <p:nvPr/>
        </p:nvPicPr>
        <p:blipFill>
          <a:blip r:embed="rId4"/>
          <a:stretch/>
        </p:blipFill>
        <p:spPr>
          <a:xfrm>
            <a:off x="7143840" y="785880"/>
            <a:ext cx="16430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4c2b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Обоснование возникшей проблемы и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57120" y="999720"/>
            <a:ext cx="81439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явши однажды в руки маленький кусочек шерсти,  такой мягкий и теплый, с ним не расстанешься никогда. За полгода я попробовала разные техники валяния: мокрое и сухое, «шерстяную акварель», изготовила различные изделия (бусы, картины, игрушки). Но больше всего мне понравилось «писать» шерстью картины, они получаются такие воздушные, акварельные и теплые.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Узнав, что 2013 году г. Смоленск будет отмечать свое 1150-летие, я решила, что именно этой дате я посвящу свой проект. Смоленск очень тщательно готовится к празднованию, я хочу тоже внести частичку души в подготовку этого знаменательного  юбилея. Думаю, мои работы могут украсить  интерьер школы, детского садика, дома детского творчества г.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56760" y="1071360"/>
            <a:ext cx="810108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78994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789948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7" name="Рисунок 2" descr="http://www.admin-smolensk.ru/%7Esmol1150/img/tape.png"/>
          <p:cNvPicPr/>
          <p:nvPr/>
        </p:nvPicPr>
        <p:blipFill>
          <a:blip r:embed="rId1"/>
          <a:stretch/>
        </p:blipFill>
        <p:spPr>
          <a:xfrm>
            <a:off x="706320" y="5425920"/>
            <a:ext cx="7731360" cy="54144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1" descr="http://www.admin-smolensk.ru/%7Esmol1150/img/logo.png"/>
          <p:cNvPicPr/>
          <p:nvPr/>
        </p:nvPicPr>
        <p:blipFill>
          <a:blip r:embed="rId2"/>
          <a:stretch/>
        </p:blipFill>
        <p:spPr>
          <a:xfrm>
            <a:off x="3500280" y="5143680"/>
            <a:ext cx="294012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42600" y="571680"/>
            <a:ext cx="8001000" cy="58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Цель проекта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здание серии декоративных панно, выполненных в различных техниках  валяния из шерст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знакомиться с  историей валяния из шерст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следовать и проанализировать работы, выполненные в различных техниках валя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работать собственные эскизы декоративных панно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полнить багаж знаний по использованию шерсти в прикладном искусств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полнить работу в различных техниках валяния, которая будет приносить радость и эстетическое наслаждение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2.Схема обдумывания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2" name="Group 1"/>
          <p:cNvGrpSpPr/>
          <p:nvPr/>
        </p:nvGrpSpPr>
        <p:grpSpPr>
          <a:xfrm>
            <a:off x="642960" y="1022400"/>
            <a:ext cx="7929720" cy="5484600"/>
            <a:chOff x="642960" y="1022400"/>
            <a:chExt cx="7929720" cy="5484600"/>
          </a:xfrm>
        </p:grpSpPr>
        <p:sp>
          <p:nvSpPr>
            <p:cNvPr id="553" name="AutoShape 25"/>
            <p:cNvSpPr/>
            <p:nvPr/>
          </p:nvSpPr>
          <p:spPr>
            <a:xfrm>
              <a:off x="642960" y="1022400"/>
              <a:ext cx="7929720" cy="54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5935680" y="3844440"/>
              <a:ext cx="23043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Материалы, инструменты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Oval 23"/>
            <p:cNvSpPr/>
            <p:nvPr/>
          </p:nvSpPr>
          <p:spPr>
            <a:xfrm>
              <a:off x="3365640" y="2840760"/>
              <a:ext cx="2349720" cy="193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Изделие, выполненное в технике валяния из шерсти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Oval 22"/>
            <p:cNvSpPr/>
            <p:nvPr/>
          </p:nvSpPr>
          <p:spPr>
            <a:xfrm>
              <a:off x="1050480" y="1890000"/>
              <a:ext cx="2210760" cy="58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амооценка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Oval 21"/>
            <p:cNvSpPr/>
            <p:nvPr/>
          </p:nvSpPr>
          <p:spPr>
            <a:xfrm>
              <a:off x="3900240" y="1022400"/>
              <a:ext cx="2987640" cy="98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История и современность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Oval 20"/>
            <p:cNvSpPr/>
            <p:nvPr/>
          </p:nvSpPr>
          <p:spPr>
            <a:xfrm>
              <a:off x="6157800" y="1890000"/>
              <a:ext cx="1970640" cy="67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Банк  идей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Oval 19"/>
            <p:cNvSpPr/>
            <p:nvPr/>
          </p:nvSpPr>
          <p:spPr>
            <a:xfrm>
              <a:off x="642960" y="3912840"/>
              <a:ext cx="2505960" cy="92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Экономическое  обоснование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Oval 18"/>
            <p:cNvSpPr/>
            <p:nvPr/>
          </p:nvSpPr>
          <p:spPr>
            <a:xfrm>
              <a:off x="920160" y="5012640"/>
              <a:ext cx="2341080" cy="97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Технология изготовления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Oval 17"/>
            <p:cNvSpPr/>
            <p:nvPr/>
          </p:nvSpPr>
          <p:spPr>
            <a:xfrm>
              <a:off x="3148920" y="5500080"/>
              <a:ext cx="2880360" cy="100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равила техники безопасности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Oval 16"/>
            <p:cNvSpPr/>
            <p:nvPr/>
          </p:nvSpPr>
          <p:spPr>
            <a:xfrm>
              <a:off x="6585120" y="2837880"/>
              <a:ext cx="1542960" cy="70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эскизы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563" name="AutoShape 15"/>
            <p:cNvCxnSpPr/>
            <p:nvPr/>
          </p:nvCxnSpPr>
          <p:spPr>
            <a:xfrm flipV="1">
              <a:off x="4884120" y="2027880"/>
              <a:ext cx="261000" cy="83052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4" name="AutoShape 14"/>
            <p:cNvCxnSpPr/>
            <p:nvPr/>
          </p:nvCxnSpPr>
          <p:spPr>
            <a:xfrm flipH="1" flipV="1">
              <a:off x="2976840" y="2365200"/>
              <a:ext cx="732600" cy="7592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5" name="AutoShape 13"/>
            <p:cNvCxnSpPr/>
            <p:nvPr/>
          </p:nvCxnSpPr>
          <p:spPr>
            <a:xfrm flipH="1">
              <a:off x="2848320" y="4065120"/>
              <a:ext cx="564480" cy="2570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6" name="AutoShape 12"/>
            <p:cNvCxnSpPr/>
            <p:nvPr/>
          </p:nvCxnSpPr>
          <p:spPr>
            <a:xfrm flipH="1">
              <a:off x="2918880" y="4491360"/>
              <a:ext cx="790560" cy="6656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7" name="AutoShape 11"/>
            <p:cNvCxnSpPr/>
            <p:nvPr/>
          </p:nvCxnSpPr>
          <p:spPr>
            <a:xfrm>
              <a:off x="4540680" y="4774320"/>
              <a:ext cx="50040" cy="72648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8" name="AutoShape 10"/>
            <p:cNvCxnSpPr/>
            <p:nvPr/>
          </p:nvCxnSpPr>
          <p:spPr>
            <a:xfrm>
              <a:off x="5828760" y="3827520"/>
              <a:ext cx="444960" cy="19800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9" name="AutoShape 9"/>
            <p:cNvCxnSpPr/>
            <p:nvPr/>
          </p:nvCxnSpPr>
          <p:spPr>
            <a:xfrm flipV="1">
              <a:off x="5713920" y="3191040"/>
              <a:ext cx="783000" cy="3524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70" name="AutoShape 8"/>
            <p:cNvCxnSpPr/>
            <p:nvPr/>
          </p:nvCxnSpPr>
          <p:spPr>
            <a:xfrm flipV="1">
              <a:off x="5370840" y="2462400"/>
              <a:ext cx="1077120" cy="66240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sp>
          <p:nvSpPr>
            <p:cNvPr id="571" name="Oval 7"/>
            <p:cNvSpPr/>
            <p:nvPr/>
          </p:nvSpPr>
          <p:spPr>
            <a:xfrm>
              <a:off x="1689120" y="1215360"/>
              <a:ext cx="2210760" cy="58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отребность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Oval 6"/>
            <p:cNvSpPr/>
            <p:nvPr/>
          </p:nvSpPr>
          <p:spPr>
            <a:xfrm>
              <a:off x="6029640" y="5158800"/>
              <a:ext cx="2210760" cy="82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Требования к изделию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Oval 5"/>
            <p:cNvSpPr/>
            <p:nvPr/>
          </p:nvSpPr>
          <p:spPr>
            <a:xfrm>
              <a:off x="772920" y="2714760"/>
              <a:ext cx="2375640" cy="82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Экологическое обоснование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574" name="AutoShape 4"/>
            <p:cNvCxnSpPr/>
            <p:nvPr/>
          </p:nvCxnSpPr>
          <p:spPr>
            <a:xfrm>
              <a:off x="5419800" y="4622760"/>
              <a:ext cx="933480" cy="65808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75" name="AutoShape 3"/>
            <p:cNvCxnSpPr/>
            <p:nvPr/>
          </p:nvCxnSpPr>
          <p:spPr>
            <a:xfrm flipH="1" flipV="1">
              <a:off x="2848320" y="3421800"/>
              <a:ext cx="516960" cy="38736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76" name="AutoShape 2"/>
            <p:cNvCxnSpPr/>
            <p:nvPr/>
          </p:nvCxnSpPr>
          <p:spPr>
            <a:xfrm flipH="1" flipV="1">
              <a:off x="3574800" y="1718640"/>
              <a:ext cx="744120" cy="114048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3. Выявление основных параметров и ограничений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42960" y="107136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Работа должна отвечать следующим требованиям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быть  выполнено качественно, аккуратн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соответствовать выбранной модел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зникающие дефекты должны быть устранены в процессе работы над изделие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быть оригинальным и  красивы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здели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должно быт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прочны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быть экологическ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чистым  и иметь низкую себестоимость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79" name="Рисунок 6" descr="http://ekosaj.narod.ru/p94/i0125rp.jpg"/>
          <p:cNvPicPr/>
          <p:nvPr/>
        </p:nvPicPr>
        <p:blipFill>
          <a:blip r:embed="rId1"/>
          <a:stretch/>
        </p:blipFill>
        <p:spPr>
          <a:xfrm>
            <a:off x="5786280" y="3857760"/>
            <a:ext cx="2689560" cy="2143080"/>
          </a:xfrm>
          <a:prstGeom prst="rect">
            <a:avLst/>
          </a:prstGeom>
          <a:ln w="57240">
            <a:solidFill>
              <a:srgbClr val="ddd8c2"/>
            </a:solidFill>
            <a:miter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4. История и современность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2920" y="1285920"/>
            <a:ext cx="85723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аляни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амая древняя техника изготовления текстиля на Земле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рхеологи датируют возникновение первых валяных изделий 8000 летним возрасто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ревние люди начинали валять из найденной шерсти диких животны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 только потом они научились прясть, вязать и изготавливать ткан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очевники были первыми людьми, оценившими уникальные свойства войлока. Они делали из шерсти дома, одежду, предметы интерьера, скотоводческое снаряжени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2" name="Рисунок 1" descr="http://www.citycelebrity.ru/uploads/Slippers.jpg"/>
          <p:cNvPicPr/>
          <p:nvPr/>
        </p:nvPicPr>
        <p:blipFill>
          <a:blip r:embed="rId1"/>
          <a:stretch/>
        </p:blipFill>
        <p:spPr>
          <a:xfrm>
            <a:off x="6286680" y="4357800"/>
            <a:ext cx="2357280" cy="1770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&amp;shcy;&amp;iecy;&amp;rcy;&amp;scy;&amp;tcy;&amp;softcy; &amp;dcy;&amp;lcy;&amp;yacy; &amp;vcy;&amp;acy;&amp;lcy;&amp;yacy;&amp;ncy;&amp;icy;&amp;yacy;"/>
          <p:cNvPicPr/>
          <p:nvPr/>
        </p:nvPicPr>
        <p:blipFill>
          <a:blip r:embed="rId2"/>
          <a:stretch/>
        </p:blipFill>
        <p:spPr>
          <a:xfrm rot="16200000">
            <a:off x="304560" y="3766680"/>
            <a:ext cx="2884680" cy="1922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Original 500BC saddle pad"/>
          <p:cNvPicPr/>
          <p:nvPr/>
        </p:nvPicPr>
        <p:blipFill>
          <a:blip r:embed="rId3"/>
          <a:stretch/>
        </p:blipFill>
        <p:spPr>
          <a:xfrm>
            <a:off x="3214800" y="4357800"/>
            <a:ext cx="254160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Традиции валяния в Росс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71680" y="1000080"/>
            <a:ext cx="7929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обенно глубоки традиции валяния в Азии, России, Финляндии и Перу. Пожалуй, нет ни одного народа в мире, который с древнейших времен не создавал бы в этой технике множество удобных и полезных вещей для жизн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оссия имеет собственные традиции в искусстве валяния. У нас валяные  бурки, кошмы, шляпы, ковры делали из овечьей шерсти с помощью, так называемых, шерстобит или шаповал. Но больше всего прославилась  теплая и удобная русская обувь — валенки, которые изготавливают непосредственно валянием, смачивая шерсть горячим паром и натягивая на специальные колодк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7" name="Picture 2" descr="http://dlm3.meta.ua/pic/0/55/49/4uwrDX15Vy.jpg"/>
          <p:cNvPicPr/>
          <p:nvPr/>
        </p:nvPicPr>
        <p:blipFill>
          <a:blip r:embed="rId1"/>
          <a:stretch/>
        </p:blipFill>
        <p:spPr>
          <a:xfrm>
            <a:off x="642960" y="4214880"/>
            <a:ext cx="3129120" cy="2049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http://hobby21.ru/_ph/15/672363785.jpg"/>
          <p:cNvPicPr/>
          <p:nvPr/>
        </p:nvPicPr>
        <p:blipFill>
          <a:blip r:embed="rId2"/>
          <a:stretch/>
        </p:blipFill>
        <p:spPr>
          <a:xfrm>
            <a:off x="3929040" y="4357800"/>
            <a:ext cx="2071800" cy="1778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http://www.valenki-uyut.ru/data/valenok/IMG_0651_k__.jpg"/>
          <p:cNvPicPr/>
          <p:nvPr/>
        </p:nvPicPr>
        <p:blipFill>
          <a:blip r:embed="rId3"/>
          <a:stretch/>
        </p:blipFill>
        <p:spPr>
          <a:xfrm>
            <a:off x="5786280" y="4143240"/>
            <a:ext cx="2630520" cy="21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ttp://img-fotki.yandex.ru/get/13/matilda-mokko.5/0_4495a_703f44d_XL"/>
          <p:cNvPicPr/>
          <p:nvPr/>
        </p:nvPicPr>
        <p:blipFill>
          <a:blip r:embed="rId1"/>
          <a:stretch/>
        </p:blipFill>
        <p:spPr>
          <a:xfrm>
            <a:off x="6715080" y="4143240"/>
            <a:ext cx="1792440" cy="20163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Валяние сегодня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28556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последние десятилетия увлечение валянием  охватило весь мир!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егодня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йлоковаляние превратилось в интересную форму художественного самовыражения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удожники по войлоку умудряются даже изобретать новые приемы валяния шерсти.   Уже давно в моде войлочные аксессуары и украшения из войлока, одежда, войлочные картины и игрушки. Неожиданными становятся сочетания войлока с керамикой, металлом, стекл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3" name="Picture 4" descr="http://air-uc.at.ua/valjanie/313_4645c_xe01008f6.jpg"/>
          <p:cNvPicPr/>
          <p:nvPr/>
        </p:nvPicPr>
        <p:blipFill>
          <a:blip r:embed="rId2"/>
          <a:stretch/>
        </p:blipFill>
        <p:spPr>
          <a:xfrm>
            <a:off x="785880" y="785880"/>
            <a:ext cx="1311120" cy="1535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http://www.livemaster.ru/item/mfoto681645.jpg"/>
          <p:cNvPicPr/>
          <p:nvPr/>
        </p:nvPicPr>
        <p:blipFill>
          <a:blip r:embed="rId3"/>
          <a:stretch/>
        </p:blipFill>
        <p:spPr>
          <a:xfrm>
            <a:off x="5214960" y="4071960"/>
            <a:ext cx="1635120" cy="217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http://drimm.ru/images/blog/valyanie-ulia-kazakova/valyanie-ulia-kazakova-5.jpg"/>
          <p:cNvPicPr/>
          <p:nvPr/>
        </p:nvPicPr>
        <p:blipFill>
          <a:blip r:embed="rId4"/>
          <a:stretch/>
        </p:blipFill>
        <p:spPr>
          <a:xfrm>
            <a:off x="3071880" y="4286160"/>
            <a:ext cx="2214360" cy="15001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http://happy-hobby.ru/published/publicdata/SHOP/attachments/SC/products_pictures/7a0_enl.jpg"/>
          <p:cNvPicPr/>
          <p:nvPr/>
        </p:nvPicPr>
        <p:blipFill>
          <a:blip r:embed="rId5"/>
          <a:stretch/>
        </p:blipFill>
        <p:spPr>
          <a:xfrm>
            <a:off x="714240" y="4429080"/>
            <a:ext cx="2527560" cy="19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5. Банк  иде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42960" y="78588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 процессе  сбора  информации  был  рассмотрен  ряд  вариантов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1.Сельский пейзаж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9" name="Picture 2" descr="http://s017.radikal.ru/i407/1112/05/3d25fdae4fcd.jpg"/>
          <p:cNvPicPr/>
          <p:nvPr/>
        </p:nvPicPr>
        <p:blipFill>
          <a:blip r:embed="rId1"/>
          <a:stretch/>
        </p:blipFill>
        <p:spPr>
          <a:xfrm>
            <a:off x="857160" y="1714680"/>
            <a:ext cx="1771920" cy="1500120"/>
          </a:xfrm>
          <a:prstGeom prst="rect">
            <a:avLst/>
          </a:prstGeom>
          <a:ln w="76320">
            <a:solidFill>
              <a:srgbClr val="548dd4"/>
            </a:solidFill>
            <a:miter/>
          </a:ln>
        </p:spPr>
      </p:pic>
      <p:pic>
        <p:nvPicPr>
          <p:cNvPr id="600" name="Рисунок 8" descr="http://www.gift-butik.ru/voil/7_.jpg"/>
          <p:cNvPicPr/>
          <p:nvPr/>
        </p:nvPicPr>
        <p:blipFill>
          <a:blip r:embed="rId2"/>
          <a:stretch/>
        </p:blipFill>
        <p:spPr>
          <a:xfrm>
            <a:off x="3571920" y="1571760"/>
            <a:ext cx="2071800" cy="1614240"/>
          </a:xfrm>
          <a:prstGeom prst="rect">
            <a:avLst/>
          </a:prstGeom>
          <a:ln w="57240">
            <a:solidFill>
              <a:srgbClr val="fabf8f"/>
            </a:solidFill>
            <a:miter/>
          </a:ln>
        </p:spPr>
      </p:pic>
      <p:pic>
        <p:nvPicPr>
          <p:cNvPr id="601" name="Рисунок 11" descr="http://www.vishivka-igolochka.ru/images/product_images/info_images/5324_0.jpg"/>
          <p:cNvPicPr/>
          <p:nvPr/>
        </p:nvPicPr>
        <p:blipFill>
          <a:blip r:embed="rId3"/>
          <a:stretch/>
        </p:blipFill>
        <p:spPr>
          <a:xfrm>
            <a:off x="6215040" y="1357200"/>
            <a:ext cx="1785960" cy="18511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142920" y="1653480"/>
            <a:ext cx="82360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ля, луга                            Реки, озера                    Полянки, ручей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05" name="Рисунок 3" descr="Untitled"/>
          <p:cNvPicPr/>
          <p:nvPr/>
        </p:nvPicPr>
        <p:blipFill>
          <a:blip r:embed="rId4"/>
          <a:stretch/>
        </p:blipFill>
        <p:spPr>
          <a:xfrm>
            <a:off x="3929040" y="3786120"/>
            <a:ext cx="1449360" cy="1928880"/>
          </a:xfrm>
          <a:prstGeom prst="rect">
            <a:avLst/>
          </a:prstGeom>
          <a:ln w="57240">
            <a:solidFill>
              <a:srgbClr val="8db3e2"/>
            </a:solidFill>
            <a:miter/>
          </a:ln>
        </p:spPr>
      </p:pic>
      <p:pic>
        <p:nvPicPr>
          <p:cNvPr id="606" name="Рисунок 7" descr="http://img-fotki.yandex.ru/get/4400/103827361.3/0_9744e_8e12e8de_XL"/>
          <p:cNvPicPr/>
          <p:nvPr/>
        </p:nvPicPr>
        <p:blipFill>
          <a:blip r:embed="rId5"/>
          <a:stretch/>
        </p:blipFill>
        <p:spPr>
          <a:xfrm>
            <a:off x="857160" y="4286160"/>
            <a:ext cx="2286000" cy="1413000"/>
          </a:xfrm>
          <a:prstGeom prst="rect">
            <a:avLst/>
          </a:prstGeom>
          <a:ln w="57240">
            <a:solidFill>
              <a:srgbClr val="fabf8f"/>
            </a:solidFill>
            <a:miter/>
          </a:ln>
        </p:spPr>
      </p:pic>
      <p:pic>
        <p:nvPicPr>
          <p:cNvPr id="607" name="Рисунок 10" descr="http://pics.livejournal.com/artfeltig/pic/000050yq"/>
          <p:cNvPicPr/>
          <p:nvPr/>
        </p:nvPicPr>
        <p:blipFill>
          <a:blip r:embed="rId6"/>
          <a:stretch/>
        </p:blipFill>
        <p:spPr>
          <a:xfrm>
            <a:off x="6000840" y="4357800"/>
            <a:ext cx="2120760" cy="1404720"/>
          </a:xfrm>
          <a:prstGeom prst="rect">
            <a:avLst/>
          </a:prstGeom>
          <a:ln w="76320">
            <a:solidFill>
              <a:srgbClr val="fabf8f"/>
            </a:solidFill>
            <a:miter/>
          </a:ln>
        </p:spPr>
      </p:pic>
      <p:sp>
        <p:nvSpPr>
          <p:cNvPr id="6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32760" y="508320"/>
            <a:ext cx="327312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2.Городской  пейзаж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419400" y="957960"/>
            <a:ext cx="789840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рхитектура, улицы                Достопримечательности       Парки, сквер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маняша</cp:lastModifiedBy>
  <dcterms:modified xsi:type="dcterms:W3CDTF">2013-03-03T09:12:16Z</dcterms:modified>
  <cp:revision>74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