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3D2-AD73-4819-8C6F-A5C4BF95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903-0101-477F-841A-7435910B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AF517-0421-457E-8C65-BD89D5B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20EF5-2B84-4295-8F7D-B6002A53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CF9F8-68FA-4F10-924F-F83F421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223A1-320F-4DCF-A9F3-2465AAA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C40A0-DB50-4658-A223-EDF73FC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C53C0-2FEA-420A-988A-447FCA2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42CCA-A4E0-4C68-8D44-CA077C3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821CF-BB17-40F0-A4ED-DB1CB141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4AF09-3D56-4819-83FB-FB2C61DC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42956-320C-40FA-9B41-9DB580E8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29C-0AA2-4BEA-9091-493B85B5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6F4A1-A37D-4E22-820B-C33808A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F0C3E-999F-406C-9D18-1184D97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5BA3-424B-4F82-B3FC-151AA34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33915-BA46-41F3-B19A-2B5D342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CDD68-51BA-426D-8F89-DAC9CA79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E9A87-2E59-47FD-B3C5-11E8FEE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B574D-D7CD-4F18-B73A-6D1C500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6C43D-4DDA-4C59-B096-123D724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AF995-E60F-453D-BE99-02741512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AD19B-1ABC-44B9-A794-864A5811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879-11B5-4988-A1C0-F2961204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52131-AE6F-495C-9771-345AF6BC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4329-A0EE-4CCC-AC76-AA93AC47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54E8D-08BA-4905-934B-A5BA935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457DA-22EB-4359-B2EC-29F9B32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9F3E-84E8-4566-A155-C8785BA0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D34EF-B5EC-48CA-9241-AE1AB719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AEEB8-3896-4542-9CD5-8A77122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18CF2-52BA-4A3D-9D50-0B8F906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461DE-6DD4-4B9A-BC65-6836BF9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1803-51A2-4BFA-9F00-9B1795D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F601-7BFC-419B-A3A6-DBE38D67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6630-3BA4-4469-A6CE-A19A36D4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218C-26F4-42D0-8DD8-B41ECC63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FCA55-3626-4B2F-B8EB-2327044B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DCA75-4401-4D88-9D56-86D4D8CF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3CF5C-74FB-4F17-804A-8D60CC17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F7BCD-857A-428C-B598-ADDB9B50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CB2BE-BEFE-4406-AED7-9AF844E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84175-EF11-4BA4-8E53-54B65B19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870BC-4444-424C-97E1-C0229628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DD386-E6E5-4209-9991-04B1D6B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1CB8-F211-4B95-AC43-42CBAFC7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597BC-8816-4CAA-9851-73F2210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51E82-04D6-43A9-9A2C-0FF9BDE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93020-8002-4733-90B0-D93078E0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59B6B-7974-4674-975D-337791B9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56EB7-75DB-41F0-8556-87EE6F8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97792-7E70-43E8-A83A-7E17DFCC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FB50C-C906-4BFD-BAA6-6703EEA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D0CA7-0918-4803-B438-4F458DF4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49C10-B1F0-48AB-82DE-A222F5E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85A23-0C22-484C-80AB-A4D0C9D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CAA3-B040-4702-B799-5D62A56D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82D04-40B7-46DA-BDEA-3C5539C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4BB7F-3351-4766-ABC1-5F0B426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9EAB9-8245-4319-8A53-583CFE4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CEF88-36F6-4981-B69C-4A3FDE2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1FB2B-7721-4332-AAC6-3DF4B979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FAC2E-55D7-457D-AEA6-6E7ED214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628D2-7E9D-4CD5-84CF-C59F662E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BBEF-099C-4E08-B4BB-53BD6BCE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5DF-2A15-4230-AFE9-55F0FF5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E4B-EA60-423C-A303-DCF3D7FD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E3D7-C14A-44DD-A9A2-B1C7BBC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8C8-A169-45B8-83D5-3DB48B1B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E5C6-1561-4647-B15D-9C6DEF4F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67A-5E45-4B23-BBEA-68E043D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0A2-E34B-431B-9259-D425516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51BF-5942-42F1-809B-54F952A9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94FA-D7A7-4915-913B-A86D559B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024B-027F-476B-9166-67B14BC4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1FD5-375F-4694-BC09-1C3AF81C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1BFD-E945-4EED-904E-D2ADFD20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7578-A128-40AC-B0B7-FC748AD1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EB35-CEE7-462C-8DC5-64658FB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765-A06A-4B28-ACC6-C0A9B7E5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E2A1-90E0-4A0A-8EBE-A2409A74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8348-872A-440B-BB6F-59B5BFCC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B8D9-599B-479E-8996-63EF431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94FA-CF2D-42F6-82C5-69752C0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34A9-39EE-4563-B7E6-C32F51A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6A7E-B674-4A95-BD41-9D13D41F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4846-3622-4517-8470-C8010FF1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0F13-2DF0-43E8-A7B5-DB19A3E1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5528-6B35-4170-BDF6-32E882D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7C9E-B1D6-47A9-AA2A-053A742C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D9B-A030-40B4-9757-2187860F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0E1E-4B38-4AFB-BD84-1C0E664F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9BCD-FB7E-460D-9202-8989F3A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B130-2F81-43E7-B9BF-AADB82FB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8B0A-D9A6-422E-A9C7-9F07AA2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AA9EB-04DD-44E0-AF62-21E7D21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A029-DC72-4643-89AA-91016BB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50BC-8401-40E1-9A56-D614C63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5F76-C49B-4406-90AB-4561985D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0170-A208-4BB9-85A5-9C81931C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A8BC-8EBC-4B24-A2BD-42538EAC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F85-2A1A-4D6B-ACEA-1B6086A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145F-C4C8-43A9-B41F-7D7F594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7BB7-92CA-459F-B004-650AF1D4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ACC2-BF23-4C79-ADA3-C8931E96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97534-61BD-491B-BC2E-2845414D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A37B-6C34-43B9-8A95-8513ADD6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8C64-73C3-4BFB-A77F-BBBC6B5E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8395-1A43-49A9-AC22-521586F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FFD1-E4B2-40E7-8D6C-6EEC2ED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0786-23A0-42D8-AF42-80B97C9F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6EB1B-9079-4C85-8F31-438FA26B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ED9-2ED5-4C0E-85B3-BB87EED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E675-84D4-4D48-899A-89CE8588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EF9BF-61F9-4B50-B36A-BAF912C4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CB33-5BE7-4D4E-BF62-78A0233C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4357-4312-4991-8B0E-B8A5C11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F07D3-C426-455E-B100-6C7E630D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611F9-5289-40A4-9296-74708FF1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6582-28E4-4707-B2F0-86C9BA7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CA743-FE4B-4B2E-A4A9-B25D64D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5D8F-489F-46D1-8BD2-C8B7E43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72350-05FF-40BF-B80C-9D263FB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DBB-E0AC-4F80-98ED-9BD0083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DCCA0-5157-4B38-AC79-8DD0884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F4E03-BC0F-4656-8DBB-E3D87564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5F67E-AA23-4160-B5D9-82E32C16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B077-7063-4506-8A3F-EF7BE1D1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BC45-0F8F-4B14-A48B-A4C04D5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D020D-1E7B-4181-937E-EBE15461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1439-E9CC-4C6B-ADF5-91F1C88C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F8D3-5A22-471C-AC78-F5D7484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71303-AE54-4EFF-9134-B4FDA53C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240B-BA70-459D-9BBC-92608C7D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897-8B75-40D9-BFCF-8A4389B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093F-57FD-4F96-9313-6D2521A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0959-087E-429B-9BEC-2F6655E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39049-8559-4ECC-8509-CDFD096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2F110-60F1-4662-B575-1C8731FE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91C4D-8EBA-46DB-B559-0C89F552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797C-9126-499D-93C2-052B6302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E447-39E3-4B87-945E-C793CAD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F36AC-72B8-42BE-86B3-BDDC217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7900-37D5-4AB0-A777-CF1A8D93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9C7D-73C3-4FAC-9C73-566E3677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405-BA36-4319-9311-6147C30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CB84-9C4C-49FF-9F41-C978DFFA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E26B6-D7FF-4708-95EA-277DA43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DE05-315A-422E-9B91-876A812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72637-CCDA-4EEA-9F49-54BC861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7145-35ED-47E7-B3F7-211CBEB9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1D7C1-0AED-44F1-AE95-8FAAEAF2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74AEC-B1A1-48CA-9D98-EC2F51A4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3D68E-3483-4729-ABA0-096D1F88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E1963-3284-41DD-91C4-032FEE6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CAF55-2274-4B49-9AA4-950D143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E399-DC8B-4795-9F18-4CD3146418A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C7D9-1370-4EDC-9BB3-46F36CADB29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359D-E237-40E2-A8F0-7896D9157CF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C80-03C3-40C5-820D-395536ED5F7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AD51-B9E4-42D9-93AF-DB51F0A688E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76E8-DFA5-402B-973E-B67D7182198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4CCB-94E7-41EE-8EE6-1B4EC67A263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785-AB19-4202-BD79-AD9E352DEFD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DF3B-BAB2-4BC7-AE4D-511D38A1781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4E1C-353C-4ACB-8C02-82150E5F139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B2A-BBCB-45CA-A581-C71E5AF30D2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759-8EE9-470F-B4ED-04375B23137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FFD9-C291-40E9-8FF0-12784670A44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7.Техники  валяния из шер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28760" y="1071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99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аляние «по-сухому»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холодное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6" name="Рисунок 35" descr="http://hobbyfox.ru/wp-content/uploads/2011/10/100_0682mary2.jpg"/>
          <p:cNvPicPr/>
          <p:nvPr/>
        </p:nvPicPr>
        <p:blipFill>
          <a:blip r:embed="rId1"/>
          <a:stretch/>
        </p:blipFill>
        <p:spPr>
          <a:xfrm>
            <a:off x="5838840" y="571680"/>
            <a:ext cx="2590920" cy="221436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42" descr="http://myrisuem.ru/wp-content/uploads/2809091.jpg"/>
          <p:cNvPicPr/>
          <p:nvPr/>
        </p:nvPicPr>
        <p:blipFill>
          <a:blip r:embed="rId2"/>
          <a:stretch/>
        </p:blipFill>
        <p:spPr>
          <a:xfrm>
            <a:off x="928800" y="1500120"/>
            <a:ext cx="2828880" cy="2114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581760" y="37152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ерстяная акварел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9" name="Рисунок 49" descr="http://www.tk.uspb.ru/marina_1.jpg"/>
          <p:cNvPicPr/>
          <p:nvPr/>
        </p:nvPicPr>
        <p:blipFill>
          <a:blip r:embed="rId3"/>
          <a:stretch/>
        </p:blipFill>
        <p:spPr>
          <a:xfrm>
            <a:off x="928800" y="4125960"/>
            <a:ext cx="2857320" cy="217800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7"/>
          <p:cNvSpPr/>
          <p:nvPr/>
        </p:nvSpPr>
        <p:spPr>
          <a:xfrm>
            <a:off x="4500720" y="4071960"/>
            <a:ext cx="435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нуно валяние или нуно-фелтинг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1" name="Picture 6" descr="http://www.masterjournal.ru/uploads/images/00/01/21/2011/07/11/bdb41972c1.jpg"/>
          <p:cNvPicPr/>
          <p:nvPr/>
        </p:nvPicPr>
        <p:blipFill>
          <a:blip r:embed="rId4"/>
          <a:stretch/>
        </p:blipFill>
        <p:spPr>
          <a:xfrm>
            <a:off x="4929120" y="3643200"/>
            <a:ext cx="3510000" cy="20718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0"/>
          <p:cNvSpPr/>
          <p:nvPr/>
        </p:nvSpPr>
        <p:spPr>
          <a:xfrm>
            <a:off x="4286160" y="3000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по-мокрому»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мокрое или горячее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2. Экологическое   обосновани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56760" y="857160"/>
            <a:ext cx="82868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аляние из шерсти - это  экологически  чистое  производство,  не  выделяются  вредные  вещества, не  загрязняется  атмосфер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ля  изготовления изделия в технике валяния из шерсти  я использовала экологически  чистые  материалы -  волокна шерсти  выполнены  из  натурального покрова животных, не выделяет вредных веществ, не вызывает аллергии.  При окрашивании шерсти использованы устойчивые красители, не оказывающие вредного воздействия на кожу человека в процессе изготовления издел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 безотходное производство, так как остатки шерсти можно использовать  для других изделий  в этой техник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 окончанию срока службы изделие подвергается биохимическим процессам естественным путём или легко утилизируется при  естественных  процессах  тления  или  горения,  изделие  не  загрязняет  окружающую  сред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мка изготовлена из натурального дерев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Я выполнила  экологически  чистое  изделие,  и  поэтому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нет  опасности  для  здоровья  человека  в  использовании  издел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1598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09" name="Рисунок 2" descr="ar122123901328487"/>
          <p:cNvPicPr/>
          <p:nvPr/>
        </p:nvPicPr>
        <p:blipFill>
          <a:blip r:embed="rId1"/>
          <a:stretch/>
        </p:blipFill>
        <p:spPr>
          <a:xfrm>
            <a:off x="7429680" y="5072040"/>
            <a:ext cx="11397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3.Анализ  готового  изделия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28760" y="785880"/>
            <a:ext cx="82152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Готовая работа  отвечает   следующим  требованиям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Конструктивные  требования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 получившаяся  работа   надеж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отовые декоративные панно  полностью  соответствуют  современному стилю, могут   сочетаться  с  любым интерьер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хнологические  требования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шерсть и мыло подобраны правильно в соответствии с требованиями технологии, соблюдена последовательность изготовления изделия в технике мокрого и сухого  валяния, изображение чёткое и соответствует выбранному рисунку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Эстетические  требования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для  выполнения  работы  я  использовала сочетающие  оттенки, они соответствуют разным временам года. Панно  будут  хорошо  смотреться  в  интерьере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Экологические требования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работа  выполнена  из  экологически  чистых  материалов. Она  не  принесет  вреда  ни  экологии, ни  человек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Экономические  требования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 ручная  работа  столь дорога, что  ее выгодно  делать для  себя, для подарка, а  не  для  продаж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0040" y="457200"/>
            <a:ext cx="81439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4. Самооценка  творческого  проекта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Я "рисую" шерстью - самым теплым и благодарным материалом. Мало того, что он греет в прямом смысле, так и вещицы из него несут в себе всю теплоту рук и вложенной доброты. Благодаря особым свойствам шерстяного волокна, картины из шерсти получаются очень сочными, яркими и "теплыми"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зультат  полностью  оправдал  мои  ожида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а мой взгляд, панно  получились  гармоничными, красивыми, оригинальными. Мне  понравился  внешний  вид  работы, цветовая  гамм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ставленные мною цели выполнены и задачи достигнуты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ходе работы я изучила и опробовала различные техники  валяния из шерсти, познакомилась с достопримечательностями  г.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Я довольна тем, что выполнила такую работу. Мои панно могут служить самостоятельным декоративным элементом интерьера  и  быть великолепным  подарком к  юбилею г.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4" descr="mohair3"/>
          <p:cNvPicPr/>
          <p:nvPr/>
        </p:nvPicPr>
        <p:blipFill>
          <a:blip r:embed="rId1"/>
          <a:stretch/>
        </p:blipFill>
        <p:spPr>
          <a:xfrm>
            <a:off x="7215120" y="3214800"/>
            <a:ext cx="1432080" cy="146988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62" descr="&amp;ocy;&amp;chcy;&amp;iecy;&amp;scy;, &amp;gcy;&amp;rcy;&amp;ucy;&amp;bcy;&amp;acy;&amp;yacy; &amp;shcy;&amp;iecy;&amp;rcy;&amp;scy;&amp;tcy;&amp;softcy;, &amp;scy;&amp;lcy;&amp;icy;&amp;gcy;&amp;iecy;&amp;rcy;, &amp;vcy;&amp;ycy;&amp;bcy;&amp;iecy;&amp;lcy;&amp;iecy;&amp;ncy;&amp;kcy;&amp;acy;"/>
          <p:cNvPicPr/>
          <p:nvPr/>
        </p:nvPicPr>
        <p:blipFill>
          <a:blip r:embed="rId2"/>
          <a:stretch/>
        </p:blipFill>
        <p:spPr>
          <a:xfrm>
            <a:off x="2928960" y="4357800"/>
            <a:ext cx="5214960" cy="56520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59" descr="http://rada-rukodelniza.ru/wp-content/uploads/2011/11/oches.jpg"/>
          <p:cNvPicPr/>
          <p:nvPr/>
        </p:nvPicPr>
        <p:blipFill>
          <a:blip r:embed="rId3"/>
          <a:stretch/>
        </p:blipFill>
        <p:spPr>
          <a:xfrm>
            <a:off x="1928880" y="3429000"/>
            <a:ext cx="1611360" cy="120816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51" descr="http://mnogosun.ru/img.php?fld=photos&amp;id=18494967&amp;sbf=thumbs1&amp;image=image1316.jpg"/>
          <p:cNvPicPr/>
          <p:nvPr/>
        </p:nvPicPr>
        <p:blipFill>
          <a:blip r:embed="rId4"/>
          <a:stretch/>
        </p:blipFill>
        <p:spPr>
          <a:xfrm>
            <a:off x="642960" y="2714760"/>
            <a:ext cx="1409760" cy="138240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50" descr="http://images.tiu.ru/7996763_w640_h640_sherst.jpg"/>
          <p:cNvPicPr/>
          <p:nvPr/>
        </p:nvPicPr>
        <p:blipFill>
          <a:blip r:embed="rId5"/>
          <a:stretch/>
        </p:blipFill>
        <p:spPr>
          <a:xfrm>
            <a:off x="6143760" y="1143000"/>
            <a:ext cx="1285920" cy="11239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42600" y="456840"/>
            <a:ext cx="781524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8.Материалы, инструменты, принадлеж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928800" y="2214720"/>
            <a:ext cx="885600" cy="34128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ливер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7715160" y="2357280"/>
            <a:ext cx="876240" cy="59868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нгора, мохер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1928880" y="2357280"/>
            <a:ext cx="1295280" cy="82080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ребенная мериносовая шерсть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52" name="AutoShape 10"/>
          <p:cNvCxnSpPr/>
          <p:nvPr/>
        </p:nvCxnSpPr>
        <p:spPr>
          <a:xfrm flipH="1">
            <a:off x="1356480" y="1428480"/>
            <a:ext cx="2786760" cy="66276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53" name="AutoShape 13"/>
          <p:cNvCxnSpPr/>
          <p:nvPr/>
        </p:nvCxnSpPr>
        <p:spPr>
          <a:xfrm>
            <a:off x="5000760" y="1643040"/>
            <a:ext cx="2071800" cy="164376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54" name="AutoShape 14"/>
          <p:cNvCxnSpPr/>
          <p:nvPr/>
        </p:nvCxnSpPr>
        <p:spPr>
          <a:xfrm>
            <a:off x="4786200" y="1714680"/>
            <a:ext cx="929520" cy="235800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55" name="Rectangle 3"/>
          <p:cNvSpPr/>
          <p:nvPr/>
        </p:nvSpPr>
        <p:spPr>
          <a:xfrm>
            <a:off x="5072040" y="3786120"/>
            <a:ext cx="1146240" cy="39384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рблюжк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56" name="AutoShape 12"/>
          <p:cNvCxnSpPr/>
          <p:nvPr/>
        </p:nvCxnSpPr>
        <p:spPr>
          <a:xfrm flipH="1">
            <a:off x="4500360" y="1714320"/>
            <a:ext cx="194400" cy="192924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57" name="Rectangle 6"/>
          <p:cNvSpPr/>
          <p:nvPr/>
        </p:nvSpPr>
        <p:spPr>
          <a:xfrm>
            <a:off x="6500880" y="3357720"/>
            <a:ext cx="1173240" cy="74916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лутонкая овечья шерсть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3214800" y="3286080"/>
            <a:ext cx="733320" cy="35100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чес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59" name="AutoShape 15"/>
          <p:cNvCxnSpPr/>
          <p:nvPr/>
        </p:nvCxnSpPr>
        <p:spPr>
          <a:xfrm>
            <a:off x="5143320" y="1499760"/>
            <a:ext cx="2786760" cy="78660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60" name="Rectangle 4"/>
          <p:cNvSpPr/>
          <p:nvPr/>
        </p:nvSpPr>
        <p:spPr>
          <a:xfrm>
            <a:off x="3786120" y="3714840"/>
            <a:ext cx="1076400" cy="328680"/>
          </a:xfrm>
          <a:prstGeom prst="rect">
            <a:avLst/>
          </a:pr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беленк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561" name="AutoShape 16"/>
          <p:cNvCxnSpPr/>
          <p:nvPr/>
        </p:nvCxnSpPr>
        <p:spPr>
          <a:xfrm flipH="1">
            <a:off x="2642400" y="1571400"/>
            <a:ext cx="1715400" cy="76572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62" name="AutoShape 18"/>
          <p:cNvCxnSpPr/>
          <p:nvPr/>
        </p:nvCxnSpPr>
        <p:spPr>
          <a:xfrm flipH="1">
            <a:off x="3428280" y="1643040"/>
            <a:ext cx="1072440" cy="1518480"/>
          </a:xfrm>
          <a:prstGeom prst="straightConnector1">
            <a:avLst/>
          </a:prstGeom>
          <a:ln w="3168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563" name="Rectangle 19"/>
          <p:cNvSpPr/>
          <p:nvPr/>
        </p:nvSpPr>
        <p:spPr>
          <a:xfrm>
            <a:off x="3949200" y="1221840"/>
            <a:ext cx="1066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ерсть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4481640" y="273240"/>
            <a:ext cx="18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Rectangle 25"/>
          <p:cNvSpPr/>
          <p:nvPr/>
        </p:nvSpPr>
        <p:spPr>
          <a:xfrm>
            <a:off x="4329000" y="50184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500040" y="4574520"/>
            <a:ext cx="79297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mbria"/>
                <a:ea typeface="Times New Roman"/>
              </a:rPr>
              <a:t>Из предложенных  видов  шерсти  я выбрала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mbria"/>
                <a:ea typeface="Times New Roman"/>
              </a:rPr>
              <a:t>сливер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ребенную  мериносовую  шерсть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лутонкую  овечью  шерсть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450720">
              <a:buClr>
                <a:srgbClr val="333333"/>
              </a:buClr>
              <a:buFont typeface="Wingdings" charset="2"/>
              <a:buChar char="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искозу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переработка  природной  древесной целлюлозы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Инструменты необходимые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для «мокрого»  валяния из шерсти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2859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оздушно-пузырчатая  плен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етка или тю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ыльный раствор для смачивания шерст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кал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иброшлифовальная машин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лотенц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Резиновые перчатк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69" name="Рисунок 72" descr="http://cs4549.userapi.com/u157002796/-14/x_e7e15be4.jpg"/>
          <p:cNvPicPr/>
          <p:nvPr/>
        </p:nvPicPr>
        <p:blipFill>
          <a:blip r:embed="rId1"/>
          <a:stretch/>
        </p:blipFill>
        <p:spPr>
          <a:xfrm>
            <a:off x="4786200" y="1285920"/>
            <a:ext cx="2046240" cy="135720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75" descr="&amp;icy;&amp;ncy;&amp;scy;&amp;tcy;&amp;rcy;&amp;ucy;&amp;mcy;&amp;iecy;&amp;ncy;&amp;tcy; &amp;dcy;&amp;lcy;&amp;yacy; &amp;vcy;&amp;acy;&amp;lcy;&amp;yacy;&amp;ncy;&amp;icy;&amp;yacy; &amp;shcy;&amp;iecy;&amp;rcy;&amp;scy;&amp;tcy;&amp;icy;"/>
          <p:cNvPicPr/>
          <p:nvPr/>
        </p:nvPicPr>
        <p:blipFill>
          <a:blip r:embed="rId2"/>
          <a:stretch/>
        </p:blipFill>
        <p:spPr>
          <a:xfrm>
            <a:off x="1143000" y="171468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74" descr="&amp;Vcy;&amp;acy;&amp;lcy;&amp;yacy;&amp;ncy;&amp;icy;&amp;iecy; &amp;rcy;&amp;ucy;&amp;chcy;&amp;ncy;&amp;ocy;&amp;jcy; &amp;rcy;&amp;acy;&amp;bcy;&amp;ocy;&amp;tcy;&amp;ycy;. &amp;YAcy;&amp;rcy;&amp;mcy;&amp;acy;&amp;rcy;&amp;kcy;&amp;acy; &amp;Mcy;&amp;acy;&amp;scy;&amp;tcy;&amp;iecy;&amp;rcy;&amp;ocy;&amp;vcy; - &amp;rcy;&amp;ucy;&amp;chcy;&amp;ncy;&amp;acy;&amp;yacy; &amp;rcy;&amp;acy;&amp;bcy;&amp;ocy;&amp;tcy;&amp;acy; &amp;Scy;&amp;kcy;&amp;acy;&amp;lcy;&amp;kcy;&amp;acy; &amp;dcy;&amp;lcy;&amp;yacy; &amp;mcy;&amp;ocy;&amp;kcy;&amp;rcy;&amp;ocy;&amp;gcy;&amp;ocy; &amp;vcy;&amp;acy;&amp;lcy;&amp;yacy;&amp;ncy;&amp;icy;&amp;yacy;. Handmade."/>
          <p:cNvPicPr/>
          <p:nvPr/>
        </p:nvPicPr>
        <p:blipFill>
          <a:blip r:embed="rId3"/>
          <a:stretch/>
        </p:blipFill>
        <p:spPr>
          <a:xfrm>
            <a:off x="1143000" y="3214800"/>
            <a:ext cx="1857240" cy="93960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76" descr="http://modnoerukodelie.ru/img-mr/articles/anisimova-valyanie-f10.jpg"/>
          <p:cNvPicPr/>
          <p:nvPr/>
        </p:nvPicPr>
        <p:blipFill>
          <a:blip r:embed="rId4"/>
          <a:stretch/>
        </p:blipFill>
        <p:spPr>
          <a:xfrm>
            <a:off x="4786200" y="35002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77" descr="http://s45.radikal.ru/i108/0906/73/a0f1436523f9.jpg"/>
          <p:cNvPicPr/>
          <p:nvPr/>
        </p:nvPicPr>
        <p:blipFill>
          <a:blip r:embed="rId5"/>
          <a:stretch/>
        </p:blipFill>
        <p:spPr>
          <a:xfrm>
            <a:off x="7000920" y="1857240"/>
            <a:ext cx="1500120" cy="200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&amp;Pcy;&amp;iecy;&amp;rcy;&amp;chcy;&amp;acy;&amp;tcy;&amp;kcy;&amp;icy;"/>
          <p:cNvPicPr/>
          <p:nvPr/>
        </p:nvPicPr>
        <p:blipFill>
          <a:blip r:embed="rId6"/>
          <a:stretch/>
        </p:blipFill>
        <p:spPr>
          <a:xfrm>
            <a:off x="1143000" y="4643280"/>
            <a:ext cx="209700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571680"/>
            <a:ext cx="78152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Инструменты необходимые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для «сухого»  валяния из шерсти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357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Иглы для фильцевани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щетка-подушка   или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ложка из поролон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Наперстк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77" name="Рисунок 63" descr="http://shop.firma-gamma.ru/images/f/e/g2890027732t.jpg"/>
          <p:cNvPicPr/>
          <p:nvPr/>
        </p:nvPicPr>
        <p:blipFill>
          <a:blip r:embed="rId1"/>
          <a:stretch/>
        </p:blipFill>
        <p:spPr>
          <a:xfrm>
            <a:off x="7000920" y="1500120"/>
            <a:ext cx="1689120" cy="83520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67" descr="http://shop.firma-gamma.ru/images/a/d/g2890074592t.jpg"/>
          <p:cNvPicPr/>
          <p:nvPr/>
        </p:nvPicPr>
        <p:blipFill>
          <a:blip r:embed="rId2"/>
          <a:stretch/>
        </p:blipFill>
        <p:spPr>
          <a:xfrm>
            <a:off x="7000920" y="24289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http://www.feutrage.ru/93-135-thickbox/5-igly-smennye-grubye.jpg"/>
          <p:cNvPicPr/>
          <p:nvPr/>
        </p:nvPicPr>
        <p:blipFill>
          <a:blip r:embed="rId3"/>
          <a:stretch/>
        </p:blipFill>
        <p:spPr>
          <a:xfrm>
            <a:off x="5286240" y="15001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http://www.vishivka-igolochka.ru/images/product_images/popup_images/5356_0.jpg"/>
          <p:cNvPicPr/>
          <p:nvPr/>
        </p:nvPicPr>
        <p:blipFill>
          <a:blip r:embed="rId4"/>
          <a:stretch/>
        </p:blipFill>
        <p:spPr>
          <a:xfrm>
            <a:off x="785880" y="3000240"/>
            <a:ext cx="1890720" cy="3024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http://www.vsehobby.ru/koltso_valjanie_2.jpg"/>
          <p:cNvPicPr/>
          <p:nvPr/>
        </p:nvPicPr>
        <p:blipFill>
          <a:blip r:embed="rId5"/>
          <a:stretch/>
        </p:blipFill>
        <p:spPr>
          <a:xfrm>
            <a:off x="4643280" y="3929040"/>
            <a:ext cx="4000680" cy="213048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68" descr="http://www.cottonpatch.co.uk/acatalog/9337.jpg"/>
          <p:cNvPicPr/>
          <p:nvPr/>
        </p:nvPicPr>
        <p:blipFill>
          <a:blip r:embed="rId6"/>
          <a:stretch/>
        </p:blipFill>
        <p:spPr>
          <a:xfrm>
            <a:off x="2928960" y="2643120"/>
            <a:ext cx="221472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Инструменты  для   рисования 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                      картины  шерстью 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рама нужного размера ( со стеклом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флизелин или флане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ножниц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инцет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5" name="Рисунок 79" descr="&amp;Icy;&amp;ncy;&amp;scy;&amp;tcy;&amp;rcy;&amp;ucy;&amp;mcy;&amp;iecy;&amp;ncy;&amp;tcy;&amp;ycy; &amp;icy; &amp;mcy;&amp;acy;&amp;tcy;&amp;iecy;&amp;rcy;&amp;icy;&amp;acy;&amp;lcy;&amp;ycy; &amp;dcy;&amp;lcy;&amp;yacy; &amp;Mcy;&amp;Kcy;"/>
          <p:cNvPicPr/>
          <p:nvPr/>
        </p:nvPicPr>
        <p:blipFill>
          <a:blip r:embed="rId1"/>
          <a:stretch/>
        </p:blipFill>
        <p:spPr>
          <a:xfrm>
            <a:off x="2357280" y="2857680"/>
            <a:ext cx="4489560" cy="335736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80" descr="http://gallery.forum-grad.ru/files/2/2/6/3/2/2_855862.jpg"/>
          <p:cNvPicPr/>
          <p:nvPr/>
        </p:nvPicPr>
        <p:blipFill>
          <a:blip r:embed="rId2"/>
          <a:stretch/>
        </p:blipFill>
        <p:spPr>
          <a:xfrm>
            <a:off x="5786280" y="1428840"/>
            <a:ext cx="244332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9. Правила  техники  безопасности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28760" y="500040"/>
            <a:ext cx="77724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"/>
          </a:bodyPr>
          <a:p>
            <a:pPr marL="13680" indent="-1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 время работы ножницы должны лежать справа на столе с сомкнутыми лезвиям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Брать и передавать ножницы нужно сомкнутыми лезвиями к себе, кольцами вперед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 бросайте иглы  после работы, а убирайте их в определённое место, в контейнер для игл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Быть осторожным  при работе с иглой для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фильцивания , сама игла и насечки очен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трые!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 подставляйте  под нее пальцы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желательно одевать на палец наперсток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ержать  изделие  в руках опасно – используйте в качестве коврика губк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льзя пользоваться ржавыми иглами и ножницам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и разбрызгивании мыльного раствора быть аккуратным, чтобы он не попал в глаз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3680" indent="-1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9" name="Рисунок 82" descr="http://inhandmade.ru/images/stories/felting/felting_dog/sobachka_valianie_04.jpg"/>
          <p:cNvPicPr/>
          <p:nvPr/>
        </p:nvPicPr>
        <p:blipFill>
          <a:blip r:embed="rId1"/>
          <a:stretch/>
        </p:blipFill>
        <p:spPr>
          <a:xfrm>
            <a:off x="6000840" y="2714760"/>
            <a:ext cx="235728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456840"/>
            <a:ext cx="814356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0.Технология изготовления декоративных панно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28760" y="99972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готовление панно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Памятник Софийскому   полку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Рисование  эскиза                                                         3.Выкладыва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борка  рамы                первого слоя-сливер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Выкладывание заднего плана картин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Применение               6.Фильцевание памятни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окрого валяния          и переднего плана картин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2" name="Рисунок 7" descr="&amp;Fcy;&amp;acy;&amp;jcy;&amp;lcy; a.jpg"/>
          <p:cNvPicPr/>
          <p:nvPr/>
        </p:nvPicPr>
        <p:blipFill>
          <a:blip r:embed="rId1"/>
          <a:stretch/>
        </p:blipFill>
        <p:spPr>
          <a:xfrm>
            <a:off x="3357720" y="2143080"/>
            <a:ext cx="1571400" cy="105732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2" descr="C:\Users\маняша\Desktop\фото валяние\DSCN0563.JPG"/>
          <p:cNvPicPr/>
          <p:nvPr/>
        </p:nvPicPr>
        <p:blipFill>
          <a:blip r:embed="rId2"/>
          <a:stretch/>
        </p:blipFill>
        <p:spPr>
          <a:xfrm>
            <a:off x="6643800" y="2214720"/>
            <a:ext cx="1544400" cy="121428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10" descr="C:\Users\маняша\Desktop\фото валяние\DSCN0564.JPG"/>
          <p:cNvPicPr/>
          <p:nvPr/>
        </p:nvPicPr>
        <p:blipFill>
          <a:blip r:embed="rId3"/>
          <a:stretch/>
        </p:blipFill>
        <p:spPr>
          <a:xfrm>
            <a:off x="785880" y="3643200"/>
            <a:ext cx="1357200" cy="182556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3" descr="C:\Users\маняша\Desktop\фото валяние\DSCN0566.JPG"/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189360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4" descr="C:\Users\маняша\Desktop\фото валяние\DSCN0568.JPG"/>
          <p:cNvPicPr/>
          <p:nvPr/>
        </p:nvPicPr>
        <p:blipFill>
          <a:blip r:embed="rId5"/>
          <a:stretch/>
        </p:blipFill>
        <p:spPr>
          <a:xfrm>
            <a:off x="6858000" y="4429080"/>
            <a:ext cx="1357200" cy="1819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C:\Users\Маняша\Desktop\ПРОЕКТ 2013\эскизы\Untitled-Scanned-03.jpg"/>
          <p:cNvPicPr/>
          <p:nvPr/>
        </p:nvPicPr>
        <p:blipFill>
          <a:blip r:embed="rId6"/>
          <a:stretch/>
        </p:blipFill>
        <p:spPr>
          <a:xfrm>
            <a:off x="884160" y="1689120"/>
            <a:ext cx="12985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Деревья на заднем плане         8.«Рисование» стволов деревье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а переднем план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Снег на деревья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0.Завершение работы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ад панн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1.Оформление панно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рамку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9" name="Рисунок 6" descr="C:\Users\маняша\Desktop\фото валяние\DSCN0570.JPG"/>
          <p:cNvPicPr/>
          <p:nvPr/>
        </p:nvPicPr>
        <p:blipFill>
          <a:blip r:embed="rId1"/>
          <a:stretch/>
        </p:blipFill>
        <p:spPr>
          <a:xfrm>
            <a:off x="1500120" y="857160"/>
            <a:ext cx="1357560" cy="1809720"/>
          </a:xfrm>
          <a:prstGeom prst="rect">
            <a:avLst/>
          </a:prstGeom>
          <a:ln w="0">
            <a:noFill/>
          </a:ln>
        </p:spPr>
      </p:pic>
      <p:pic>
        <p:nvPicPr>
          <p:cNvPr id="600" name="Рисунок 7" descr="C:\Users\маняша\Desktop\фото валяние\DSCN0574.JPG"/>
          <p:cNvPicPr/>
          <p:nvPr/>
        </p:nvPicPr>
        <p:blipFill>
          <a:blip r:embed="rId2"/>
          <a:stretch/>
        </p:blipFill>
        <p:spPr>
          <a:xfrm>
            <a:off x="5715000" y="1214280"/>
            <a:ext cx="1428840" cy="1900440"/>
          </a:xfrm>
          <a:prstGeom prst="rect">
            <a:avLst/>
          </a:prstGeom>
          <a:ln w="0">
            <a:noFill/>
          </a:ln>
        </p:spPr>
      </p:pic>
      <p:pic>
        <p:nvPicPr>
          <p:cNvPr id="601" name="Рисунок 8" descr="C:\Users\маняша\Desktop\фото валяние\DSCN0576.JPG"/>
          <p:cNvPicPr/>
          <p:nvPr/>
        </p:nvPicPr>
        <p:blipFill>
          <a:blip r:embed="rId3"/>
          <a:stretch/>
        </p:blipFill>
        <p:spPr>
          <a:xfrm>
            <a:off x="1571760" y="3357720"/>
            <a:ext cx="1357200" cy="179064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17" descr="C:\Users\маняша\Desktop\фото валяние\DSCN0587.JPG"/>
          <p:cNvPicPr/>
          <p:nvPr/>
        </p:nvPicPr>
        <p:blipFill>
          <a:blip r:embed="rId4"/>
          <a:stretch/>
        </p:blipFill>
        <p:spPr>
          <a:xfrm>
            <a:off x="3500280" y="3929040"/>
            <a:ext cx="1428840" cy="190044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2" descr="C:\Users\маняша\Desktop\фото валяние\DSCN0589.JPG"/>
          <p:cNvPicPr/>
          <p:nvPr/>
        </p:nvPicPr>
        <p:blipFill>
          <a:blip r:embed="rId5"/>
          <a:stretch/>
        </p:blipFill>
        <p:spPr>
          <a:xfrm>
            <a:off x="5786280" y="4500720"/>
            <a:ext cx="142884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1.Экономическое обосновани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428760" y="857160"/>
          <a:ext cx="8429400" cy="5845320"/>
        </p:xfrm>
        <a:graphic>
          <a:graphicData uri="http://schemas.openxmlformats.org/drawingml/2006/table">
            <a:tbl>
              <a:tblPr/>
              <a:tblGrid>
                <a:gridCol w="556920"/>
                <a:gridCol w="2425680"/>
                <a:gridCol w="946440"/>
                <a:gridCol w="2874960"/>
                <a:gridCol w="1625400"/>
              </a:tblGrid>
              <a:tr h="594360"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Цена (в руб.)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сход материалов на изделие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траты на материал (в  руб.)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9672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рсть для валяния (сливер)– 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0 г- 1 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/2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1584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рсть для валяния (гребенная) -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0 г- 1 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олубая,синяя – 1/4 ,1/4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асильковая, сиреневая -1/10, 1/10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зовая , салатная-1/10, 1/10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в.зеленая , тем. зеленая -1/5, 1/5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олотная , красная-1/10, 1/10 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Черная- 1/5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4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руб.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594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рсть для валяния (полутонкая овечья)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0г-1 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елтая св.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елтая тем.- 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ремов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792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искоза для валяния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0гр-1моток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елая-1/5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тальн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в.коричнев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м.коричнеая-1/10мот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идкое мыло 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 флакон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 баллон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оздушно-пузырчатая пленка, сетка, полотенце, губк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в наличии дома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72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глы для фильцевания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 шт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руб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шт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96360"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49b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ма для панно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уки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руб.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97360">
                <a:tc gridSpan="5">
                  <a:txBody>
                    <a:bodyPr lIns="16560" rIns="16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                                                                                                                                                 827 руб.                 </a:t>
                      </a:r>
                      <a:endParaRPr b="0" lang="en-US" sz="13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16560" marR="1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4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маняша</cp:lastModifiedBy>
  <dcterms:modified xsi:type="dcterms:W3CDTF">2013-03-03T09:17:29Z</dcterms:modified>
  <cp:revision>73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