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B61-51FB-4A49-B458-29B3EB45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00A-B69D-4113-9B1B-F4DDF9A3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B5435-8182-494A-AEC9-DFCBC265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AC4B7-9D54-4016-8446-756CB20E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6FA77-B75D-41BF-A070-3DA1677C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929E0-1F93-4523-95D5-E48CD86D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99A7C-F2CA-4F7E-8B39-9DEDE060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66700-7D9C-4E06-998E-640E4A25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5823D-4FE0-4FA8-BA13-EBCE7BC9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7A77C-C8A0-4524-A4AD-6970C6F1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34208-5130-422B-9BA9-EE6E0828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2E4AD-6BF2-4FB2-8378-CA212510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DD1-8488-4A1F-9E50-C97AA9D9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46E53-9EA1-464A-B5ED-B6256148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BFF18-082D-437D-9340-EEA61516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3281E-64E5-440A-A2B5-05F60804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D88B8-A52B-493B-8EFE-0F36A416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57D06-4A9A-4FDE-95D5-A1E6D247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8A6C5-C2D8-4060-B8AC-24923C68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F852A-6810-44AF-BEEC-46FAC37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2C722-D956-4431-A4EC-0FACFA3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EF191-C910-4235-A850-EF50B6C8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181BF-E5D3-402B-999B-E703AF93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367-ECA2-4555-ACDE-2B9E3FC0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919ED-896B-4008-9C46-9BCAC2C2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10042-D373-4AA8-89A8-C1A3BE47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369AB-AB95-4782-B0BE-1C3C4B1B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AB054-5595-4AE2-AA66-1C69DD81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63EB6-CFCB-40AD-B447-9D75237D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04116-40F1-4B98-91A7-C1030739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ADE61-3B4F-4DA2-B03B-2C431EF0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2749F-0B23-4289-BEA9-E710E65F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E2AA1-7A77-46ED-A14E-DAB086F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9AC11-BEA2-4922-AC2D-6A615E05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0CF8-D1F5-4742-B4BA-55DBE3F6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8F8F3-3EE1-4F86-88DA-FABE57F5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A046E-C50B-4824-886C-C5E16705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7392E-33A7-49EF-A477-0067D65A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A83C4-E327-4303-8016-BFEB597D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E0238-DCB0-499D-8C5A-6D85692F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7ADA4-075D-4585-A19E-B2DEC99A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26E8B-6EB7-413B-AAC3-1E13C4AC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90C89-3A9F-4E44-B16A-1E4DFD87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EFB80-AEA1-4115-9D17-4F98D253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244E9-A992-4B15-AEE5-973EC5FB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F983-ADF2-4D95-B1CA-2986D1EF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2E2D1-E3BC-462D-9024-A92C8B75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19E26-0B57-4990-8871-0DFB6C9A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7939D-F82A-4FC1-8699-E596AD5E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7E8CC-2372-49F7-897E-94AF1330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36C5F-B260-4260-AD37-58C4040D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6CABB-F6D5-4EE7-912F-BB7DA311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FF1B4-DD9D-400D-A4D3-B211BF9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534FC-8346-4EAE-A8C7-378B558C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89188-04F7-4807-82AF-6C889215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28C07-EAC2-42F0-9B54-119B93BA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0C64-8803-4F1D-AEED-EA5411A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4BD0C-0CB7-4071-B69C-D968A6B9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9EACE-08BC-438C-BF19-D932C054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CA100-0AA8-40B4-BFCE-9D014CC1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EA872-3A4A-424B-A175-409FEF9D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1A58F-87CB-4EE8-82C7-C02F418F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7961B-3C33-4A78-AB5B-63A29B54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42FA3-91F9-4578-BE1A-AF01EC1E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DDB1-D3D2-449E-804C-605E0D28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6518-EA45-4989-946E-6D3D667E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83D6-3428-44ED-8F7E-EF9898E9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A530-3415-4CD5-BC96-3D31D79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5D7-CD1D-49B2-A0BA-8B1C85B3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7E52-39E9-4F18-BC66-0F6D8C7C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2776-9D44-41C8-A26C-52A05497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A8CF-0B9E-4760-879B-C51842FA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E9A0-DC1C-4A00-8951-18A6172B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06A1-4F60-4A77-9F4E-B8FFFB9D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2215-2CAF-4529-9DB1-6B0C4D98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0F5F6-00FF-403C-9D13-A5F311D4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497F-AF73-40E4-9394-A34A8D44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861F-6124-40A9-8821-10374771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18A5B-0F02-46AF-8526-B6FBE0A9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F4C-8E9C-40D7-8438-AC2B1C72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137B-C1FE-4E0C-9935-2B976C59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C0DD-46FC-49A2-8399-789326A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6CA79-E87B-4174-BE06-649AA88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10AF-32F0-4CD4-AE55-7D2FA978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B4ED-1142-4C1F-B8A2-DA57280B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B71D-6A0E-435F-8133-C3F06663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6AF43-C0F1-45FD-9AC9-901A410B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0247-2784-4B8B-BD5F-02E8F8AA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79B78-EE4B-41ED-86A3-C228EAB7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6F9B5-A052-4ADA-BAA3-A8A553EC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2B7-8170-4262-84DD-A4946AB6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DFE8E-9A28-4D9B-9092-D0D40265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D54CE-1492-4491-83D1-B28484E5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0133-760A-4935-8EAB-9122FE2E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1D56-7802-47EB-85AA-01FDF99C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A2F84-7465-4F57-9729-2ACB139C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7DC22-9BEA-4D5D-BEB6-EB4E019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6C31-F262-4DF5-B23E-FF515C06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B6D7A-1443-44E5-83D6-9F7504CB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D43AB-27A1-4461-A783-6464BEF6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A053B-BC36-4039-BCF0-31FDA949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04D-8509-40C1-898F-1026E060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D1F16-934B-477D-BD8C-6A795512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05C4C-7830-4148-B9D2-66AA2901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8A41B-D78B-4226-9C98-74CEDAA9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52800-ECBD-46BC-BD12-13036B06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166BC-1194-4006-B64E-7DA566F9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5798-567B-4BD1-838D-A518FBA5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201F3-2344-470C-A1E6-EE93B712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DB954-D054-401F-905D-FFB6D47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D032A-0D69-42C6-BAF1-6755D004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63F0A-0877-4E82-B01C-C6664647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7C1-F138-40C3-A365-C20BECD3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0A6D6-C74C-4C49-A4BA-8E8960FC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C91AC-F350-42A8-8A9D-4CE91F0B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7D61F-EFAC-4A93-88DE-5ACC1377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6EE0D-3A1B-4612-80C7-FD8DBC27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ABB80-C9AC-48D5-BB83-10CAA51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1618C-3375-4568-AADD-2E25FFD8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933C0-1B3C-4401-BA8A-E989AD5F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B888D-AFAB-4AE9-9911-B6F6CAEF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6324C-045B-4B5B-BFF3-B7B00B4D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FD278-A09D-4BC5-9869-987FE213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91D-92F7-401A-B3E6-12F3986B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9495-9725-4CC9-8299-ACFDDB9A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E06A-10E3-434B-BB2B-701425FB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AC9F1-D451-4DFC-A807-56F32B80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F3669-D5DD-46CE-9649-AE018B2E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8220A-A6C8-4661-9AFA-7515CAD5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AA5F4-391B-4672-8FCB-F6571ED8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2D9E5-099A-436D-9A67-3FBE21FE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9490C-CE5C-428B-B54D-8BFFB0C9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DB832-9DF4-462A-804C-591D5B3D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D421A-ABB6-4713-8F5B-75D6553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908-4431-40AF-B614-736853E3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7F41B-47B1-45D9-9590-7D0A90EB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2F9BA-FCA5-424F-80F4-3DDF4149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B3B7-505A-4400-9643-558EEF8B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A41F9-444A-4F0C-871C-8164C153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AA740-585B-4DFD-B67F-7481C45D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15F4B-A456-4D5F-8B52-DD2AACDF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0F643-7593-40A1-8C4B-B4D06026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CB3EC-9D77-42A6-974E-69A56BBA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35A18-04FC-47E9-A7AD-3870159D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5AB9-0B7C-4E03-896A-F5D9DB79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9D5-0AD2-41B7-B3EF-F7F05A29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4934C-0A6F-4985-9FC0-14404A5A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D7E8-5A1B-43BE-9B65-ED88905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45A3C-CD7B-4295-8555-ADDDE47D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9E44-8389-4460-94E0-18093A2B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C48A2-C6A3-4DE9-9490-913664E2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0044A-2F74-4C69-806E-69FA6E96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D5713-DF94-4696-9F83-FFFE7F0C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360B6-1FC4-4301-8FC8-ED769ED6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91644-A3F3-484F-8DA3-FC4A54F2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07347-6639-4905-AAF4-4C802B27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AEBC-B9BD-474A-8E07-8CD9342404C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897C-BAA0-46CB-B412-B1C6212E970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B667-2D10-4408-B645-47B71344447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7673-0BB3-4C87-ADC0-130A07AF035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2544-30B9-496E-BB7C-A3DBB05BD35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C72C-DC12-418A-B7CB-FB4EA9D9FD7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7365-5DDF-4758-BC47-D193E8FC27B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1A7C-3AD7-4A56-9CAD-A11D4221154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A281-570D-4F55-94F8-DC6E8E9FF40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0444-9DE9-4608-936B-F56DE0492EC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30FB-C476-4138-8B0B-07129CFB7F3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92D2-7A6D-46C7-AEA2-A667985B8B4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D4D6-A51C-45E3-A9B6-0B795B8D137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7.Техники  валяния из шер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28760" y="1071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499"/>
              </a:spcBef>
              <a:buClr>
                <a:srgbClr val="5789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валяние «по-сухому»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холодное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6" name="Рисунок 35" descr="http://hobbyfox.ru/wp-content/uploads/2011/10/100_0682mary2.jpg"/>
          <p:cNvPicPr/>
          <p:nvPr/>
        </p:nvPicPr>
        <p:blipFill>
          <a:blip r:embed="rId1"/>
          <a:stretch/>
        </p:blipFill>
        <p:spPr>
          <a:xfrm>
            <a:off x="5838840" y="571680"/>
            <a:ext cx="2590920" cy="221436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42" descr="http://myrisuem.ru/wp-content/uploads/2809091.jpg"/>
          <p:cNvPicPr/>
          <p:nvPr/>
        </p:nvPicPr>
        <p:blipFill>
          <a:blip r:embed="rId2"/>
          <a:stretch/>
        </p:blipFill>
        <p:spPr>
          <a:xfrm>
            <a:off x="928800" y="1500120"/>
            <a:ext cx="2828880" cy="2114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4"/>
          <p:cNvSpPr/>
          <p:nvPr/>
        </p:nvSpPr>
        <p:spPr>
          <a:xfrm>
            <a:off x="581760" y="37152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333333"/>
              </a:buClr>
              <a:buFont typeface="Wingdings" charset="2"/>
              <a:buChar char="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ерстяная акварель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9" name="Рисунок 49" descr="http://www.tk.uspb.ru/marina_1.jpg"/>
          <p:cNvPicPr/>
          <p:nvPr/>
        </p:nvPicPr>
        <p:blipFill>
          <a:blip r:embed="rId3"/>
          <a:stretch/>
        </p:blipFill>
        <p:spPr>
          <a:xfrm>
            <a:off x="928800" y="4125960"/>
            <a:ext cx="2857320" cy="217800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7"/>
          <p:cNvSpPr/>
          <p:nvPr/>
        </p:nvSpPr>
        <p:spPr>
          <a:xfrm>
            <a:off x="4500720" y="4071960"/>
            <a:ext cx="4357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нуно валяние или нуно-фелтинг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1" name="Picture 6" descr="http://www.masterjournal.ru/uploads/images/00/01/21/2011/07/11/bdb41972c1.jpg"/>
          <p:cNvPicPr/>
          <p:nvPr/>
        </p:nvPicPr>
        <p:blipFill>
          <a:blip r:embed="rId4"/>
          <a:stretch/>
        </p:blipFill>
        <p:spPr>
          <a:xfrm>
            <a:off x="4929120" y="3643200"/>
            <a:ext cx="3510000" cy="207180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10"/>
          <p:cNvSpPr/>
          <p:nvPr/>
        </p:nvSpPr>
        <p:spPr>
          <a:xfrm>
            <a:off x="4286160" y="3000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по-мокрому»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мокрое или горячее)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9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2. Экологическое   обосновани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56760" y="857160"/>
            <a:ext cx="82868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аляние из шерсти - это  экологически  чистое  производство,  не  выделяются  вредные  вещества, не  загрязняется  атмосфер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ля  изготовления изделия в технике валяния из шерсти  я использовала экологически  чистые  материалы -  волокна шерсти  выполнены  из  натурального покрова животных, не выделяет вредных веществ, не вызывает аллергии.  При окрашивании шерсти использованы устойчивые красители, не оказывающие вредного воздействия на кожу человека в процессе изготовления издел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актически безотходное производство, так как остатки шерсти можно использовать  для других изделий  в этой техник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 окончанию срока службы изделие подвергается биохимическим процессам естественным путём или легко утилизируется при  естественных  процессах  тления  или  горения,  изделие  не  загрязняет  окружающую  сред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мка изготовлена из натурального дерев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Я выполнила  экологически  чистое  изделие,  и  поэтому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нет  опасности  для  здоровья  человека  в  использовании  издел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1598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09" name="Рисунок 2" descr="ar122123901328487"/>
          <p:cNvPicPr/>
          <p:nvPr/>
        </p:nvPicPr>
        <p:blipFill>
          <a:blip r:embed="rId1"/>
          <a:stretch/>
        </p:blipFill>
        <p:spPr>
          <a:xfrm>
            <a:off x="7429680" y="5072040"/>
            <a:ext cx="11397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3.Анализ  готового  изделия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28760" y="785880"/>
            <a:ext cx="82152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Готовая работа  отвечает   следующим  требованиям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Конструктивные  требования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 получившаяся  работа   надежн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отовые декоративные панно  полностью  соответствуют  современному стилю, могут   сочетаться  с  любым интерьер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ехнологические  требования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шерсть и мыло подобраны правильно в соответствии с требованиями технологии, соблюдена последовательность изготовления изделия в технике мокрого и сухого  валяния, изображение чёткое и соответствует выбранному рисунку.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Эстетические  требования: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для  выполнения  работы  я  использовала сочетающие  оттенки, они соответствуют разным временам года. Панно  будут  хорошо  смотреться  в  интерьере.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Экологические требования: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работа  выполнена  из  экологически  чистых  материалов. Она  не  принесет  вреда  ни  экологии, ни  человеку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Экономические  требования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 ручная  работа  столь дорога, что  ее выгодно  делать для  себя, для подарка, а  не  для  продаж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0040" y="457200"/>
            <a:ext cx="814392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4. Самооценка  творческого  проекта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Я "рисую" шерстью - самым теплым и благодарным материалом. Мало того, что он греет в прямом смысле, так и вещицы из него несут в себе всю теплоту рук и вложенной доброты. Благодаря особым свойствам шерстяного волокна, картины из шерсти получаются очень сочными, яркими и "теплыми"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езультат  полностью  оправдал  мои  ожидан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а мой взгляд, панно  получились  гармоничными, красивыми, оригинальными. Мне  понравился  внешний  вид  работы, цветовая  гамм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ставленные мною цели выполнены и задачи достигнуты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ходе работы я изучила и опробовала различные техники  валяния из шерсти, познакомилась с достопримечательностями  г. Смоленс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Я довольна тем, что выполнила такую работу. Мои панно могут служить самостоятельным декоративным элементом интерьера  и  быть великолепным  подарком к  юбилею г. Смоленс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4" descr="mohair3"/>
          <p:cNvPicPr/>
          <p:nvPr/>
        </p:nvPicPr>
        <p:blipFill>
          <a:blip r:embed="rId1"/>
          <a:stretch/>
        </p:blipFill>
        <p:spPr>
          <a:xfrm>
            <a:off x="7215120" y="3214800"/>
            <a:ext cx="1432080" cy="146988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62" descr="&amp;ocy;&amp;chcy;&amp;iecy;&amp;scy;, &amp;gcy;&amp;rcy;&amp;ucy;&amp;bcy;&amp;acy;&amp;yacy; &amp;shcy;&amp;iecy;&amp;rcy;&amp;scy;&amp;tcy;&amp;softcy;, &amp;scy;&amp;lcy;&amp;icy;&amp;gcy;&amp;iecy;&amp;rcy;, &amp;vcy;&amp;ycy;&amp;bcy;&amp;iecy;&amp;lcy;&amp;iecy;&amp;ncy;&amp;kcy;&amp;acy;"/>
          <p:cNvPicPr/>
          <p:nvPr/>
        </p:nvPicPr>
        <p:blipFill>
          <a:blip r:embed="rId2"/>
          <a:stretch/>
        </p:blipFill>
        <p:spPr>
          <a:xfrm>
            <a:off x="2928960" y="4357800"/>
            <a:ext cx="5214960" cy="56520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59" descr="http://rada-rukodelniza.ru/wp-content/uploads/2011/11/oches.jpg"/>
          <p:cNvPicPr/>
          <p:nvPr/>
        </p:nvPicPr>
        <p:blipFill>
          <a:blip r:embed="rId3"/>
          <a:stretch/>
        </p:blipFill>
        <p:spPr>
          <a:xfrm>
            <a:off x="1928880" y="3429000"/>
            <a:ext cx="1611360" cy="120816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51" descr="http://mnogosun.ru/img.php?fld=photos&amp;id=18494967&amp;sbf=thumbs1&amp;image=image1316.jpg"/>
          <p:cNvPicPr/>
          <p:nvPr/>
        </p:nvPicPr>
        <p:blipFill>
          <a:blip r:embed="rId4"/>
          <a:stretch/>
        </p:blipFill>
        <p:spPr>
          <a:xfrm>
            <a:off x="642960" y="2714760"/>
            <a:ext cx="1409760" cy="138240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50" descr="http://images.tiu.ru/7996763_w640_h640_sherst.jpg"/>
          <p:cNvPicPr/>
          <p:nvPr/>
        </p:nvPicPr>
        <p:blipFill>
          <a:blip r:embed="rId5"/>
          <a:stretch/>
        </p:blipFill>
        <p:spPr>
          <a:xfrm>
            <a:off x="6143760" y="1143000"/>
            <a:ext cx="1285920" cy="11239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42600" y="456840"/>
            <a:ext cx="781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8.Материалы, инструменты, принадлеж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9" name="Rectangle 17"/>
          <p:cNvSpPr/>
          <p:nvPr/>
        </p:nvSpPr>
        <p:spPr>
          <a:xfrm>
            <a:off x="928800" y="2214720"/>
            <a:ext cx="885600" cy="34128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ливер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7715160" y="2357280"/>
            <a:ext cx="876240" cy="59868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нгора, мохер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1928880" y="2357280"/>
            <a:ext cx="1295280" cy="82080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ребенная мериносовая шерсть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552" name="AutoShape 10"/>
          <p:cNvCxnSpPr/>
          <p:nvPr/>
        </p:nvCxnSpPr>
        <p:spPr>
          <a:xfrm flipH="1">
            <a:off x="1356480" y="1428480"/>
            <a:ext cx="2786760" cy="66276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553" name="AutoShape 13"/>
          <p:cNvCxnSpPr/>
          <p:nvPr/>
        </p:nvCxnSpPr>
        <p:spPr>
          <a:xfrm>
            <a:off x="5000760" y="1643040"/>
            <a:ext cx="2071800" cy="164376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554" name="AutoShape 14"/>
          <p:cNvCxnSpPr/>
          <p:nvPr/>
        </p:nvCxnSpPr>
        <p:spPr>
          <a:xfrm>
            <a:off x="4786200" y="1714680"/>
            <a:ext cx="929520" cy="235800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555" name="Rectangle 3"/>
          <p:cNvSpPr/>
          <p:nvPr/>
        </p:nvSpPr>
        <p:spPr>
          <a:xfrm>
            <a:off x="5072040" y="3786120"/>
            <a:ext cx="1146240" cy="39384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рблюжк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556" name="AutoShape 12"/>
          <p:cNvCxnSpPr/>
          <p:nvPr/>
        </p:nvCxnSpPr>
        <p:spPr>
          <a:xfrm flipH="1">
            <a:off x="4500360" y="1714320"/>
            <a:ext cx="194400" cy="192924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557" name="Rectangle 6"/>
          <p:cNvSpPr/>
          <p:nvPr/>
        </p:nvSpPr>
        <p:spPr>
          <a:xfrm>
            <a:off x="6500880" y="3357720"/>
            <a:ext cx="1173240" cy="74916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лутонкая овечья шерсть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3214800" y="3286080"/>
            <a:ext cx="733320" cy="35100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чес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559" name="AutoShape 15"/>
          <p:cNvCxnSpPr/>
          <p:nvPr/>
        </p:nvCxnSpPr>
        <p:spPr>
          <a:xfrm>
            <a:off x="5143320" y="1499760"/>
            <a:ext cx="2786760" cy="78660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560" name="Rectangle 4"/>
          <p:cNvSpPr/>
          <p:nvPr/>
        </p:nvSpPr>
        <p:spPr>
          <a:xfrm>
            <a:off x="3786120" y="3714840"/>
            <a:ext cx="1076400" cy="32868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беленк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561" name="AutoShape 16"/>
          <p:cNvCxnSpPr/>
          <p:nvPr/>
        </p:nvCxnSpPr>
        <p:spPr>
          <a:xfrm flipH="1">
            <a:off x="2642400" y="1571400"/>
            <a:ext cx="1715400" cy="76572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562" name="AutoShape 18"/>
          <p:cNvCxnSpPr/>
          <p:nvPr/>
        </p:nvCxnSpPr>
        <p:spPr>
          <a:xfrm flipH="1">
            <a:off x="3428280" y="1643040"/>
            <a:ext cx="1072440" cy="151848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563" name="Rectangle 19"/>
          <p:cNvSpPr/>
          <p:nvPr/>
        </p:nvSpPr>
        <p:spPr>
          <a:xfrm>
            <a:off x="3949200" y="1221840"/>
            <a:ext cx="1066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ерсть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Rectangle 23"/>
          <p:cNvSpPr/>
          <p:nvPr/>
        </p:nvSpPr>
        <p:spPr>
          <a:xfrm>
            <a:off x="4481640" y="273240"/>
            <a:ext cx="180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Rectangle 25"/>
          <p:cNvSpPr/>
          <p:nvPr/>
        </p:nvSpPr>
        <p:spPr>
          <a:xfrm>
            <a:off x="4329000" y="50184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500040" y="4574520"/>
            <a:ext cx="792972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mbria"/>
                <a:ea typeface="Times New Roman"/>
              </a:rPr>
              <a:t>Из предложенных  видов  шерсти  я выбрала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5072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mbria"/>
                <a:ea typeface="Times New Roman"/>
              </a:rPr>
              <a:t>сливер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50720">
              <a:buClr>
                <a:srgbClr val="333333"/>
              </a:buClr>
              <a:buFont typeface="Wingdings" charset="2"/>
              <a:buChar char="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ребенную  мериносовую  шерсть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50720">
              <a:buClr>
                <a:srgbClr val="333333"/>
              </a:buClr>
              <a:buFont typeface="Wingdings" charset="2"/>
              <a:buChar char="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лутонкую  овечью  шерсть,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50720">
              <a:buClr>
                <a:srgbClr val="333333"/>
              </a:buClr>
              <a:buFont typeface="Wingdings" charset="2"/>
              <a:buChar char="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искозу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переработка  природной  древесной целлюлозы)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Инструменты необходимые </a:t>
            </a: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  для «мокрого»  валяния из шерсти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2859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Воздушно-пузырчатая  пленк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етка или тюл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Мыльный раствор для смачивания шерст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калк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Виброшлифовальная машин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лотенц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Резиновые перчатк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69" name="Рисунок 72" descr="http://cs4549.userapi.com/u157002796/-14/x_e7e15be4.jpg"/>
          <p:cNvPicPr/>
          <p:nvPr/>
        </p:nvPicPr>
        <p:blipFill>
          <a:blip r:embed="rId1"/>
          <a:stretch/>
        </p:blipFill>
        <p:spPr>
          <a:xfrm>
            <a:off x="4786200" y="1285920"/>
            <a:ext cx="2046240" cy="135720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75" descr="&amp;icy;&amp;ncy;&amp;scy;&amp;tcy;&amp;rcy;&amp;ucy;&amp;mcy;&amp;iecy;&amp;ncy;&amp;tcy; &amp;dcy;&amp;lcy;&amp;yacy; &amp;vcy;&amp;acy;&amp;lcy;&amp;yacy;&amp;ncy;&amp;icy;&amp;yacy; &amp;shcy;&amp;iecy;&amp;rcy;&amp;scy;&amp;tcy;&amp;icy;"/>
          <p:cNvPicPr/>
          <p:nvPr/>
        </p:nvPicPr>
        <p:blipFill>
          <a:blip r:embed="rId2"/>
          <a:stretch/>
        </p:blipFill>
        <p:spPr>
          <a:xfrm>
            <a:off x="1143000" y="171468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74" descr="&amp;Vcy;&amp;acy;&amp;lcy;&amp;yacy;&amp;ncy;&amp;icy;&amp;iecy; &amp;rcy;&amp;ucy;&amp;chcy;&amp;ncy;&amp;ocy;&amp;jcy; &amp;rcy;&amp;acy;&amp;bcy;&amp;ocy;&amp;tcy;&amp;ycy;. &amp;YAcy;&amp;rcy;&amp;mcy;&amp;acy;&amp;rcy;&amp;kcy;&amp;acy; &amp;Mcy;&amp;acy;&amp;scy;&amp;tcy;&amp;iecy;&amp;rcy;&amp;ocy;&amp;vcy; - &amp;rcy;&amp;ucy;&amp;chcy;&amp;ncy;&amp;acy;&amp;yacy; &amp;rcy;&amp;acy;&amp;bcy;&amp;ocy;&amp;tcy;&amp;acy; &amp;Scy;&amp;kcy;&amp;acy;&amp;lcy;&amp;kcy;&amp;acy; &amp;dcy;&amp;lcy;&amp;yacy; &amp;mcy;&amp;ocy;&amp;kcy;&amp;rcy;&amp;ocy;&amp;gcy;&amp;ocy; &amp;vcy;&amp;acy;&amp;lcy;&amp;yacy;&amp;ncy;&amp;icy;&amp;yacy;. Handmade."/>
          <p:cNvPicPr/>
          <p:nvPr/>
        </p:nvPicPr>
        <p:blipFill>
          <a:blip r:embed="rId3"/>
          <a:stretch/>
        </p:blipFill>
        <p:spPr>
          <a:xfrm>
            <a:off x="1143000" y="3214800"/>
            <a:ext cx="1857240" cy="93960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76" descr="http://modnoerukodelie.ru/img-mr/articles/anisimova-valyanie-f10.jpg"/>
          <p:cNvPicPr/>
          <p:nvPr/>
        </p:nvPicPr>
        <p:blipFill>
          <a:blip r:embed="rId4"/>
          <a:stretch/>
        </p:blipFill>
        <p:spPr>
          <a:xfrm>
            <a:off x="4786200" y="350028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77" descr="http://s45.radikal.ru/i108/0906/73/a0f1436523f9.jpg"/>
          <p:cNvPicPr/>
          <p:nvPr/>
        </p:nvPicPr>
        <p:blipFill>
          <a:blip r:embed="rId5"/>
          <a:stretch/>
        </p:blipFill>
        <p:spPr>
          <a:xfrm>
            <a:off x="7000920" y="1857240"/>
            <a:ext cx="1500120" cy="2005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9" descr="&amp;Pcy;&amp;iecy;&amp;rcy;&amp;chcy;&amp;acy;&amp;tcy;&amp;kcy;&amp;icy;"/>
          <p:cNvPicPr/>
          <p:nvPr/>
        </p:nvPicPr>
        <p:blipFill>
          <a:blip r:embed="rId6"/>
          <a:stretch/>
        </p:blipFill>
        <p:spPr>
          <a:xfrm>
            <a:off x="1143000" y="4643280"/>
            <a:ext cx="209700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571680"/>
            <a:ext cx="78152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Инструменты необходимые </a:t>
            </a: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        для «сухого»  валяния из шерсти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357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Иглы для фильцевани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щетка-подушка   или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дложка из поролон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Наперстк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77" name="Рисунок 63" descr="http://shop.firma-gamma.ru/images/f/e/g2890027732t.jpg"/>
          <p:cNvPicPr/>
          <p:nvPr/>
        </p:nvPicPr>
        <p:blipFill>
          <a:blip r:embed="rId1"/>
          <a:stretch/>
        </p:blipFill>
        <p:spPr>
          <a:xfrm>
            <a:off x="7000920" y="1500120"/>
            <a:ext cx="1689120" cy="83520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67" descr="http://shop.firma-gamma.ru/images/a/d/g2890074592t.jpg"/>
          <p:cNvPicPr/>
          <p:nvPr/>
        </p:nvPicPr>
        <p:blipFill>
          <a:blip r:embed="rId2"/>
          <a:stretch/>
        </p:blipFill>
        <p:spPr>
          <a:xfrm>
            <a:off x="7000920" y="242892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http://www.feutrage.ru/93-135-thickbox/5-igly-smennye-grubye.jpg"/>
          <p:cNvPicPr/>
          <p:nvPr/>
        </p:nvPicPr>
        <p:blipFill>
          <a:blip r:embed="rId3"/>
          <a:stretch/>
        </p:blipFill>
        <p:spPr>
          <a:xfrm>
            <a:off x="5286240" y="15001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http://www.vishivka-igolochka.ru/images/product_images/popup_images/5356_0.jpg"/>
          <p:cNvPicPr/>
          <p:nvPr/>
        </p:nvPicPr>
        <p:blipFill>
          <a:blip r:embed="rId4"/>
          <a:stretch/>
        </p:blipFill>
        <p:spPr>
          <a:xfrm>
            <a:off x="785880" y="3000240"/>
            <a:ext cx="1890720" cy="30243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1" descr="http://www.vsehobby.ru/koltso_valjanie_2.jpg"/>
          <p:cNvPicPr/>
          <p:nvPr/>
        </p:nvPicPr>
        <p:blipFill>
          <a:blip r:embed="rId5"/>
          <a:stretch/>
        </p:blipFill>
        <p:spPr>
          <a:xfrm>
            <a:off x="4643280" y="3929040"/>
            <a:ext cx="4000680" cy="213048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68" descr="http://www.cottonpatch.co.uk/acatalog/9337.jpg"/>
          <p:cNvPicPr/>
          <p:nvPr/>
        </p:nvPicPr>
        <p:blipFill>
          <a:blip r:embed="rId6"/>
          <a:stretch/>
        </p:blipFill>
        <p:spPr>
          <a:xfrm>
            <a:off x="2928960" y="2643120"/>
            <a:ext cx="221472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Инструменты  для   рисования  </a:t>
            </a: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                              картины  шерстью 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428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рама нужного размера ( со стеклом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флизелин или фланел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ножниц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инцет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5" name="Рисунок 79" descr="&amp;Icy;&amp;ncy;&amp;scy;&amp;tcy;&amp;rcy;&amp;ucy;&amp;mcy;&amp;iecy;&amp;ncy;&amp;tcy;&amp;ycy; &amp;icy; &amp;mcy;&amp;acy;&amp;tcy;&amp;iecy;&amp;rcy;&amp;icy;&amp;acy;&amp;lcy;&amp;ycy; &amp;dcy;&amp;lcy;&amp;yacy; &amp;Mcy;&amp;Kcy;"/>
          <p:cNvPicPr/>
          <p:nvPr/>
        </p:nvPicPr>
        <p:blipFill>
          <a:blip r:embed="rId1"/>
          <a:stretch/>
        </p:blipFill>
        <p:spPr>
          <a:xfrm>
            <a:off x="2357280" y="2857680"/>
            <a:ext cx="4489560" cy="335736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80" descr="http://gallery.forum-grad.ru/files/2/2/6/3/2/2_855862.jpg"/>
          <p:cNvPicPr/>
          <p:nvPr/>
        </p:nvPicPr>
        <p:blipFill>
          <a:blip r:embed="rId2"/>
          <a:stretch/>
        </p:blipFill>
        <p:spPr>
          <a:xfrm>
            <a:off x="5786280" y="1428840"/>
            <a:ext cx="244332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9. Правила  техники  безопасности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28760" y="500040"/>
            <a:ext cx="77724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"/>
          </a:bodyPr>
          <a:p>
            <a:pPr marL="13680" indent="-13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о время работы ножницы должны лежать справа на столе с сомкнутыми лезвиями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Брать и передавать ножницы нужно сомкнутыми лезвиями к себе, кольцами вперед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 бросайте иглы  после работы, а убирайте их в определённое место, в контейнер для игл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Быть осторожным  при работе с иглой для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фильцивания , сама игла и насечки очен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трые!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 подставляйте  под нее пальцы,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желательно одевать на палец наперсток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ержать  изделие  в руках опасно – используйте в качестве коврика губку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льзя пользоваться ржавыми иглами и ножницами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и разбрызгивании мыльного раствора быть аккуратным, чтобы он не попал в глаз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  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9" name="Рисунок 82" descr="http://inhandmade.ru/images/stories/felting/felting_dog/sobachka_valianie_04.jpg"/>
          <p:cNvPicPr/>
          <p:nvPr/>
        </p:nvPicPr>
        <p:blipFill>
          <a:blip r:embed="rId1"/>
          <a:stretch/>
        </p:blipFill>
        <p:spPr>
          <a:xfrm>
            <a:off x="6000840" y="2714760"/>
            <a:ext cx="235728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456840"/>
            <a:ext cx="814356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0.Технология изготовления декоративных панно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28760" y="99972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готовление панно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Памятник Софийскому   полку»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 Рисование  эскиза                                                         3.Выкладыва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Разборка  рамы                первого слоя-сливер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Выкладывание заднего плана картины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Применение               6.Фильцевание памятник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мокрого валяния          и переднего плана картины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92" name="Рисунок 7" descr="&amp;Fcy;&amp;acy;&amp;jcy;&amp;lcy; a.jpg"/>
          <p:cNvPicPr/>
          <p:nvPr/>
        </p:nvPicPr>
        <p:blipFill>
          <a:blip r:embed="rId1"/>
          <a:stretch/>
        </p:blipFill>
        <p:spPr>
          <a:xfrm>
            <a:off x="3357720" y="2143080"/>
            <a:ext cx="1571400" cy="105732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2" descr="C:\Users\маняша\Desktop\фото валяние\DSCN0563.JPG"/>
          <p:cNvPicPr/>
          <p:nvPr/>
        </p:nvPicPr>
        <p:blipFill>
          <a:blip r:embed="rId2"/>
          <a:stretch/>
        </p:blipFill>
        <p:spPr>
          <a:xfrm>
            <a:off x="6643800" y="2214720"/>
            <a:ext cx="1544400" cy="121428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10" descr="C:\Users\маняша\Desktop\фото валяние\DSCN0564.JPG"/>
          <p:cNvPicPr/>
          <p:nvPr/>
        </p:nvPicPr>
        <p:blipFill>
          <a:blip r:embed="rId3"/>
          <a:stretch/>
        </p:blipFill>
        <p:spPr>
          <a:xfrm>
            <a:off x="785880" y="3643200"/>
            <a:ext cx="1357200" cy="182556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3" descr="C:\Users\маняша\Desktop\фото валяние\DSCN0566.JPG"/>
          <p:cNvPicPr/>
          <p:nvPr/>
        </p:nvPicPr>
        <p:blipFill>
          <a:blip r:embed="rId4"/>
          <a:stretch/>
        </p:blipFill>
        <p:spPr>
          <a:xfrm>
            <a:off x="3500280" y="4357800"/>
            <a:ext cx="1428840" cy="189360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4" descr="C:\Users\маняша\Desktop\фото валяние\DSCN0568.JPG"/>
          <p:cNvPicPr/>
          <p:nvPr/>
        </p:nvPicPr>
        <p:blipFill>
          <a:blip r:embed="rId5"/>
          <a:stretch/>
        </p:blipFill>
        <p:spPr>
          <a:xfrm>
            <a:off x="6858000" y="4429080"/>
            <a:ext cx="1357200" cy="18194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C:\Users\Маняша\Desktop\ПРОЕКТ 2013\эскизы\Untitled-Scanned-03.jpg"/>
          <p:cNvPicPr/>
          <p:nvPr/>
        </p:nvPicPr>
        <p:blipFill>
          <a:blip r:embed="rId6"/>
          <a:stretch/>
        </p:blipFill>
        <p:spPr>
          <a:xfrm>
            <a:off x="884160" y="1689120"/>
            <a:ext cx="1298520" cy="17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685800" y="428760"/>
            <a:ext cx="77724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7.Деревья на заднем плане         8.«Рисование» стволов деревье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а переднем план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9.Снег на деревьях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0.Завершение работы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ад панно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1.Оформление панно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рамку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99" name="Рисунок 6" descr="C:\Users\маняша\Desktop\фото валяние\DSCN0570.JPG"/>
          <p:cNvPicPr/>
          <p:nvPr/>
        </p:nvPicPr>
        <p:blipFill>
          <a:blip r:embed="rId1"/>
          <a:stretch/>
        </p:blipFill>
        <p:spPr>
          <a:xfrm>
            <a:off x="1500120" y="857160"/>
            <a:ext cx="1357560" cy="1809720"/>
          </a:xfrm>
          <a:prstGeom prst="rect">
            <a:avLst/>
          </a:prstGeom>
          <a:ln w="0">
            <a:noFill/>
          </a:ln>
        </p:spPr>
      </p:pic>
      <p:pic>
        <p:nvPicPr>
          <p:cNvPr id="600" name="Рисунок 7" descr="C:\Users\маняша\Desktop\фото валяние\DSCN0574.JPG"/>
          <p:cNvPicPr/>
          <p:nvPr/>
        </p:nvPicPr>
        <p:blipFill>
          <a:blip r:embed="rId2"/>
          <a:stretch/>
        </p:blipFill>
        <p:spPr>
          <a:xfrm>
            <a:off x="5715000" y="1214280"/>
            <a:ext cx="1428840" cy="1900440"/>
          </a:xfrm>
          <a:prstGeom prst="rect">
            <a:avLst/>
          </a:prstGeom>
          <a:ln w="0">
            <a:noFill/>
          </a:ln>
        </p:spPr>
      </p:pic>
      <p:pic>
        <p:nvPicPr>
          <p:cNvPr id="601" name="Рисунок 8" descr="C:\Users\маняша\Desktop\фото валяние\DSCN0576.JPG"/>
          <p:cNvPicPr/>
          <p:nvPr/>
        </p:nvPicPr>
        <p:blipFill>
          <a:blip r:embed="rId3"/>
          <a:stretch/>
        </p:blipFill>
        <p:spPr>
          <a:xfrm>
            <a:off x="1571760" y="3357720"/>
            <a:ext cx="1357200" cy="1790640"/>
          </a:xfrm>
          <a:prstGeom prst="rect">
            <a:avLst/>
          </a:prstGeom>
          <a:ln w="0">
            <a:noFill/>
          </a:ln>
        </p:spPr>
      </p:pic>
      <p:pic>
        <p:nvPicPr>
          <p:cNvPr id="602" name="Рисунок 17" descr="C:\Users\маняша\Desktop\фото валяние\DSCN0587.JPG"/>
          <p:cNvPicPr/>
          <p:nvPr/>
        </p:nvPicPr>
        <p:blipFill>
          <a:blip r:embed="rId4"/>
          <a:stretch/>
        </p:blipFill>
        <p:spPr>
          <a:xfrm>
            <a:off x="3500280" y="3929040"/>
            <a:ext cx="1428840" cy="1900440"/>
          </a:xfrm>
          <a:prstGeom prst="rect">
            <a:avLst/>
          </a:prstGeom>
          <a:ln w="0">
            <a:noFill/>
          </a:ln>
        </p:spPr>
      </p:pic>
      <p:pic>
        <p:nvPicPr>
          <p:cNvPr id="603" name="Рисунок 2" descr="C:\Users\маняша\Desktop\фото валяние\DSCN0589.JPG"/>
          <p:cNvPicPr/>
          <p:nvPr/>
        </p:nvPicPr>
        <p:blipFill>
          <a:blip r:embed="rId5"/>
          <a:stretch/>
        </p:blipFill>
        <p:spPr>
          <a:xfrm>
            <a:off x="5786280" y="4500720"/>
            <a:ext cx="142884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1.Экономическое обосновани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428760" y="857160"/>
          <a:ext cx="8429400" cy="5845320"/>
        </p:xfrm>
        <a:graphic>
          <a:graphicData uri="http://schemas.openxmlformats.org/drawingml/2006/table">
            <a:tbl>
              <a:tblPr/>
              <a:tblGrid>
                <a:gridCol w="556920"/>
                <a:gridCol w="2425680"/>
                <a:gridCol w="946440"/>
                <a:gridCol w="2874960"/>
                <a:gridCol w="1625400"/>
              </a:tblGrid>
              <a:tr h="594360"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именование используемых материалов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Цена (в руб.)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асход материалов на изделие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траты на материал (в  руб.)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39672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рсть для валяния (сливер)– 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0 г- 1 моток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/2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1584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рсть для валяния (гребенная) -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0 г- 1 моток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олубая,синяя – 1/4 ,1/4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асильковая, сиреневая -1/10, 1/10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озовая , салатная-1/10, 1/10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в.зеленая , тем. зеленая -1/5, 1/5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олотная , красная-1/10, 1/10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Черная- 1/5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0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4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руб.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594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рсть для валяния (полутонкая овечья)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0г-1 моток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елтая св.-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елтая тем.- 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ремовая-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792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искоза для валяния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0гр-1моток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елая-1/5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тальная-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в.коричневая-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м.коричнеая-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96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идкое мыло 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 флакон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4 баллон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96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оздушно-пузырчатая пленка, сетка, полотенце, губ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в наличии дом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9672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глы для фильцевания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 шт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шт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96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ама для панно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штуки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297360">
                <a:tc gridSpan="5"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:                                                                                                                                                 827 руб.                 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4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маняша</cp:lastModifiedBy>
  <dcterms:modified xsi:type="dcterms:W3CDTF">2013-03-03T09:17:29Z</dcterms:modified>
  <cp:revision>73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