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F19-D5F8-4B40-AE91-2D27BB87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B06-51FD-452A-97AB-5E6B48D4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CD3F7-4415-4572-888F-C754EAA9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8EA9C-2251-4FFB-BC91-955C5DAA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5F4B1-BCD8-4A8F-95C0-B0A52A55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99C67-A0EA-4C37-8C96-757C4BFC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167A8-D623-48DA-A24D-2D1E005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139AA-3924-4C05-8C1C-456EA11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3C3B7-C4A9-4963-A139-BC2CD7FB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EBCEC-E164-48A6-9489-80069895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E6E74-0398-4331-833E-0B70199D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44B6B-9438-4B68-9B65-E8B10150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867-4F2C-4AFD-A533-85A3CCF2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6A01D-3B0D-4A25-BB6B-90D3415D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9EFE3-1CEE-4A92-8696-1CE8934A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4FECE-6D52-4F97-ACCA-B6A8E759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D4D9D-9C93-4545-A6F2-127C8F66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0BEB2-BFB7-42B0-888A-6D9B3A13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B09AE-65CE-4FCE-AC33-A14C73D7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265E3-A065-4B60-BDF4-FD64147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ECD21-7596-4CB4-9FFE-AE345F83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BF25A-3D4E-4956-93DD-114C2E03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7996A-6E84-47BF-8F54-61CD6C4D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A5A-C472-4C05-AD99-C24CDBE7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23DF9-B3BD-4ED6-890A-511FC4E0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ADEEB-F1BD-4E80-A495-7F419D7C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B7273-0FE7-4A31-9CD3-B3558C69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92C32-6CB4-4FFD-B89F-DB2B4EC3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90F3-75EF-45AF-BE94-FB3D39FA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0C577-2437-4785-A81E-26F2350F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DC73C-6348-4973-AE3F-301B32AD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9456D-2715-477A-94F3-B7FD5BB2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1F45E-2D4D-46A4-8906-95F73A36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992A7-0B44-43AC-B4B0-2F8B9E1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F37C-6153-439A-A39B-820DD24F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3055E-BD3C-4027-905D-1E14C081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C5276-024C-41C9-B410-5B685D78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56C69-4C27-42AB-9DA3-D71B2625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3BB2D-1970-4F35-A3FA-038E7A23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3428A-758C-4F56-BAF4-16EE2B00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C1FE6-815F-465C-AF80-B9489678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E3FEB-7A4A-4008-A44C-5CED8072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0A26C-90A9-4502-853A-F3A58438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7CA1B-E449-4A28-8B49-B1A06EF8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B9D3D-EC24-4B94-A47A-E056B45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0800-224B-4FF2-984B-B0D91B26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C9995-9584-4093-A98E-DB5F7E3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739B2-9170-4261-B023-8BDE63E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51D6F-8825-4795-BACE-A39EF0C9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470DB-14C9-40D6-8532-1E59D052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5FB14-2D63-48C7-AB7A-37E93FC1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6EA1B-FFD7-429F-A1B6-AAB89E37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B328C-65F3-425E-973A-D0B142CB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31AEA-3588-4EC3-9427-D475EA68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5628D-6CA2-4A99-9B08-82C1F694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F7B38-2B28-4CC2-B009-7C51B985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99F6-CE6A-4887-A92D-36ABA88C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C8AA8-8AED-4B05-9C64-58FAD94D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DB0F9-B624-403C-88E8-4A860DBB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19CF5-D4F9-42C8-B5C5-091EBBA3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73BD8-D49C-46A7-8A05-24F03A1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3AAF0-CD45-4E47-8A81-4B82A20A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F7CD2-EAA6-40C3-B9C8-2612E1FB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A9050-92B8-4072-979F-61C2EE5C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F10F-8D65-48BC-9F66-B6656079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780D-9D2B-4443-8788-74C7D9EE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7D32-3AD9-4F88-A085-77D37231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E82B-89C0-49EC-9FDE-712DCCAB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C84-8351-4D8E-BA50-87A15855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0B4F-68A2-4223-A279-659778AA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F4A7-59A2-4146-B1F8-CD871DC2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D9BB-0BCA-4F35-B8A4-F9A7E36A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35D-9028-43B4-BC34-1B0DDAE5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7E72-42FE-40A8-808C-27155ADE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E56A-3F21-4753-89D8-C5AB071B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2234-D501-4D77-B917-1F715D43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827D-2A32-4947-8550-504A94D8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0460-3526-48CC-99F0-4E4B7F2E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372A-1447-4846-9829-E8434DF4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76C-604E-40D8-89F7-262DCBD6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3A3E-FDC7-4EEE-A7D8-38CF881F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DC28-B9AA-4E42-BE8C-4EB30611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3FC6-D827-4977-B049-57B7B3B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8CE1-92E3-4690-901C-6DB3A1D8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3261-62DB-4540-ABFD-DDF7FC1F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E8AB-6A6B-4055-AB1D-6C531C27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81F1-6BC3-4628-A776-6E47ABA6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A667-A4DE-454F-8DCF-89206972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9921-4D64-4E38-8AC8-6AD43E8F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7FF0-F907-4DF4-A714-74552062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034-4E63-4D31-97E9-B66C6BBB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73CD-E6C0-4154-9006-E2B9EE10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FD47-B561-4CA6-A1A5-39954557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0A6FA-FD42-4098-BF3C-0AE78C25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B4AA-068E-4BDE-9132-794A3AC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3416-F868-4DBF-B57C-48960F72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9F7E0-DD28-4A4C-A172-53FF63CC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C3153-12DE-4976-8DDF-20DE9197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B25D-C769-4554-B6C7-3F781C48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A09BE-C400-446C-8894-D9EC9338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71B5-0E8B-47E6-8A6B-E1834547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59B-A602-4314-8C6E-C4A11869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4B67-2C73-404A-9B56-35B0C204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982C-B2F2-45D5-AA5B-3F01B94C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BC7BE-B67A-429F-84E5-E793EAC4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5A21E-C75B-488E-A0E6-FFBEE586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0AB76-796B-4CCC-AD54-4F9A5ABA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63A49-50A8-4182-81A4-2717C76C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3114-5752-44CD-9E56-0B1CA25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F2574-3A8F-4178-9B79-DAE50504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FBF3A-4FEE-4DE2-93F2-37467AE7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01FC-9CD6-4E72-B544-2AAAAEF4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291-CDD6-4CD1-B363-E34EE020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8EED-89C9-4888-9EB2-2A8854A9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27C5-1FD4-40CF-AB00-77DBDE11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4E76A-DC45-49BE-B962-1F1B4CF6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714B4-554C-49E1-8E38-5A4B4276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9B85E-40DE-445C-96F5-C9343DDD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49901-C730-4E38-A604-A1475622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54A50-C987-4FFE-BD34-C8495E15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853C5-2689-468B-9453-816952B4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FCDEA-327B-429A-9E71-E6D99BAE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0914-71CF-4B3A-B5DC-42763A8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562-249B-41A6-B1D1-7863B3E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9DC3-D866-49C6-AACE-C152A5AC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A3190-A6A3-4659-8E07-C21D601E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DBA6A-AF30-49CC-9B8B-498C7229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965FE-76CB-4798-BE64-0DBD2A0F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33892-EF6E-49BE-8202-21325F95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54F9C-7BB2-4566-A8A3-21217971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8E45E-712A-420A-BE3E-3C855CF2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59E77-5755-4A5D-9A3C-32554D1E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C157E-8835-4A0C-9708-0CCB222A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13137-8898-48D5-9833-759359DA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766-4A49-4D79-A0CE-93EE22FA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2D244-22D9-49B0-8B55-85B788D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383ED-7D37-44B2-970E-B4801379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415DA-47F4-4AC4-8BD5-B5D47642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A812B-EBA4-4292-A847-B3765F26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0208B-5968-4DB1-AB44-0E1C4B7F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73455-4BBA-43B5-BC3D-AA1129CE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C97D3-003D-4EF9-93C6-2A568840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12597-704C-4C57-9DF9-F9CB885A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0959C-AC08-48CF-9072-AC80480A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9315F-2A55-4914-B6B4-787F38CE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0A9-04B8-4FCE-B2D4-E0170A4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DC081-8CEB-4103-8FB4-F72B5491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9C4B5-5220-4B57-9F04-AC3F1375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893E2-E430-4B26-A492-057EA1D4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702CF-E9F7-4B9B-8E1D-69B8D8F9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5B079-27DD-4520-A65B-303CE7B9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A1603-17BC-4C29-85D4-7998FD1B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90033-838C-4B7A-9046-05A3DC48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BE138-DCB6-494C-9B72-D56B05C6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2AE0E-CDDC-4503-B77D-80F69A4D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C06A3-157A-4226-AFC6-8D28F050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2D66-07F0-45BD-B557-3FDB856C9FC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FAF0-44EA-492F-995A-ABF9E7860FF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18E5-F9AE-4162-B7BC-F2BD6EFD72A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310C-7DAD-414F-89AA-85A13557A6F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4FA9-47CF-41ED-9AC8-38FD675517B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1B66-7A7B-4979-A3A5-2DF4B4D5CED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D50B-39F0-4CA2-9991-6AC77EC68A6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BBC0-C13C-4AAA-A713-4B8AB0AE250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E750-F36A-4B72-BB36-067C92E9324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A672-17BB-4028-8D16-394CB1721A4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767B-BA12-49B3-9CF3-895E37B14D4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73EA-76C5-4B72-BA53-532EB72052D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2F3F-98AC-490B-AB20-3AD137ECE72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ol-bulb.com/istorija.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5.Реклама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5" name="WordArt 2"/>
          <p:cNvSpPr txBox="1"/>
          <p:nvPr/>
        </p:nvSpPr>
        <p:spPr>
          <a:xfrm>
            <a:off x="2786040" y="285840"/>
            <a:ext cx="5067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исуем   картины  шерстяными волокнами.</a:t>
            </a:r>
            <a:endParaRPr b="0" lang="en-US" sz="1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место красок-шерстинки,</a:t>
            </a:r>
            <a:endParaRPr b="0" lang="en-US" sz="1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место кисточек- пальчики.</a:t>
            </a:r>
            <a:endParaRPr b="0" lang="en-US" sz="1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6" name="WordArt 3"/>
          <p:cNvSpPr txBox="1"/>
          <p:nvPr/>
        </p:nvSpPr>
        <p:spPr>
          <a:xfrm>
            <a:off x="357120" y="1500120"/>
            <a:ext cx="60102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   хотите,  чтобы  ваш  дом  был  теплым  и  уютны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2643120" y="1928880"/>
            <a:ext cx="60580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ндивидуальным, неповторимым  и  современным?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8" name="WordArt 7"/>
          <p:cNvSpPr txBox="1"/>
          <p:nvPr/>
        </p:nvSpPr>
        <p:spPr>
          <a:xfrm>
            <a:off x="2357280" y="3286080"/>
            <a:ext cx="428652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Тогда  приходите  к  нам!!!</a:t>
            </a:r>
            <a:endParaRPr b="0" lang="en-US" sz="1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ы  поможем  вам  в  этом!!!</a:t>
            </a:r>
            <a:endParaRPr b="0" lang="en-US" sz="1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2000160" y="514404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ТО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МАСТЕРИЦ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Сычевская сош №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0" name="WordArt 10"/>
          <p:cNvSpPr txBox="1"/>
          <p:nvPr/>
        </p:nvSpPr>
        <p:spPr>
          <a:xfrm>
            <a:off x="1285920" y="5643720"/>
            <a:ext cx="714384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Освоить технику валяния из шерсти доступно каждому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робуйте, экспериментируйте, дерзайт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1" name="Picture 11" descr="DSCN0695"/>
          <p:cNvPicPr/>
          <p:nvPr/>
        </p:nvPicPr>
        <p:blipFill>
          <a:blip r:embed="rId1"/>
          <a:stretch/>
        </p:blipFill>
        <p:spPr>
          <a:xfrm>
            <a:off x="428760" y="2643120"/>
            <a:ext cx="2097000" cy="1571760"/>
          </a:xfrm>
          <a:prstGeom prst="rect">
            <a:avLst/>
          </a:prstGeom>
          <a:ln w="57240">
            <a:solidFill>
              <a:srgbClr val="95b3d7"/>
            </a:solidFill>
            <a:miter/>
          </a:ln>
        </p:spPr>
      </p:pic>
      <p:pic>
        <p:nvPicPr>
          <p:cNvPr id="542" name="Picture 12" descr="DSCN0696"/>
          <p:cNvPicPr/>
          <p:nvPr/>
        </p:nvPicPr>
        <p:blipFill>
          <a:blip r:embed="rId2"/>
          <a:stretch/>
        </p:blipFill>
        <p:spPr>
          <a:xfrm>
            <a:off x="6572160" y="2732040"/>
            <a:ext cx="2071800" cy="1555920"/>
          </a:xfrm>
          <a:prstGeom prst="rect">
            <a:avLst/>
          </a:prstGeom>
          <a:ln w="57240">
            <a:solidFill>
              <a:srgbClr val="95b3d7"/>
            </a:solidFill>
            <a:miter/>
          </a:ln>
        </p:spPr>
      </p:pic>
      <p:pic>
        <p:nvPicPr>
          <p:cNvPr id="543" name="Рисунок 155" descr="DD01015_"/>
          <p:cNvPicPr/>
          <p:nvPr/>
        </p:nvPicPr>
        <p:blipFill>
          <a:blip r:embed="rId3"/>
          <a:stretch/>
        </p:blipFill>
        <p:spPr>
          <a:xfrm rot="17394000">
            <a:off x="7827840" y="4152600"/>
            <a:ext cx="1325520" cy="56052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155" descr="DD01015_"/>
          <p:cNvPicPr/>
          <p:nvPr/>
        </p:nvPicPr>
        <p:blipFill>
          <a:blip r:embed="rId4"/>
          <a:stretch/>
        </p:blipFill>
        <p:spPr>
          <a:xfrm rot="1041600">
            <a:off x="263160" y="4102200"/>
            <a:ext cx="123840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11" descr="http://airvif.ewnc.org/sites/default/files/images/DSC02826.preview.JPG"/>
          <p:cNvPicPr/>
          <p:nvPr/>
        </p:nvPicPr>
        <p:blipFill>
          <a:blip r:embed="rId1"/>
          <a:stretch/>
        </p:blipFill>
        <p:spPr>
          <a:xfrm>
            <a:off x="6715080" y="5143680"/>
            <a:ext cx="1917720" cy="14396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6.Словарь  терминов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676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.Войлок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–) вид непряденого текстиля из натуральной шерст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2.Ламинировани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получение объёмных декоративных эффектов в нуновойлок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3.Нуновойлок или нановойлок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англ. nunofelt, нем. nunofilz) – приваливание волокон шерсти к шелковой или другой ткан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4.Тенсел (Tencel)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новое волокно, похожее на искусственный шелк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5.Фельт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англ. Felt) войлок 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6.Фелтинг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– это особая техника рукоделия, в процессе которой посредством специальной иглы для фелтинга и шерсти для валяния создается рисунок на ткани или войлок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7.Фетр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от франц. Feutre) – плотный материал из шерсти или синтетических волокон, выпускаемый в виде полотнищ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8.Фильц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(нем. Filz) шерсть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9.Фильцевать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валять шерсть сухим способом пр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мощи специальных игл.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7.Валяние  сегодня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714240"/>
            <a:ext cx="495792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егкие, почти воздушные цветные волокна непряденой шерсти – источник неиссякаемого вдохновения для рукодельниц. Картины шерстью напоминают работы в стиле импрессионизм: легкая дымка, некоторая нечеткость и условность мелких деталей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357720" y="3429000"/>
            <a:ext cx="5214960" cy="23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Шерсть хороша тем, что из нее можно создать совершенно невероятные вещи, от простейших бусиков, до сложнейших пространственных композиций или необычной авторской одежды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1" name="Рисунок 15" descr="http://cs2.livemaster.ru/foto/400/fbb1160161n2086.jpg"/>
          <p:cNvPicPr/>
          <p:nvPr/>
        </p:nvPicPr>
        <p:blipFill>
          <a:blip r:embed="rId1"/>
          <a:stretch/>
        </p:blipFill>
        <p:spPr>
          <a:xfrm>
            <a:off x="785880" y="3000240"/>
            <a:ext cx="2428920" cy="3235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http://img-fotki.yandex.ru/get/4422/28672971.e/0_63bd3_a1876340_XL"/>
          <p:cNvPicPr/>
          <p:nvPr/>
        </p:nvPicPr>
        <p:blipFill>
          <a:blip r:embed="rId2"/>
          <a:stretch/>
        </p:blipFill>
        <p:spPr>
          <a:xfrm>
            <a:off x="5715000" y="85716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8.Нет предела совершенству. </a:t>
            </a:r>
            <a:br>
              <a:rPr sz="2800"/>
            </a:br>
            <a:r>
              <a:rPr b="0" lang="ru-RU" sz="2000" spc="-1" strike="noStrike">
                <a:solidFill>
                  <a:srgbClr val="004c2b"/>
                </a:solidFill>
                <a:latin typeface="Times New Roman"/>
              </a:rPr>
              <a:t>В планах у меня выполнить автопортрет из шерсти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554" name="Рисунок 17" descr="http://netroninanny.in.gallerix.ru/pp/sherst---portret-devushki.jpg"/>
          <p:cNvPicPr/>
          <p:nvPr/>
        </p:nvPicPr>
        <p:blipFill>
          <a:blip r:embed="rId1"/>
          <a:stretch/>
        </p:blipFill>
        <p:spPr>
          <a:xfrm>
            <a:off x="857160" y="2143080"/>
            <a:ext cx="3357720" cy="447984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1" descr="http://handhand.ru/img/shopitems2/54514/128087048424701_original.jpg"/>
          <p:cNvPicPr/>
          <p:nvPr/>
        </p:nvPicPr>
        <p:blipFill>
          <a:blip r:embed="rId2"/>
          <a:stretch/>
        </p:blipFill>
        <p:spPr>
          <a:xfrm>
            <a:off x="3929040" y="1785960"/>
            <a:ext cx="431496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19.Библиография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857160"/>
            <a:ext cx="7886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Кнаке.Ж. Картины из фетра своими руками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актическое руководство- М.: «Ниола-Пресс» 2008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Красникова Г. Все о войлоке и фильцевании. Приложение к журналу «Чудесные мгновения» М.: Агентство Дистрибьютор Прессы,2007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Красичкова А.Г. Вещи из войлока.-М.: Полиграфиздат, 2010.</a:t>
            </a: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ена рукоделие.Спецвыпуск № 1 "Идеи для валяния".-М.;Эдипресс-Конлига ,201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Мамонова М., Бублик В., Красникова Г. Все о войлоке и фильцевании. Практическое руководство. Приложение к журналу «Чудесные мгновения. Лоскутное шитье» М.:Астрея, 2007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Пипер А.,переводчик Воркуев Ю.Шерстяные панно своими руками.-М.: Ниола-Пресс,-2007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Шинковская К. Вещицы из войлока. Ручная работа.-М.; «АСТ-ПРЕСС».-2008. Шинковская К. Войлок.Все способы валяния.-М.; «АСТ-ПРЕСС».-2011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7.«История валяния» –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3286080" y="6143760"/>
            <a:ext cx="5214960" cy="428400"/>
          </a:xfrm>
          <a:prstGeom prst="rect">
            <a:avLst/>
          </a:prstGeom>
          <a:solidFill>
            <a:srgbClr val="4e654e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www.wool-bulb.com/istorija.htm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9" name="Рисунок 11" descr="01"/>
          <p:cNvPicPr/>
          <p:nvPr/>
        </p:nvPicPr>
        <p:blipFill>
          <a:blip r:embed="rId2"/>
          <a:stretch/>
        </p:blipFill>
        <p:spPr>
          <a:xfrm rot="20762400">
            <a:off x="6870240" y="234720"/>
            <a:ext cx="933480" cy="1400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2" descr="http://s57.radikal.ru/i158/0902/38/2a3adaf59412.jpg"/>
          <p:cNvPicPr/>
          <p:nvPr/>
        </p:nvPicPr>
        <p:blipFill>
          <a:blip r:embed="rId3"/>
          <a:stretch/>
        </p:blipFill>
        <p:spPr>
          <a:xfrm rot="229800">
            <a:off x="7832520" y="244080"/>
            <a:ext cx="92844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357120"/>
            <a:ext cx="81010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Декоративные  панно </a:t>
            </a: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                             «Смоленские зарисовки.</a:t>
            </a: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                                     Времена года»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562" name="Picture 3" descr="DSCN0695"/>
          <p:cNvPicPr/>
          <p:nvPr/>
        </p:nvPicPr>
        <p:blipFill>
          <a:blip r:embed="rId1"/>
          <a:stretch/>
        </p:blipFill>
        <p:spPr>
          <a:xfrm>
            <a:off x="684360" y="1341360"/>
            <a:ext cx="3063600" cy="2295720"/>
          </a:xfrm>
          <a:prstGeom prst="rect">
            <a:avLst/>
          </a:prstGeom>
          <a:ln w="57240">
            <a:solidFill>
              <a:srgbClr val="95b3d7"/>
            </a:solidFill>
            <a:miter/>
          </a:ln>
        </p:spPr>
      </p:pic>
      <p:pic>
        <p:nvPicPr>
          <p:cNvPr id="563" name="Picture 4" descr="DSCN0696"/>
          <p:cNvPicPr/>
          <p:nvPr/>
        </p:nvPicPr>
        <p:blipFill>
          <a:blip r:embed="rId2"/>
          <a:stretch/>
        </p:blipFill>
        <p:spPr>
          <a:xfrm>
            <a:off x="1403280" y="3860640"/>
            <a:ext cx="3240000" cy="2433960"/>
          </a:xfrm>
          <a:prstGeom prst="rect">
            <a:avLst/>
          </a:prstGeom>
          <a:ln w="57240">
            <a:solidFill>
              <a:srgbClr val="95b3d7"/>
            </a:solidFill>
            <a:miter/>
          </a:ln>
        </p:spPr>
      </p:pic>
      <p:pic>
        <p:nvPicPr>
          <p:cNvPr id="564" name="Picture 3" descr="C:\Users\Марна\Desktop\DSCN0708.JPG"/>
          <p:cNvPicPr/>
          <p:nvPr/>
        </p:nvPicPr>
        <p:blipFill>
          <a:blip r:embed="rId3"/>
          <a:stretch/>
        </p:blipFill>
        <p:spPr>
          <a:xfrm>
            <a:off x="4906800" y="2255760"/>
            <a:ext cx="3803760" cy="29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маняша</cp:lastModifiedBy>
  <dcterms:modified xsi:type="dcterms:W3CDTF">2013-03-03T09:20:29Z</dcterms:modified>
  <cp:revision>74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