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40A-72F5-443D-AF53-03451479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E08-6690-4767-AD4B-44AF451A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67A6D-F5D9-4E39-A9B9-7641BAC9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1906F-D725-43D7-A67D-3BDF3DD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F0560-A9ED-4A46-BF83-7ED67C9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D2804-E56C-40D2-8C8C-C18C02A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EECED-22DB-4378-B2DF-875F5F2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44E0-E165-4E9B-B5E3-1E8036B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1241B-99E5-43C3-8A2D-76CB8F15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05C9A-3371-4A5C-A31E-4CC64C2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9A78D-F14C-4DD9-BBC3-22836F62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8CCFD-A380-4455-AB9A-B495CE6C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738-C5B2-4B16-8C63-F38E12C6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C7C7-9A81-42D5-A77D-E483412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E68B7-91B0-46D7-ABAC-856AB6AD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420CF-ADF1-4D5D-ABA6-268147D9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E2FE2-B24E-48CF-BD65-379B815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7945C-69A7-4B29-9A4C-4C03CB11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6659-404F-4567-AB89-F920871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7CFE5-6ACC-46FF-BB8C-DBCBA322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8E6D3-5915-4717-909B-9FA731D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C88AD-B534-4158-B3A8-6FA6A8D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A0811-9BC5-4E52-AD77-17750C46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6A9-ECB8-4E52-AAAB-27BCE54D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962F8-1A2B-4B0C-A708-B6562614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659B3-AF1E-4C65-BEC0-B72D46B4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C1E8-14F3-4A62-B4E2-9E7C50E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B2526-EA25-44C5-ACF7-A492181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6D9A8-1EC8-46BB-974A-77CEDBE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2067E-F1B6-4EED-BAE6-CF451E6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AC33E-913A-4787-89CB-A039ADC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5CFC6-A9EF-4931-A6E5-31D55AC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21B7-C153-4D1C-B61C-704A5C6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19A61-1B08-4390-B354-EB9A231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A6A7-0E8A-4BDE-AED5-6A0EA6A1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7948-F94B-42FD-9302-C212732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57A4D-96D9-4AED-9DD6-5A0674AA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1B923-0920-470F-BFD5-C90DF36E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6878D-416A-4B57-9E78-9A1774E0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91D77-A38F-471A-A453-C236F7E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4698B-DAEB-455F-924E-4240E31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4D6F9-9ABA-4586-AA0C-ED5B83A1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D6F3E-F6A0-4FDC-9292-F34C043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2382-0619-4622-A16C-A0D5642F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A872-EB0E-42C8-B3EE-F918BB0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759-F75F-449C-8CEF-907261A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9C686-3A7E-4761-8D5F-F50D9EA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9A7D0-319E-4B4F-B07B-AC803B4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10717-DA24-4178-8615-14B4248B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E4CE4-C9CE-43F6-A381-D21A735D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A7890-B3CD-4AA7-B213-33A325D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840E7-3871-47A4-AE74-EB5F626A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3189D-B302-4FF4-BFC8-B0D4278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85325-DC86-4C2A-BE18-6377F20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476C7-546C-4F2C-9DC5-74834BB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148F6-5256-4F40-B55C-46F1905B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300-7552-4D6E-B598-68226B32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3BFAE-3BF6-4B13-A7FF-F1A199F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5E9AB-55B5-4004-87FA-1027BB1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13F17-38D2-4A32-9BA3-ECADBD8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A4246-D77C-42D6-AE38-FDE4847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DB51C-86CB-4BC6-AF23-35A7667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BFF5C-3802-4316-8D48-6E94334F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76222-F586-478F-BD60-072D59A3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98A-ACBD-4F4A-80E9-95C99F3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E63C-FD10-45CB-A6BB-A6E6EC3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46B-4AF9-42C8-9B0B-FD6B429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C0B-9E93-403F-BB80-B9FFB19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0CC-3628-4D8F-9B23-50F9D0A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F680-D8A7-4186-AA34-70EE1AE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696-1095-4487-8081-376A625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626-0983-4FBC-A9BD-FD2DF97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126-023E-47A5-BAD9-B7137B08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A4F4-FC51-4ED0-9C83-6BB2969D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EED6-0DF4-4DAE-90E3-8EA85F26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2DDA-933B-4932-ADFA-FE83E7E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B255-89EC-4B11-AD6B-FF6D789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267D-1D9C-4B1B-BC76-3A089F0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8AC9-7FD0-4330-84B0-FF68C25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85B-18DE-44B8-BB1D-372B90D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ED1F-F063-413A-A52D-9EDA53C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F242-A07F-4CAB-82B0-89AAA5A5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96C0-D23E-42CC-BF93-EE88CE3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CFDF-C519-433E-8E92-24515CA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92CA-3B91-4C79-9C95-7E61E04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258A-C837-4DF6-A266-0BB85D41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588D-67AF-467A-B7CB-1B3A223E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CAC8-8531-4431-BBFC-CF020294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B3DF-3B6C-4ACC-A1D5-419DA96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F146-31FD-4B30-B4C2-DEC7666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A71-CD0A-4964-AB8C-DAA6D68C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5720-059A-4F31-B1C8-B0A858B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A60B-9171-4D37-AD81-C5986F01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3562-4CD9-467F-B50A-A0A0FC8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E5A1-FF15-45DE-9AD6-13F9A1D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2897-94C3-451D-9A5B-62A8372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657F-B626-4FFE-AB91-A0FB4EF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0992-8572-4F77-912D-AD34C50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FB4E-5F43-4BBB-A012-30AF18CE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C54C-BC24-4D8C-96E2-7BDB23CC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C0DF-7D00-4243-95D1-16D8D7D8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18C-345E-4973-B1F8-C948D965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6980-BA8F-447D-9AD0-6FB5753B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97A7-071A-47E5-974F-098BAA6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3775-F87F-48FD-81B2-4331FF8E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1920-D18A-4C49-BD91-98693EA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0BF9-9565-4EB4-B653-4460EE8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D1C34-32C2-4AFE-A62A-89200BC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939B-1CFA-44BF-8ABE-8D2DE38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9452-38F1-4704-882D-CCC432B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615D-1D1F-4E61-B553-6675761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66C4-156C-4886-A155-89E8FB70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C32-D273-4064-A61A-4024F21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4549-558E-4582-BDF9-69E5C1C4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CF77-EA5A-4C4B-8A8F-AAA12E43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E756-9EB8-4796-B6FA-94550436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EA58-FA2A-493A-8FFB-D70CE2B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B7C76-D4AD-4513-969E-A92E620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435A-FB70-4AC3-B035-8EB89EA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57F9-F3BF-4038-91FE-98C009FC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B05C-ADC7-4508-BDAE-AE37ED1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C631-0874-4536-A8A6-9A7E66C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E09D-050D-4D89-BF61-387CE27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6F3-CD4B-46A9-9912-D31B481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4772-A2BB-4347-B1C4-6B37A0D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59D2A-5D6D-4FCD-B73F-7EE03ED3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0E3F-B709-40AE-BEDB-CAC2BCA8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6EE2-1B6B-426C-85C9-6643D633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77A2-9570-4E82-A643-743B60E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8AB8D-A44B-4EB3-84BB-A7EBB49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D246-CDEF-4F4A-955A-E0AF3D8A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9097-00FF-4F0E-89EE-6F1A303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5BDF9-4537-4D60-95C7-3BF0AE1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A55C-BF92-4584-BAD2-29451FD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4A8-17E4-4E0C-8E6C-FF88DD5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E3CBA-03C7-48B1-8660-86240D9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4FFD-692F-4D74-A0E3-590FDBB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5144-C75B-4178-BEF4-0BFDBB3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CCAAA-C204-4217-BED6-8B5E9DCB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FBB8-1D0A-4B46-BDE1-58444951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9C13-17FF-4FC5-8607-B2354C3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8D32-16AE-48BC-BB73-A17B8EF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50602-A5E4-4037-A666-DD937E1B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586A-6DB4-4840-8500-F27582E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F943-DDF5-46CA-B58F-21BEB201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AD4-6851-4A0A-813A-109C919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73D0-B285-4752-9EB1-554F4CC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5768D-14E9-4378-A181-AF73C41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2C82-209E-46B6-AA6B-F1D9AB1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5EC5F-66C0-454A-A20B-671C5A3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E7BC-1372-4405-BB01-2E766352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4D761-10B8-4A79-B6B8-A01772C2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8E70-20D6-4F6A-81B8-0728659D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1F181-E9CD-46F6-82AF-01D77F12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C3B0-4434-4119-B2D2-F4155A64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2673B-1333-4FD6-9D5F-A7D3048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C58E-6AFD-447D-9B6B-9935EA3CF5C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2CA-E50E-44F0-828D-0A75FFA58A3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E9EC-9263-490F-8E32-568B114F51F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351-87F9-4AA0-AE1E-3EF6F5FEFFE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88D-CB4B-4C5C-BB86-423BA08173F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AE73-C804-430A-9250-1E1C887F83B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215-EE16-4B60-BE9C-33A4432CA3B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410-EB0A-40DE-B429-96C5FF7D6EC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E4A4-F379-474F-AD66-25B3779F810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0F1-FCEC-4167-B2EC-E075CB8A16A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5468-4946-4FD4-BD5E-2306ACC3764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A04D-53FD-4559-A394-F080CC27F13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0BB1-C93E-4D7B-ACCF-9DEA1886F8D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ol-bulb.com/istorija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5.Реклама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5" name="WordArt 2"/>
          <p:cNvSpPr txBox="1"/>
          <p:nvPr/>
        </p:nvSpPr>
        <p:spPr>
          <a:xfrm>
            <a:off x="2786040" y="285840"/>
            <a:ext cx="5067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исуем   картины  шерстяными волокнами.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место красок-шерстинки,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место кисточек- пальчики.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6" name="WordArt 3"/>
          <p:cNvSpPr txBox="1"/>
          <p:nvPr/>
        </p:nvSpPr>
        <p:spPr>
          <a:xfrm>
            <a:off x="357120" y="1500120"/>
            <a:ext cx="6010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   хотите,  чтобы  ваш  дом  был  теплым  и  уютны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2643120" y="1928880"/>
            <a:ext cx="60580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ндивидуальным, неповторимым  и  современным?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8" name="WordArt 7"/>
          <p:cNvSpPr txBox="1"/>
          <p:nvPr/>
        </p:nvSpPr>
        <p:spPr>
          <a:xfrm>
            <a:off x="2357280" y="3286080"/>
            <a:ext cx="42865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Тогда  приходите  к  нам!!!</a:t>
            </a:r>
            <a:endParaRPr b="0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ы  поможем  вам  в  этом!!!</a:t>
            </a:r>
            <a:endParaRPr b="0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2000160" y="514404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ТО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МАСТЕРИЦ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Сычевская сош №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WordArt 10"/>
          <p:cNvSpPr txBox="1"/>
          <p:nvPr/>
        </p:nvSpPr>
        <p:spPr>
          <a:xfrm>
            <a:off x="1285920" y="5643720"/>
            <a:ext cx="714384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своить технику валяния из шерсти доступно каждому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обуйте, экспериментируйте, дерзайт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1" name="Picture 11" descr="DSCN0695"/>
          <p:cNvPicPr/>
          <p:nvPr/>
        </p:nvPicPr>
        <p:blipFill>
          <a:blip r:embed="rId1"/>
          <a:stretch/>
        </p:blipFill>
        <p:spPr>
          <a:xfrm>
            <a:off x="428760" y="2643120"/>
            <a:ext cx="2097000" cy="157176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42" name="Picture 12" descr="DSCN0696"/>
          <p:cNvPicPr/>
          <p:nvPr/>
        </p:nvPicPr>
        <p:blipFill>
          <a:blip r:embed="rId2"/>
          <a:stretch/>
        </p:blipFill>
        <p:spPr>
          <a:xfrm>
            <a:off x="6572160" y="2732040"/>
            <a:ext cx="2071800" cy="155592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43" name="Рисунок 155" descr="DD01015_"/>
          <p:cNvPicPr/>
          <p:nvPr/>
        </p:nvPicPr>
        <p:blipFill>
          <a:blip r:embed="rId3"/>
          <a:stretch/>
        </p:blipFill>
        <p:spPr>
          <a:xfrm rot="17394000">
            <a:off x="7827840" y="4152600"/>
            <a:ext cx="1325520" cy="5605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155" descr="DD01015_"/>
          <p:cNvPicPr/>
          <p:nvPr/>
        </p:nvPicPr>
        <p:blipFill>
          <a:blip r:embed="rId4"/>
          <a:stretch/>
        </p:blipFill>
        <p:spPr>
          <a:xfrm rot="1041600">
            <a:off x="263160" y="4102200"/>
            <a:ext cx="123840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11" descr="http://airvif.ewnc.org/sites/default/files/images/DSC02826.preview.JPG"/>
          <p:cNvPicPr/>
          <p:nvPr/>
        </p:nvPicPr>
        <p:blipFill>
          <a:blip r:embed="rId1"/>
          <a:stretch/>
        </p:blipFill>
        <p:spPr>
          <a:xfrm>
            <a:off x="6715080" y="5143680"/>
            <a:ext cx="1917720" cy="1439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6.Словарь  терминов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676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.Войлок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–) вид непряденого текстиля из натуральной шерст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.Ламинирован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получение объёмных декоративных эффектов в нуновойло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3.Нуновойлок или нановойлок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англ. nunofelt, нем. nunofilz) – приваливание волокон шерсти к шелковой или другой ткан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4.Тенсел (Tencel)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вое волокно, похожее на искусственный шелк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5.Фельт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англ. Felt) войлок 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6.Фелтинг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– это особая техника рукоделия, в процессе которой посредством специальной иглы для фелтинга и шерсти для валяния создается рисунок на ткани или войло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7.Фетр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от франц. Feutre) – плотный материал из шерсти или синтетических волокон, выпускаемый в виде полотнищ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8.Фильц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нем. Filz) шерсть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9.Фильцеват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валять шерсть сухим способом пр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мощи специальных игл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7.Валяние  сегодн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714240"/>
            <a:ext cx="495792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егкие, почти воздушные цветные волокна непряденой шерсти – источник неиссякаемого вдохновения для рукодельниц. Картины шерстью напоминают работы в стиле импрессионизм: легкая дымка, некоторая нечеткость и условность мелких деталей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357720" y="3429000"/>
            <a:ext cx="521496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сть хороша тем, что из нее можно создать совершенно невероятные вещи, от простейших бусиков, до сложнейших пространственных композиций или необычной авторской одежд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1" name="Рисунок 15" descr="http://cs2.livemaster.ru/foto/400/fbb1160161n2086.jpg"/>
          <p:cNvPicPr/>
          <p:nvPr/>
        </p:nvPicPr>
        <p:blipFill>
          <a:blip r:embed="rId1"/>
          <a:stretch/>
        </p:blipFill>
        <p:spPr>
          <a:xfrm>
            <a:off x="785880" y="3000240"/>
            <a:ext cx="2428920" cy="3235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img-fotki.yandex.ru/get/4422/28672971.e/0_63bd3_a1876340_XL"/>
          <p:cNvPicPr/>
          <p:nvPr/>
        </p:nvPicPr>
        <p:blipFill>
          <a:blip r:embed="rId2"/>
          <a:stretch/>
        </p:blipFill>
        <p:spPr>
          <a:xfrm>
            <a:off x="5715000" y="85716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8.Нет предела совершенству. </a:t>
            </a:r>
            <a:br>
              <a:rPr sz="2800"/>
            </a:b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В планах у меня выполнить автопортрет из шерсти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554" name="Рисунок 17" descr="http://netroninanny.in.gallerix.ru/pp/sherst---portret-devushki.jpg"/>
          <p:cNvPicPr/>
          <p:nvPr/>
        </p:nvPicPr>
        <p:blipFill>
          <a:blip r:embed="rId1"/>
          <a:stretch/>
        </p:blipFill>
        <p:spPr>
          <a:xfrm>
            <a:off x="857160" y="2143080"/>
            <a:ext cx="3357720" cy="447984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http://handhand.ru/img/shopitems2/54514/128087048424701_original.jpg"/>
          <p:cNvPicPr/>
          <p:nvPr/>
        </p:nvPicPr>
        <p:blipFill>
          <a:blip r:embed="rId2"/>
          <a:stretch/>
        </p:blipFill>
        <p:spPr>
          <a:xfrm>
            <a:off x="3929040" y="1785960"/>
            <a:ext cx="431496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9.Библиографи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857160"/>
            <a:ext cx="7886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Кнаке.Ж. Картины из фетра своими руками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ое руководство- М.: «Ниола-Пресс» 2008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Красникова Г. Все о войлоке и фильцевании. Приложение к журналу «Чудесные мгновения» М.: Агентство Дистрибьютор Прессы,2007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Красичкова А.Г. Вещи из войлока.-М.: Полиграфиздат, 2010.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ена рукоделие.Спецвыпуск № 1 "Идеи для валяния".-М.;Эдипресс-Конлига ,201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Мамонова М., Бублик В., Красникова Г. Все о войлоке и фильцевании. Практическое руководство. Приложение к журналу «Чудесные мгновения. Лоскутное шитье» М.:Астрея, 200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Пипер А.,переводчик Воркуев Ю.Шерстяные панно своими руками.-М.: Ниола-Пресс,-2007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Шинковская К. Вещицы из войлока. Ручная работа.-М.; «АСТ-ПРЕСС».-2008. Шинковская К. Войлок.Все способы валяния.-М.; «АСТ-ПРЕСС».-2011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«История валяния» –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3286080" y="6143760"/>
            <a:ext cx="5214960" cy="428400"/>
          </a:xfrm>
          <a:prstGeom prst="rect">
            <a:avLst/>
          </a:prstGeom>
          <a:solidFill>
            <a:srgbClr val="4e654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www.wool-bulb.com/istorija.htm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9" name="Рисунок 11" descr="01"/>
          <p:cNvPicPr/>
          <p:nvPr/>
        </p:nvPicPr>
        <p:blipFill>
          <a:blip r:embed="rId2"/>
          <a:stretch/>
        </p:blipFill>
        <p:spPr>
          <a:xfrm rot="20762400">
            <a:off x="6870240" y="234720"/>
            <a:ext cx="933480" cy="1400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2" descr="http://s57.radikal.ru/i158/0902/38/2a3adaf59412.jpg"/>
          <p:cNvPicPr/>
          <p:nvPr/>
        </p:nvPicPr>
        <p:blipFill>
          <a:blip r:embed="rId3"/>
          <a:stretch/>
        </p:blipFill>
        <p:spPr>
          <a:xfrm rot="229800">
            <a:off x="7832520" y="244080"/>
            <a:ext cx="92844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8101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Декоративные  панно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«Смоленские зарисовки.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        Времена года»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562" name="Picture 3" descr="DSCN0695"/>
          <p:cNvPicPr/>
          <p:nvPr/>
        </p:nvPicPr>
        <p:blipFill>
          <a:blip r:embed="rId1"/>
          <a:stretch/>
        </p:blipFill>
        <p:spPr>
          <a:xfrm>
            <a:off x="684360" y="1341360"/>
            <a:ext cx="3063600" cy="229572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63" name="Picture 4" descr="DSCN0696"/>
          <p:cNvPicPr/>
          <p:nvPr/>
        </p:nvPicPr>
        <p:blipFill>
          <a:blip r:embed="rId2"/>
          <a:stretch/>
        </p:blipFill>
        <p:spPr>
          <a:xfrm>
            <a:off x="1403280" y="3860640"/>
            <a:ext cx="3240000" cy="243396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64" name="Picture 3" descr="C:\Users\Марна\Desktop\DSCN0708.JPG"/>
          <p:cNvPicPr/>
          <p:nvPr/>
        </p:nvPicPr>
        <p:blipFill>
          <a:blip r:embed="rId3"/>
          <a:stretch/>
        </p:blipFill>
        <p:spPr>
          <a:xfrm>
            <a:off x="4906800" y="2255760"/>
            <a:ext cx="3803760" cy="29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20:29Z</dcterms:modified>
  <cp:revision>74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