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4AB-1E76-43AC-ABD3-5ACDE534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FC5-DFC3-47E3-B4F0-0E345B46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EAD-28F4-4D36-B47C-50C789EE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8C1-3C9B-46E9-AEBB-6B3BB280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B70F4-6FAE-4146-94B0-AE96CE75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FEEA0-879E-414A-A270-657132AA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ECDBF-1342-4896-A76C-3C2121F1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D6F73-59A6-467F-94EF-A8C72431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783F-F3EF-4CEF-B3F8-209C712F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8B1C1-91ED-48EE-A04D-4DB6F47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AB906-106A-447F-B7CB-CCAA076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926-9A57-4F97-8D7D-BEA01F5D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678B5-4FBE-453A-B12B-46870DCF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55BB1-D4D7-406A-8435-7276B87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985C0-BAE5-4D54-9BCD-0EB01FB0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0069F-774C-42E3-AC79-0BAA7F55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3E0F4-4EE0-4A77-A50F-5BBC492E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295C-419D-4F77-9D82-32B760E6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8F14-B62A-4AE7-9462-4EC4435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C790-CEFA-42AF-B4D7-78DD5D7C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1FC9-1CFE-4270-9296-7B8802D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9762-D66E-4E69-B88D-807E5D43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5E6-9015-41FD-AA64-45D4A4FA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F0E4-427D-4308-BBCD-0B0904C5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5B65-C2DB-4EC5-B002-6CD0D64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8265-D81C-4027-BBF8-AFC2CCBA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1EB5-F357-4F83-9FB5-A5589A3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7D4F-4FBE-4508-B2A3-3F0C39C1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8CB2-8DC1-4876-93DF-EE483512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5AC2-3250-429A-BAA8-1297BD5E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7F86E-799D-4B6A-8908-EB6E597C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A9B30-AC98-43A5-86FC-370EDF78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2FC1B-F4BA-496A-A7B5-2ABEC3A8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FAF-81BD-4F72-BC18-CCE9C452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D987E-F731-4430-843C-FD30B7CA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5D8FD-5E22-41FB-A4C8-4573F129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A813B-2D88-4009-93AC-1B91A65A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AA871-1F37-41A7-8737-C06A57D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A4C16-7D96-4B31-94D3-7D6F37B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780F8-C291-40E5-A20A-6BB665E5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BB25C-748D-4351-8C6D-61E934B2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A7404-008C-48D5-BF4B-D6102221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99089-1653-4C2E-B03B-55C5866F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BDCC7-CD55-4419-966B-9D548CFC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316-846C-4345-9283-1814600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413D4-C12C-43C8-9B84-7DF264B7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E6AE0-D28C-46CE-8288-181BB852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8F18D-5069-4F22-B154-D99F40F0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D4B39-6FB3-4A00-AD66-5005531A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DB661-6B46-459B-818C-D7E6C986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5615E-B329-4AC6-9474-ECF7EF82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293CF-E781-4AA6-AAF4-9ED8F56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B8DF4-33B7-4472-A54D-281E82C0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C11CD-22D9-4827-A3C3-3FB3A53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55131-6B64-48FE-8015-660638AC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5B0-3FB9-4728-A79D-C118B74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3DFDB-2CB4-4F9F-BDC3-A4856D84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FD6CA-E4B9-4278-A3D0-2EECC43F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7A11C-B5B2-4BAB-95AA-E4FC9059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24D92-7F61-4DD8-A41A-270FE509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6D982-DEEF-4ABF-964E-76BC574F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8679D-0412-4DB7-B57B-3B53DCD7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D2547-AE88-4E75-B682-D456B36A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FDF54-832A-41CC-824D-B6523BBC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05DC2-3387-4EB5-A924-9DC607A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011FC-719B-4BE0-B8D1-8481D03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B5E-60B8-4063-9824-CD2A4842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52B09-D469-4617-84CA-CAE444F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8274F-414C-41EF-9109-9833EF35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1C7DA-4812-4685-A29C-2F02D1D3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E08-570E-408D-962B-B5CE6AD8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7E0-BFA5-4A07-9592-EF020BE6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F0B2-D4D2-4C0B-8868-8448C93F17E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B9AC-1EF5-47E9-8702-F4F7E646D29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F8F8-2CC7-4AE4-95C6-C61260161D0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C89-AD00-41C6-B80C-CD742ED3D90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5BE5-CE26-4515-BFA1-0C23207359D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4652-5EBF-46C5-ACEA-B2CB2A6A39B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6600cc"/>
                </a:solidFill>
                <a:latin typeface="Constantia"/>
              </a:rPr>
              <a:t>«Левша»</a:t>
            </a:r>
            <a:endParaRPr b="0" lang="en-US" sz="9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4" descr=""/>
          <p:cNvPicPr/>
          <p:nvPr/>
        </p:nvPicPr>
        <p:blipFill>
          <a:blip r:embed="rId1"/>
          <a:stretch/>
        </p:blipFill>
        <p:spPr>
          <a:xfrm>
            <a:off x="268200" y="1432080"/>
            <a:ext cx="8680680" cy="23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левша 006"/>
          <p:cNvPicPr/>
          <p:nvPr/>
        </p:nvPicPr>
        <p:blipFill>
          <a:blip r:embed="rId1"/>
          <a:stretch/>
        </p:blipFill>
        <p:spPr>
          <a:xfrm>
            <a:off x="2214720" y="189000"/>
            <a:ext cx="455580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50000">
              <a:srgbClr val="00ffcc"/>
            </a:gs>
            <a:gs pos="100000">
              <a:srgbClr val="f3a4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левша 008"/>
          <p:cNvPicPr/>
          <p:nvPr/>
        </p:nvPicPr>
        <p:blipFill>
          <a:blip r:embed="rId1"/>
          <a:stretch/>
        </p:blipFill>
        <p:spPr>
          <a:xfrm>
            <a:off x="2295360" y="476280"/>
            <a:ext cx="460692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левша 007"/>
          <p:cNvPicPr/>
          <p:nvPr/>
        </p:nvPicPr>
        <p:blipFill>
          <a:blip r:embed="rId1"/>
          <a:stretch/>
        </p:blipFill>
        <p:spPr>
          <a:xfrm>
            <a:off x="468360" y="485640"/>
            <a:ext cx="8207280" cy="588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6" descr="лесков"/>
          <p:cNvPicPr/>
          <p:nvPr/>
        </p:nvPicPr>
        <p:blipFill>
          <a:blip r:embed="rId1"/>
          <a:stretch/>
        </p:blipFill>
        <p:spPr>
          <a:xfrm>
            <a:off x="2124000" y="189000"/>
            <a:ext cx="5172120" cy="64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лесков 001"/>
          <p:cNvPicPr/>
          <p:nvPr/>
        </p:nvPicPr>
        <p:blipFill>
          <a:blip r:embed="rId1"/>
          <a:stretch/>
        </p:blipFill>
        <p:spPr>
          <a:xfrm>
            <a:off x="2411280" y="189000"/>
            <a:ext cx="4557960" cy="64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левша"/>
          <p:cNvPicPr/>
          <p:nvPr/>
        </p:nvPicPr>
        <p:blipFill>
          <a:blip r:embed="rId1"/>
          <a:stretch/>
        </p:blipFill>
        <p:spPr>
          <a:xfrm>
            <a:off x="2620800" y="260280"/>
            <a:ext cx="381348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левша 001"/>
          <p:cNvPicPr/>
          <p:nvPr/>
        </p:nvPicPr>
        <p:blipFill>
          <a:blip r:embed="rId1"/>
          <a:stretch/>
        </p:blipFill>
        <p:spPr>
          <a:xfrm>
            <a:off x="2268360" y="260280"/>
            <a:ext cx="4245120" cy="63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50000">
              <a:srgbClr val="ff99ff"/>
            </a:gs>
            <a:gs pos="100000">
              <a:srgbClr val="f3a4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левша 00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7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50000">
              <a:srgbClr val="99ccff"/>
            </a:gs>
            <a:gs pos="100000">
              <a:srgbClr val="f3a4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левша 003"/>
          <p:cNvPicPr/>
          <p:nvPr/>
        </p:nvPicPr>
        <p:blipFill>
          <a:blip r:embed="rId1"/>
          <a:stretch/>
        </p:blipFill>
        <p:spPr>
          <a:xfrm>
            <a:off x="395280" y="272880"/>
            <a:ext cx="8280360" cy="625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3a4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левша 004"/>
          <p:cNvPicPr/>
          <p:nvPr/>
        </p:nvPicPr>
        <p:blipFill>
          <a:blip r:embed="rId1"/>
          <a:stretch/>
        </p:blipFill>
        <p:spPr>
          <a:xfrm>
            <a:off x="324000" y="554040"/>
            <a:ext cx="8496000" cy="574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ff"/>
            </a:gs>
            <a:gs pos="50000">
              <a:srgbClr val="00ffff"/>
            </a:gs>
            <a:gs pos="100000">
              <a:srgbClr val="66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левша 005"/>
          <p:cNvPicPr/>
          <p:nvPr/>
        </p:nvPicPr>
        <p:blipFill>
          <a:blip r:embed="rId1"/>
          <a:stretch/>
        </p:blipFill>
        <p:spPr>
          <a:xfrm>
            <a:off x="2359080" y="260280"/>
            <a:ext cx="422424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9:10:01Z</dcterms:created>
  <dc:creator>я</dc:creator>
  <dc:description/>
  <dc:language>en-US</dc:language>
  <cp:lastModifiedBy>Катя</cp:lastModifiedBy>
  <dcterms:modified xsi:type="dcterms:W3CDTF">2013-03-03T12:47:33Z</dcterms:modified>
  <cp:revision>2</cp:revision>
  <dc:subject/>
  <dc:title>Николай Семенович Лес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