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30912-5440-4BC4-8DA0-73C8B4B3F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45385-457E-4ECA-9A19-3EC75EAE6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DB6F7-EE1A-4DD6-94E4-13673BB5A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BA6CC-F40A-442F-AF8E-F95973117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609A71-DB61-4C3F-9469-62D251584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1A6BA2-6766-4893-BB42-46226AD5D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61A148-C60F-49EA-9955-8CCE6519B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E0A2E4-E147-4E3E-9E8B-C9D5C3DCB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8B793A-0D11-4300-B40B-3217F92D1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33C031-0956-4601-AA86-87BC6DCD5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A2CC19-10DF-4084-BBEC-C091B477E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79EAB-AB60-408A-9B34-270812455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70E771-7E53-46F8-B21E-F2866A96D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0DF00E-8F71-465A-BFCB-728BE8618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28A44A-A08C-4E72-8F2B-D581B9EF5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23A2B9-FCE8-4CCA-A6F5-7895F7B4F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15560C-3AB9-44F9-874C-B34F6AB5E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7C8794-D302-4D01-A0B6-3738D9447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DCB899-2F38-4575-BA27-B1ED1133B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D5BF51-51C6-4596-A637-BC54AE51D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99571B-23DE-4896-9CD7-475B06E1D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A2DDBF-BE96-4082-B4CF-110328540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FD2D6-C916-4983-A5CA-2900432C2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96E776-BD44-4F7E-8D2B-18F01F5EB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9B1EEA-94B0-4EDA-94FB-1E040ED09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FCABF6-0416-461F-9D8E-93C8D21C6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A9CD38-04FD-400B-9435-60A97161B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4164FA-9610-46E2-A598-61616853C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028C68-E44B-45B8-BBEA-6B9813951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D888E1-573D-438C-91A6-CB03E5463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7A833FB-78F4-4E6A-A829-C1493984A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C9BD2F0-BA00-440E-9CA7-F5517C0BB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FF899A1-A1BE-44AD-B33D-7479F5A56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428B3-E0E5-4C3A-92D7-6D194D261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7F41347-26D8-423C-81B3-2EEA01AE0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204D2BA-E97B-48F6-A9FF-DBA116224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5951DE2-83B7-4B6C-91D2-951DC792A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73A0113-D9E8-4984-946A-B9F213220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5C757FD-449E-4118-80C6-B0606BF9A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F4DA21C-699C-4EBD-9307-6BD2A7962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0C9FCF3-2E7C-4BC8-956F-8A1F62672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F9CB2AA-55AB-4381-9CB9-F856187F1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DF60E3B-A1D8-42C4-94D1-9F574776E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990AE42-8794-4AB4-9955-1AAF76A0A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FF4B1-AA9E-4539-BC1A-BBE50CEC7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FF22643-3049-4327-8214-D2C863087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4243D56-9267-4A67-9330-0E9EE275A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5B7C4DE-2F06-463A-B810-6D613BD8A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38E285F-A151-4860-82FC-257914B09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1F8B725-A4A1-4421-8347-5D9320776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A956E59-E45B-464D-8558-3B0DC0B0C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E01A41B-74A3-41DB-96A2-CA511DD97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DC6482F-A6DA-45FF-BACF-F159142B9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D052480-1F38-4FC3-A8E3-220E9DF7A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CF63037-71DE-42EF-9135-D58C6EB1B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159CF-BC4E-43E5-8860-44E1825B7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A78B284-75E9-4E8B-AFB5-F961F0077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1B49C35-29E1-461D-BCE1-41D79F019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3A533CC-2F7B-4E9F-9CCE-9F0D58564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BFD8A69-47E6-4634-8304-B78A0982B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EA71FF4-38F3-4BFA-BA37-3CCE72886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24E928C-4684-473C-B80F-CB067486F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0AF26EB-1E31-404F-A724-1A3BE42E5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FC4A0F5-7AA7-4AF2-831A-72C123769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4129316-7B82-4147-A554-0AB620458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A4B098D-14C9-48E4-B73F-1D0A0D6F7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5662A-251B-4938-8038-5457FCB13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EEA52A7-91EC-4961-AB68-9D1D65E0D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D6863E3-78A0-4790-ADEB-BE97B31D1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FE03F0E-1732-4A19-8775-586F62DA4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8CF28-6F11-4D2D-BC7E-93DEBE8D4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32B9B-C251-494C-8E46-AE2E6F451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F3D8A-9026-4C20-B82F-5A8F8FE54CD9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Прямая соединительная линия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Овал 10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7F371-9F64-462F-A5C8-538883A07A82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9C730-89AA-491D-9D95-F3E3EAC33B1C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Прямая соединительная линия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54DD8-5AEE-4FE8-9EEE-DC4F80785A19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14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6D18B-4F72-4B9E-8DED-C3CE0374F833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ftr" idx="15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sldNum" idx="17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2F1B0-D8F9-4134-80CE-4BA7BE95E86B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ftr" idx="1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370008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600" spc="-1" strike="noStrike">
                <a:solidFill>
                  <a:srgbClr val="6600cc"/>
                </a:solidFill>
                <a:latin typeface="Constantia"/>
              </a:rPr>
              <a:t>«Левша»</a:t>
            </a:r>
            <a:endParaRPr b="0" lang="en-US" sz="9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53" name="Rectangle 4" descr=""/>
          <p:cNvPicPr/>
          <p:nvPr/>
        </p:nvPicPr>
        <p:blipFill>
          <a:blip r:embed="rId1"/>
          <a:stretch/>
        </p:blipFill>
        <p:spPr>
          <a:xfrm>
            <a:off x="268200" y="1432080"/>
            <a:ext cx="8680680" cy="2311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3a447"/>
            </a:gs>
            <a:gs pos="100000">
              <a:srgbClr val="00ff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Picture 4" descr="левша 006"/>
          <p:cNvPicPr/>
          <p:nvPr/>
        </p:nvPicPr>
        <p:blipFill>
          <a:blip r:embed="rId1"/>
          <a:stretch/>
        </p:blipFill>
        <p:spPr>
          <a:xfrm>
            <a:off x="2214720" y="189000"/>
            <a:ext cx="4555800" cy="626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3a447"/>
            </a:gs>
            <a:gs pos="50000">
              <a:srgbClr val="00ffcc"/>
            </a:gs>
            <a:gs pos="100000">
              <a:srgbClr val="f3a4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Picture 4" descr="левша 008"/>
          <p:cNvPicPr/>
          <p:nvPr/>
        </p:nvPicPr>
        <p:blipFill>
          <a:blip r:embed="rId1"/>
          <a:stretch/>
        </p:blipFill>
        <p:spPr>
          <a:xfrm>
            <a:off x="2295360" y="476280"/>
            <a:ext cx="4606920" cy="5977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0" dur="2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99"/>
            </a:gs>
            <a:gs pos="100000">
              <a:srgbClr val="00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Picture 4" descr="левша 007"/>
          <p:cNvPicPr/>
          <p:nvPr/>
        </p:nvPicPr>
        <p:blipFill>
          <a:blip r:embed="rId1"/>
          <a:stretch/>
        </p:blipFill>
        <p:spPr>
          <a:xfrm>
            <a:off x="468360" y="485640"/>
            <a:ext cx="8207280" cy="5888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Picture 6" descr="лесков"/>
          <p:cNvPicPr/>
          <p:nvPr/>
        </p:nvPicPr>
        <p:blipFill>
          <a:blip r:embed="rId1"/>
          <a:stretch/>
        </p:blipFill>
        <p:spPr>
          <a:xfrm>
            <a:off x="2124000" y="189000"/>
            <a:ext cx="5172120" cy="644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3a447"/>
            </a:gs>
            <a:gs pos="100000">
              <a:srgbClr val="0000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4" descr="лесков 001"/>
          <p:cNvPicPr/>
          <p:nvPr/>
        </p:nvPicPr>
        <p:blipFill>
          <a:blip r:embed="rId1"/>
          <a:stretch/>
        </p:blipFill>
        <p:spPr>
          <a:xfrm>
            <a:off x="2411280" y="189000"/>
            <a:ext cx="4557960" cy="6441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ff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4" descr="левша"/>
          <p:cNvPicPr/>
          <p:nvPr/>
        </p:nvPicPr>
        <p:blipFill>
          <a:blip r:embed="rId1"/>
          <a:stretch/>
        </p:blipFill>
        <p:spPr>
          <a:xfrm>
            <a:off x="2620800" y="260280"/>
            <a:ext cx="3813480" cy="619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99ff"/>
            </a:gs>
            <a:gs pos="100000">
              <a:srgbClr val="ccff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4" descr="левша 001"/>
          <p:cNvPicPr/>
          <p:nvPr/>
        </p:nvPicPr>
        <p:blipFill>
          <a:blip r:embed="rId1"/>
          <a:stretch/>
        </p:blipFill>
        <p:spPr>
          <a:xfrm>
            <a:off x="2268360" y="260280"/>
            <a:ext cx="4245120" cy="6308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3a447"/>
            </a:gs>
            <a:gs pos="50000">
              <a:srgbClr val="ff99ff"/>
            </a:gs>
            <a:gs pos="100000">
              <a:srgbClr val="f3a4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4" descr="левша 002"/>
          <p:cNvPicPr/>
          <p:nvPr/>
        </p:nvPicPr>
        <p:blipFill>
          <a:blip r:embed="rId1"/>
          <a:stretch/>
        </p:blipFill>
        <p:spPr>
          <a:xfrm>
            <a:off x="539640" y="333360"/>
            <a:ext cx="8209080" cy="6178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3a447"/>
            </a:gs>
            <a:gs pos="50000">
              <a:srgbClr val="99ccff"/>
            </a:gs>
            <a:gs pos="100000">
              <a:srgbClr val="f3a447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Picture 4" descr="левша 003"/>
          <p:cNvPicPr/>
          <p:nvPr/>
        </p:nvPicPr>
        <p:blipFill>
          <a:blip r:embed="rId1"/>
          <a:stretch/>
        </p:blipFill>
        <p:spPr>
          <a:xfrm>
            <a:off x="395280" y="272880"/>
            <a:ext cx="8280360" cy="6255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99"/>
            </a:gs>
            <a:gs pos="100000">
              <a:srgbClr val="f3a4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Picture 4" descr="левша 004"/>
          <p:cNvPicPr/>
          <p:nvPr/>
        </p:nvPicPr>
        <p:blipFill>
          <a:blip r:embed="rId1"/>
          <a:stretch/>
        </p:blipFill>
        <p:spPr>
          <a:xfrm>
            <a:off x="324000" y="554040"/>
            <a:ext cx="8496000" cy="5748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6666ff"/>
            </a:gs>
            <a:gs pos="50000">
              <a:srgbClr val="00ffff"/>
            </a:gs>
            <a:gs pos="100000">
              <a:srgbClr val="6666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4" descr="левша 005"/>
          <p:cNvPicPr/>
          <p:nvPr/>
        </p:nvPicPr>
        <p:blipFill>
          <a:blip r:embed="rId1"/>
          <a:stretch/>
        </p:blipFill>
        <p:spPr>
          <a:xfrm>
            <a:off x="2359080" y="260280"/>
            <a:ext cx="4224240" cy="604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2T09:10:01Z</dcterms:created>
  <dc:creator>я</dc:creator>
  <dc:description/>
  <dc:language>en-US</dc:language>
  <cp:lastModifiedBy>Катя</cp:lastModifiedBy>
  <dcterms:modified xsi:type="dcterms:W3CDTF">2013-03-03T12:47:33Z</dcterms:modified>
  <cp:revision>2</cp:revision>
  <dc:subject/>
  <dc:title>Николай Семенович Лесков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