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5.wmf" ContentType="image/x-wmf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9D67-0D5A-4E0F-9D24-814A73DD2F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5F8C-205E-418F-BCB2-8CE39A376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это значит: если ты захочешь узнать о происхождении деепричастия, разбери его по составу –и сразу поймёшь, что оно как-то связано с причаст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 как-то, а напрямую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623-2009-4744-B737-F891254C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6E2-6B2F-4D69-8F04-AA5534F0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78F-8C38-463B-8351-FB449C86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545-C7DE-43AA-A999-8F76614E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21C-8275-47AE-8087-8FED3DCC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F61-63FC-4BD4-AFC9-0F308F6B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58D-FA29-43B4-8814-CED1AEDC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8D7-750B-4280-9594-5A236958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73C-8AC2-43EA-ABAC-DA29F5DD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5B9-B119-4202-8EBF-84C3F50E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989-793E-4150-A051-09CE9978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B38-08F3-4C8F-85C9-935A6EC9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8CF1-C9B4-4257-837C-1F30B621D5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37D1-9287-44F4-8525-E00E71AB0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ЕПРИЧАСТ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епричастные обороты являются принадлежностью в основном книжной речи. Несомненное их преимущество заключается в их краткости и динамичности. Им присуща также большая выраз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Э. Розент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ook"/>
          <p:cNvPicPr/>
          <p:nvPr/>
        </p:nvPicPr>
        <p:blipFill>
          <a:blip r:embed="rId1"/>
          <a:stretch/>
        </p:blipFill>
        <p:spPr>
          <a:xfrm>
            <a:off x="1332000" y="4581360"/>
            <a:ext cx="2514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2ADE-CC87-4D62-9DED-3BD94E787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лайд №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спомните зимний лес и составьте предложения, используя существительные, записанные на доске, и деепричастные обор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I ря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II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ревья                     Троп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бо                           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ьюга                        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гробы                    Снежи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ttp://www.apatity.fio.ru/projects/pr521/images/ushenic.gif"/>
          <p:cNvPicPr/>
          <p:nvPr/>
        </p:nvPicPr>
        <p:blipFill>
          <a:blip r:embed="rId1"/>
          <a:stretch/>
        </p:blipFill>
        <p:spPr>
          <a:xfrm>
            <a:off x="3564000" y="3573360"/>
            <a:ext cx="18511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AABC-02C5-4422-8E5F-56CA2F36A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2195640" y="476280"/>
            <a:ext cx="6264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О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7" descr="Солнце"/>
          <p:cNvPicPr/>
          <p:nvPr/>
        </p:nvPicPr>
        <p:blipFill>
          <a:blip r:embed="rId1"/>
          <a:stretch/>
        </p:blipFill>
        <p:spPr>
          <a:xfrm>
            <a:off x="395280" y="3860640"/>
            <a:ext cx="3168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3"/>
          <p:cNvSpPr/>
          <p:nvPr/>
        </p:nvSpPr>
        <p:spPr>
          <a:xfrm rot="3822000">
            <a:off x="3707640" y="1629360"/>
            <a:ext cx="1513080" cy="504720"/>
          </a:xfrm>
          <a:custGeom>
            <a:avLst/>
            <a:gdLst>
              <a:gd name="textAreaLeft" fmla="*/ 257040 w 1513080"/>
              <a:gd name="textAreaRight" fmla="*/ 1135440 w 151308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42" hR="21600" stAng="10800000" swAng="5400000"/>
                <a:lnTo>
                  <a:pt x="12536" y="0"/>
                </a:lnTo>
                <a:arcTo wR="7342" hR="21600" stAng="-5400000" swAng="2632243"/>
                <a:lnTo>
                  <a:pt x="21180" y="14400"/>
                </a:lnTo>
                <a:lnTo>
                  <a:pt x="17280" y="21600"/>
                </a:lnTo>
                <a:lnTo>
                  <a:pt x="12540" y="14400"/>
                </a:lnTo>
                <a:lnTo>
                  <a:pt x="14263" y="14400"/>
                </a:lnTo>
                <a:arcTo wR="7342" hR="21600" stAng="-2767757" swAng="-2192756"/>
                <a:lnTo>
                  <a:pt x="9939" y="1397"/>
                </a:lnTo>
                <a:arcTo wR="7342" hR="21600" stAng="-5839487" swAng="-4960513"/>
                <a:close/>
              </a:path>
              <a:path fill="darkenLess" w="21600" h="21600">
                <a:moveTo>
                  <a:pt x="0" y="21600"/>
                </a:moveTo>
                <a:arcTo wR="7342" hR="21600" stAng="10800000" swAng="5400000"/>
                <a:lnTo>
                  <a:pt x="7342" y="0"/>
                </a:lnTo>
                <a:arcTo wR="7342" hR="21600" stAng="-5400000" swAng="439487"/>
                <a:lnTo>
                  <a:pt x="9939" y="1397"/>
                </a:lnTo>
                <a:arcTo wR="7342" hR="21600" stAng="-5839487" swAng="-4960513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39640" y="328464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дее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деяти, т.е делать) </a:t>
            </a: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+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частие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ср. причастност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68360" y="465300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ермин введён в Грамматику М.Смотрицким в начале 17 ве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763640" y="2637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Де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ль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де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55640" y="333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ДЕЕ</a:t>
            </a:r>
            <a:r>
              <a:rPr b="1" lang="en-US" sz="5400" spc="-1" strike="noStrike">
                <a:solidFill>
                  <a:srgbClr val="66ff33"/>
                </a:solidFill>
                <a:latin typeface="Arial"/>
              </a:rPr>
              <a:t>ПРИЧАС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042920" y="5734080"/>
            <a:ext cx="7777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bd05012_"/>
          <p:cNvPicPr/>
          <p:nvPr/>
        </p:nvPicPr>
        <p:blipFill>
          <a:blip r:embed="rId1"/>
          <a:stretch/>
        </p:blipFill>
        <p:spPr>
          <a:xfrm>
            <a:off x="6877080" y="4365720"/>
            <a:ext cx="19209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68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18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8B5A-259A-4AD9-9F3F-279D95C52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75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Слайд № 3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Спишите словосочетания и определите вид деепричаст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26920" y="3193920"/>
            <a:ext cx="756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расплетая косы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увлекая за собой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остановившись на ночлег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думая об э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7521480" y="523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book2"/>
          <p:cNvPicPr/>
          <p:nvPr/>
        </p:nvPicPr>
        <p:blipFill>
          <a:blip r:embed="rId1"/>
          <a:stretch/>
        </p:blipFill>
        <p:spPr>
          <a:xfrm>
            <a:off x="6443640" y="4797360"/>
            <a:ext cx="212256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DBA1-3C1E-4B3B-B0DB-840A25F5D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Слайд № 4</a:t>
            </a:r>
            <a:br>
              <a:rPr sz="3000"/>
            </a:b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Запишите деепричастия, образованные от глаголов, выделите суффик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28640"/>
          <a:ext cx="8229600" cy="4359240"/>
        </p:xfrm>
        <a:graphic>
          <a:graphicData uri="http://schemas.openxmlformats.org/drawingml/2006/table">
            <a:tbl>
              <a:tblPr/>
              <a:tblGrid>
                <a:gridCol w="3970440"/>
                <a:gridCol w="4259160"/>
              </a:tblGrid>
              <a:tr h="43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3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ряд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лядываться (несов. в.) Распечатать (сов. в.)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ркать(несов. в.) Оторваться (сов. в.)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шить(несов. в.)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3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ряд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овить (сов. в.)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ить (сов. в.) Стучать (несов. в.)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гать (несов. в.) Играть (несов. в.)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27" descr="j0213241"/>
          <p:cNvPicPr/>
          <p:nvPr/>
        </p:nvPicPr>
        <p:blipFill>
          <a:blip r:embed="rId1"/>
          <a:stretch/>
        </p:blipFill>
        <p:spPr>
          <a:xfrm>
            <a:off x="6948360" y="4941720"/>
            <a:ext cx="14493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099C-30BB-4681-8DE9-215DD0D1F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Слайд №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5</a:t>
            </a:r>
            <a:br>
              <a:rPr sz="3000"/>
            </a:b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От данных глаголов образуйте деепричастия</a:t>
            </a:r>
            <a:r>
              <a:rPr b="0" lang="ru-RU" sz="3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глядываться (деепричастие несов. в.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ечатать (деепричастие сов. 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еркать (деепричастие несов. в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орваться (деепричастие сов. 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шить (деепричастие несов. в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новить (деепричастие сов. 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пить (деепричастие сов. в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учать (деепричастие несов. 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ыгать (деепричастие несов. в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ать (деепричастие несов. в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идеть (деепричастие сов. в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ествовать (деепричастие несов. 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j0300119"/>
          <p:cNvPicPr/>
          <p:nvPr/>
        </p:nvPicPr>
        <p:blipFill>
          <a:blip r:embed="rId1"/>
          <a:stretch/>
        </p:blipFill>
        <p:spPr>
          <a:xfrm>
            <a:off x="6372360" y="2276640"/>
            <a:ext cx="21272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4555-7DE5-4D50-ADA9-E1352F2DE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41878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1 ря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 ночь тянулась без конца..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орой, дремотой обвевая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Шумела тише вьюга злая,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Шуршала снегом у крыльц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теклянный, редкий и ядреный,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 веселым шорохом спеша,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омчался дождь, и лес зеленый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Затих, прохладою дыш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лайд №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6</a:t>
            </a:r>
            <a:br>
              <a:rPr sz="4000"/>
            </a:br>
            <a:r>
              <a:rPr b="0" lang="ru-RU" sz="3500" spc="-1" strike="noStrike">
                <a:solidFill>
                  <a:srgbClr val="ff3300"/>
                </a:solidFill>
                <a:latin typeface="Arial"/>
              </a:rPr>
              <a:t>Найдите деепричастия, объясните постановку знаков препинания (устно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43280" y="1773360"/>
            <a:ext cx="450072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2 ря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Опять привольные поля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оходят мимо нас кругами,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 хутора и тополя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лывут, скрываясь за поля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Блистая, облака лепились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 лазури пламенного дня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Две розы под окном раскрылись –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Две чаши, полные огн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j0213241"/>
          <p:cNvPicPr/>
          <p:nvPr/>
        </p:nvPicPr>
        <p:blipFill>
          <a:blip r:embed="rId1"/>
          <a:stretch/>
        </p:blipFill>
        <p:spPr>
          <a:xfrm>
            <a:off x="7581960" y="5516640"/>
            <a:ext cx="11761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F3A9-E419-4B27-9B71-1CFA961B2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лайд №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7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пишите предложение, расставьте 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наки препи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1836720"/>
            <a:ext cx="914400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Ёжась от свежего ветерк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Чуть посинев крепыши-маслят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Взявшись за руки, как ребята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Топают греясь вокруг пенька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Э.Асадов «Ле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521160" y="468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j0282178"/>
          <p:cNvPicPr/>
          <p:nvPr/>
        </p:nvPicPr>
        <p:blipFill>
          <a:blip r:embed="rId1"/>
          <a:stretch/>
        </p:blipFill>
        <p:spPr>
          <a:xfrm>
            <a:off x="3521160" y="4686480"/>
            <a:ext cx="156996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FE78-471C-4051-87BF-D99729E0A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лайд №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8</a:t>
            </a:r>
            <a:br>
              <a:rPr sz="40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айдите ошибки в постановке знаков препинания, спишите прави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екоторое время постоял, он на крыльце наслаждаясь утренней прохладой и оглядывая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Тяжело дыша, отец подошёл к дивану и не раздеваясь лё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Марья Павловна стояла подле него, прислоняясь к берёзе и заложив назад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C12D-0F0B-4064-B5B8-4DB7279FB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3300"/>
                </a:solidFill>
                <a:latin typeface="Arial"/>
              </a:rPr>
              <a:t>Слайд № 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9</a:t>
            </a:r>
            <a:br>
              <a:rPr sz="2500"/>
            </a:br>
            <a:r>
              <a:rPr b="1" lang="ru-RU" sz="2500" spc="-1" strike="noStrike">
                <a:solidFill>
                  <a:srgbClr val="ff3300"/>
                </a:solidFill>
                <a:latin typeface="Arial"/>
              </a:rPr>
              <a:t>Найдите предложения, в которых допущены ошибки в употреблении деепричастных оборотов. Исправьте и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Выступая на концерте, зал внимательно слушал исполнител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У воды растут, наклонясь к ней, ив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Ожидая победу, ее охватило волн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 Увидев отца, Сережа заулыбал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 Войдя в автобус, неожиданно пошел сне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) Досмотрев до конца интересный фильм, наступил вече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) Подъезжая к лесу, вдруг выскочил вол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) Проснувшись от шума, я увидел перед собой нашу соба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) Сидя у окна, в комнату влетел вороб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) Ваня, поступив в школу, и очень ее люби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1) Возвращаясь домой, шел дожд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2) Бесшумно пошел, засыпая, сне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3)Заигравшись до позднего вечера, мама на нас рассердилас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7772400" y="566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j0213241"/>
          <p:cNvPicPr/>
          <p:nvPr/>
        </p:nvPicPr>
        <p:blipFill>
          <a:blip r:embed="rId1"/>
          <a:stretch/>
        </p:blipFill>
        <p:spPr>
          <a:xfrm>
            <a:off x="7259760" y="5084640"/>
            <a:ext cx="1449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2:02:11Z</dcterms:created>
  <dc:creator>Александр</dc:creator>
  <dc:description/>
  <dc:language>en-US</dc:language>
  <cp:lastModifiedBy>Adel</cp:lastModifiedBy>
  <dcterms:modified xsi:type="dcterms:W3CDTF">2012-04-10T18:57:00Z</dcterms:modified>
  <cp:revision>10</cp:revision>
  <dc:subject/>
  <dc:title>Слайд 1</dc:title>
</cp:coreProperties>
</file>