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B26-CC23-46BB-BD0E-0450828D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A5E-0150-4934-9F98-ABB4E86E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A8B-17F4-4833-A2D7-A1908476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8FF-3626-41AD-9942-D5432FBA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98D-487A-4333-889D-6B288972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937A-55CE-4EB8-B711-DCC13C5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CBE6-F4FA-449F-BB84-940CE187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5182-2A3A-4C18-A85F-BC84232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79A-D3D5-4745-AC58-8333523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6CE1-8C2E-40A8-8F22-BD73B50D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C12D-3F5D-41D4-9B33-2D386DA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AA7-0147-4816-8318-719EA1F2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F165-3FEF-404A-B455-49A9AF7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74AE-E2D7-4FA1-AE34-698AF88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F3B-D8D4-4872-B94C-E0829AA6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0CD9-AE48-4511-A235-E35CC889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075A-3387-46D2-AC50-244F1048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6C6-F139-4BEE-82C7-7829AB3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B8C-C409-4F1E-9302-27AD596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EC8-BB5D-4F45-B44E-DD65EB1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0A0-7784-4260-8109-93F7174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F83-50E0-4D39-A2F4-3D45883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C7A-0B6F-44C4-8415-881489B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4AB-FDD9-4552-A937-EF72935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4226-41DA-4160-858F-557814D9A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E8A-673D-4227-8659-EFC5077093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123720" y="4343040"/>
            <a:ext cx="57913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Кюрджиева Наталия Александровна, 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«Лицей № 47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Сарат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Мастер – клас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«Букет для мамы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Берем лист картона зеленого цвет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линовываем на полоски по 2 см. Снизу отступаем 3 с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резае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леиваем полос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ворачиваем полоски по кругу. Край приклеиваем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резаем цветы из бумаги разного цве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клеиваем цветы на листь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34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03T15:03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