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307-2EC3-4B44-B224-6175118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2C0-AF6D-4CB5-B0D7-8AC6343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E20-3A9A-4C24-A74C-365972D5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CB4-581E-4EE4-9777-7ED29F4D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D06-A2C7-4763-BC1E-E9D98F0E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5107-C62F-4D28-A997-8A555AB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6AAE-137B-4BF2-A472-666F2028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203-B396-46F4-A97E-DDBE0F8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09A-C2A9-45EF-8FE7-36DC071C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424-3EDD-4661-AA94-2B16062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3AB5-BB8B-40FA-8BC8-B8DE660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8B6-A10B-4C83-81F9-2C681AD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E9C-E3B0-4997-B161-CB409F5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C3A7-1A9E-4688-A46D-AA08F767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08E4-F76C-414C-9D63-F62CDCFE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D816-DBA5-4C5E-A377-FC5FA5DC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03F3-74F3-48EC-A59D-C77F0184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45C-76FF-4029-B5E9-D264D1E1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E24-AE5C-4820-B49C-DF8E0F8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3F6-1E81-414E-964B-AB280F2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6EE-478A-4CDB-BE6F-4654B4F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459-5B0E-40BB-8B49-6EE29BF2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20A-29EF-4DCF-A8E5-28B085CB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DA3-65DD-4AB4-837C-D105F26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47E9-792D-4133-8E2C-5C526246D2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26B-5F53-4E31-A386-D55372DD8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123720" y="4343040"/>
            <a:ext cx="57913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Кюрджиева Наталия Александровна, 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«Лицей № 47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Сарат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Мастер – клас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«Букет для мамы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Берем лист картона зеленого цвет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линовываем на полоски по 2 см. Снизу отступаем 3 с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резае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леиваем полос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ворачиваем полоски по кругу. Край приклеиваем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резаем цветы из бумаги разного цве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клеиваем цветы на листь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34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3T15:03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