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115-DA05-4218-8FEC-048D87AA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102-9972-4ACC-936A-F35FB171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F708F-D11F-4F68-B28E-B6D90C80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5D86B-5973-4871-8FC7-0842EE27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A836B-C5C6-4494-A20F-AFCB867D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56870-F785-4A0E-913A-E889A185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75602-6F6B-44C3-90A9-738F27E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948A9-F627-4091-BDA5-5F0D936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4BE68-DEC6-46E4-B7A0-A7E6D729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3EF96-4F37-449F-9548-78994797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3AC3D-F1C4-4D6F-A45E-7BA86148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858-4CA8-4AF6-B88A-AAE59573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B18-C57C-4019-86D0-9606C23F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14E8-69BE-4ADD-8B8B-AA79CC64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6A6C-9552-4C15-B129-089F8E11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EFEA-F6FC-4110-8601-D97EDF38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11B-B7C9-4903-9A73-257DB3CB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C615-C481-4326-9439-52340EEE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B46B-894D-4676-9BCC-2D85DB7B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EAF2-D15B-4BC9-A2F3-B2B4C232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767-E4D4-45E2-B4EF-B94E9768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6B49-DFB6-4675-B5CB-340D20FC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1CFB-B413-4E6C-A2DB-9C862152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B8A2-D41E-4310-9FDD-534CBB6F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D9C6-0651-4EA1-BE9A-DBE8AF0E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1DDB-92BF-4714-AA53-7FD70C70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3AE8-094C-4FD0-A806-5757B8EF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C3CE-A8BE-481D-B352-02F6F515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D711-D6B2-4F46-B944-9701F132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5342-68DC-4F2B-A84D-01B7546E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B5F99-12B5-489D-A136-A835DD98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8DD-6ACD-4E48-842E-0CE34ED0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E3D8-3D05-4F04-AB54-E03C403B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66AF-6A7F-40CE-8A43-3431D230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C053-DFF4-4638-83D7-011221F3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D1FD-872A-4BDF-9699-DF4B77B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F950-B909-465E-9F06-7EFE2C77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8CA5-8E82-49B8-9BE0-55DFC318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04537-AE32-43F3-81D5-7A31290F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13166-C23D-46D1-A118-CA02389E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9233B-648B-4642-BD6B-00512B45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A34C5-7EB7-4B7F-8190-FE4255C8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E9A-0E72-4DCE-8557-6B5AE652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5A0C4-E7F9-4284-9168-729DFD22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69F58-323D-496C-AA62-AA29A5ED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F008B-835B-4D6C-ADAE-B182D40D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40BC-A3BF-4941-87F3-1AF5FA0E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9B7B-B277-449D-9AFA-B47BFE7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170F5-B001-4EE4-8F16-ACFB8B6A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65BC8-4E01-4ADF-948B-A785F080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03235-A27F-4071-A50B-C9580A6B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20D81-AA29-4EAD-81F2-8CCE051F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BB6C0-1272-4D20-B859-613FDD9E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7C3-DE6B-4341-8D77-004B3568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35F12-8A77-411D-9C7C-825956D1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47054-97E3-4C4D-97CD-8B6AAC14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CE0C-A504-4BE9-9EF7-6AD12FF5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947F2-D748-4F81-9A75-1BCC31F3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7D091-E81D-4671-97CD-9E4EBBE8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4754C-8C6A-497B-9E30-A0279CD8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D16B-DD9E-423D-9B03-8F31D96E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4EF88-DA61-4CF0-9BFF-CEADA017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FAE12-4F83-4979-95F7-77975594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3160C-7659-4854-BA16-F6A126B7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960-996A-48FD-B17D-54698436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C2FC1-5F54-4EF8-AC3A-9B58597D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C8D16-34DE-43E2-BE40-CA291AF4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6FB70-B217-4EA7-BAF2-C5ABB1F9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A3F00-7EB2-4CEA-B521-4101BC11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A853-E8F6-4885-8940-E9FE3EC5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58C54-9902-4DA4-9C22-0481489B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07278-314F-404F-ADED-122E863B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EBEDA-885C-4FA8-A1DD-E6283C90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C25B4-26C4-4C76-A76A-D1AB3ADF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EABA7-8799-4015-B613-A4F3099D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ABC-0ACA-4347-94B5-C0306596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D7BEB-76FD-4C7D-8E8B-A5F8A797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BC228-E1F3-4D92-A2BF-3024FD8E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4FAD1-1A3F-4ABC-AD8C-9C5D13CF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32C73-2093-4FEB-912A-0582EBD7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639F9-9068-4BF0-B25E-A1541FD3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DBB76-EFC3-4DD5-99C3-8952CE94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4A6B7-D58F-4B53-9932-B5B4AA5E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7E8F4-2DCB-47A1-9C84-B740BBD6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5E036-E9B6-4E74-9313-7243F44D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677CC-A8C1-4335-A16F-839F6050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5C0-E363-4908-98A0-40616FBE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B98EF-CC2D-47F8-BD8A-8D330439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FFA95-31E1-4E46-B4EC-3954EBD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9DB7-F3FB-4F83-B3E4-FCC7043C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15AF3-CFA6-4D8A-8EAD-07857CFF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C4153-CD95-4DA1-8285-4021A245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09A29-C8C9-42CD-9607-783A4EB5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98D9D-7197-489A-AC70-0A3352A8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2EA7B-CC32-4158-9C4C-37C49352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CC6C5-DCDC-47F1-A5A5-7D26370E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C4566-ABF4-442B-BFD9-FC253D96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89F-9543-4FE9-9829-CAE1870E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FEB35-59EC-4369-AF3F-7D60984E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3C918-51EC-4B24-B115-4334A00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6943A-8DF0-4146-BC75-D1FEC15E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DB142-912C-4929-B985-7E8498BD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1EA50-DECF-414F-A075-873AF946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7CBCB-9D4A-4E85-A30F-7C0FC8CC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102CF-68CC-448B-8712-0F26F942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F544D-93F7-4ABC-A181-B4961946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7DED9-CD41-4ACC-8A78-A7CA0C96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2AF85-58C2-4961-9BF6-DAEC311B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3D9B-04C0-437E-B142-92208DE9F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1F2A-099A-4E6B-8367-0E48C6AF0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1B13-D05A-4EEE-B71D-0939A4FE0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766A-5F98-4F18-9F2D-892794BE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945B-A8A1-44A1-AD70-786035756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F217-82BA-4040-AF99-1F48934CA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7F48-7A0A-4914-9856-58C145BD7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DED3-5A5D-4D9C-BD8B-47C8823AC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D069-D41E-464E-B26F-BA402D8F8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691920"/>
            <a:ext cx="79786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инные инновации в области педагогики – чрезвычайно редкое явление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равило, это – рассмотрение на новом витке педагогических, социальных, культурных достижений, давно забытых старых педагогических истин, использовавшихся ранее, в других условиях, в иной интерпретации методов и приемов обучения. Именно осмысление и применение их в новой учебной, культурно-социальной ситуации и дает основание говорить 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в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дагогических технологиях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С. Полат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26560" y="404280"/>
            <a:ext cx="7859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Обязательно подводить итоги игры,  выявлять побед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Не проводить игру ради самой игры. Появление игры на уроке должно быть целесообраз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Новую игру лучше начинать учителю, а когда ученики усвоят правила, передать роль ведущего одному из н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040" y="404640"/>
            <a:ext cx="797868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Учитель должен быть либо заинтересованным организатором игры, либо ее участни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Игра должна проводиться на иностранном языке, поэтому до начала игры необходимо ввести нужную лекс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Не раздавать игровой материал пока ученики не поняли правила иг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905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и та же игра может выступать в нескольких функциях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учающая функ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развитие общеучебных умений и навыков, таких, как память, внимание, восприятие информации различной модальности, развитие навыков владения иностранным язы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муникативная функ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объединение в коллектив, установление эмоциональных контак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лаксационная функ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снятие эмоционального напряжения, вызванного нагрузкой на нервную систему при интенсивном обуч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звивающая функ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гармоничное развитие личностных качеств для активизации резервных возмож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859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овое моделирование на занятиях по иностранному языку способствует установлению психологического контакта, гармоничному развитию межличностных взаимоотношений, творческой инициативе, развивая при этом гибкость восприятия материала, позитивный настрой, воображение, умение слушать собеседн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4526280" cy="31654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rcRect l="0" t="4775" r="0" b="0"/>
          <a:stretch/>
        </p:blipFill>
        <p:spPr>
          <a:xfrm>
            <a:off x="4067280" y="3543480"/>
            <a:ext cx="48020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3695760" cy="58658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4832280" y="260280"/>
            <a:ext cx="3791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4152960" cy="51832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099040" y="620640"/>
            <a:ext cx="3863880" cy="5878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55640" y="692280"/>
            <a:ext cx="41385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B                    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692280"/>
            <a:ext cx="144360" cy="54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этих технологий позволяет видеть в каждом ребенке личность, учитывать его интересы, жизненный опыт, индивидуальные особенности; создавать благоприятный психологический климат на уроке, повышать мотивацию к изучению английского языка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этих технологий положительно сказывается на росте качества знаний и успеваемости моих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ков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971280" y="836280"/>
            <a:ext cx="7715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знаю, для чего мне надо все, что я познаю. Я знаю, где и как я могу это применить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вот основной тезис современного метода прое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проектов - это совокупность учебно-познавательных приемов, которые позволяют решить ту или иную проблему в результате самостоятельных действий учащихся с обязательной презентацией этих результа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ектная технология включает в себя совокупность исследовательских, поисковых, проблемных методов, творческих по самой своей су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826560" y="404280"/>
            <a:ext cx="7859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ы, предназначенные для обучения языку, обладают как общими для всех проектов чертами, так и отличительными особенностями, среди которых главными являются следующ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языка в ситуациях, максимально приближенных к условиям реального общ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 на самостоятельной работе учащихся (индивидуальной и группово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темы, представляющей большой интерес для учащихся и непосредственно связанной с условиями, в которых выполняется проек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ор языкового материала, видов заданий и последовательности работы в соответствии с темой и целью проек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лядное представление результа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00000" y="260280"/>
            <a:ext cx="7786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иод выполнения проектов у школьников развиваются следующие уме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учеб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 учебником, со словарем, справочной литературой, составление плана доклада, сообщения, выступления по теме и т. 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умение сокращать текст и передавать его в устной форме, осуществлять тематический подбор лексики, пользоваться двуязычным словарем, делать краткие записи по проблеме, составлять сообщения и др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ствен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муникативн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ия по видам речевой деятельности, включающие речевое и неречев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900000" y="188640"/>
            <a:ext cx="7786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 проект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вает интеллект ученика, его умение планировать и отслеживать последовательность выполняемых действий, усваивать знания и применять их в практической деятель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вает творческие способности и самостоятельность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ориентирован на самостоятельную деятельность учащихся, которая предполагает владение определенными умениями: анализа, синтеза, мысленного экспериментирования, прогнозирования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работе над проектом в центре внимания находится мысль, а язык выступает в своей прямой функции – формирования и формулирования этих мыслей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в большей степени, по сравнению со стандартными методами обучения, знакомит школьников со страноведческой тематикой, включает учащихся в активный диалог культур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зволяет обучить детей умению получать знания через свою деятельн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715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грать или не играть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868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8000" y="1268280"/>
            <a:ext cx="525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мотив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00000" y="2781360"/>
            <a:ext cx="244800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51280" y="2708280"/>
            <a:ext cx="208908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300720" y="2781360"/>
            <a:ext cx="215892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стетиче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4437000"/>
            <a:ext cx="259236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556000" y="206064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206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56360" y="2060640"/>
            <a:ext cx="13669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708360" y="2133720"/>
            <a:ext cx="0" cy="23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826560" y="404280"/>
            <a:ext cx="7859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ИСПОЛЬЗОВАНИЯ ИГР НА УРОКА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начальном этапе лучше использовать игры с правилами, а не ролев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игры должны быть простыми, лучше, если они известны по играм на родном язы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Нельзя подменять игру игровым заданием, которое все должны выполнить одинаково, ведь результат игры всегда непредсказу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2:33:19Z</dcterms:created>
  <dc:creator>Customer</dc:creator>
  <dc:description/>
  <dc:language>en-US</dc:language>
  <cp:lastModifiedBy>Customer</cp:lastModifiedBy>
  <dcterms:modified xsi:type="dcterms:W3CDTF">2010-02-14T10:41:13Z</dcterms:modified>
  <cp:revision>21</cp:revision>
  <dc:subject/>
  <dc:title>Слайд 1</dc:title>
</cp:coreProperties>
</file>