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13F5-B044-4531-9DAF-ECCB11C8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04BF-645B-4C54-9F0B-96165BEC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B1CD1-4655-409A-AF27-61C8FD47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78539-1D00-42D2-B26B-C82DD888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6E38B-0011-4177-B7CA-4DE09761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2090D-53BD-4DDD-A0D9-45934473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B472D-8FCF-4425-8382-8115CE5A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5C55B-D8D9-4396-A37B-92263F26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AB631-F7A1-471E-A669-FBC4537E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2D7D7-C67B-4AEA-BC1F-F0FF86A9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7BA0A-7068-4DA8-B748-CEB42D65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FB65-6DDD-4C24-9A6B-94A025ED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4092-9C69-4110-9A4D-7616DCDB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C1AC-F818-44E4-B237-021E7482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F761-800F-43D9-97F7-B61A42C1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19A4-6072-4424-A5B7-16AF36A3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3BBE-54D7-4CAE-889A-0C2B6159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0F11-5A78-40E5-ABAD-C715F37C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973E-5B3F-435D-8F2F-A4E5AEB3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A72F-152C-462F-8DB2-107DF610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770E-DD35-4626-9C33-3BECA802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A82E-2318-4DE6-AEED-E7A3FC5E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04CB-E76E-4650-A67D-4D04CE2F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0417-82E4-42E8-99D0-499C2843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7DE4-B6D1-4CBF-8492-573E074A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832A-1E0E-466E-9073-BBEAA8E5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AFE7E-8CCF-4C7E-90C1-A3EE6130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0ECAF-3004-4D59-BA85-AF5AFF7D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E16B9-F3F8-41BA-A539-55A5688B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6CE0A-E601-44ED-B59A-FD38E305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500DE-BD68-440A-BD35-12AF1711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1C69-C9E9-4A6B-87EE-C625B2CB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3ACD7-62EF-4F9F-962E-D6D34265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1687D-8CF1-4F12-BB37-66E319FB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768C4-0DE3-480E-98DA-52EC6D17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53F3B-284D-4CC0-A50A-BD8A227C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DBF5D-92EF-46D5-9422-79D0DFBB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E005B-63C2-4894-ADC0-9ECA77FF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2FDC3-6B01-41B0-A5B0-EFC9E9A9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9C5F1-5B6F-4E96-AACE-A81423FF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B5C76-54D4-4D04-A112-164AC30E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E9FB0-942A-409D-9226-F95CAE72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1ACA-6389-4204-8004-65B5005D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53D5B-A393-4765-84EB-47B3B798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9AD9A-5594-470F-8393-AAD44689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D6606-5F06-4E9C-9AC1-2FC4D27B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4D461-EC5F-4459-B719-780329A2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01484-DBAA-4AD4-ADD1-78C88B98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57761-FCB9-48D9-906F-E4387865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86249-9F93-47CE-8F1B-A97BE8E5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65FBE-D4D5-415F-9076-285A3AC9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1A815-B49A-4C6B-86EA-ACAF4C7B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DC077-C549-4235-BC60-BD865E36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17B4-60EF-47AD-8BD3-1A2CD44E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66FB7-4B05-4CC5-83DD-45E44CE7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44A35-5908-4A31-B24B-77AE91DA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FB460-072E-4AF8-A96C-840FA745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1079F-FDD2-4D16-A839-00306A4A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32C81-CA35-43DD-AF09-98F5406E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55075-BD31-4B50-AE94-29945B2C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97D0E-90E9-4331-A77B-D64A4E04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3E008-15E6-4A41-BF81-58AAA16E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CDF85-1F97-4732-825A-DE8DC3EF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04891-7D8E-4294-8BCA-B3CA614B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FD94-C53E-4FA8-87A1-38DBA907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E13D6-468F-4801-9759-54270A0A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F62F4-0B84-481F-8981-BC3689BF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CF724-EB97-4C6E-985C-35523C52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ACAA1-48C4-45E9-99F8-C5A8D0C7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4887F-CA95-470D-9F56-C17A54E5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F9073-FA39-4488-B301-3144E18E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342DB-336B-41B0-A29D-78252F73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CE5D6-0C1F-4ABE-8602-7C5D0DF0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9B526-AEA7-4494-BA58-F668530F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35E5C-42CB-451F-887F-D23A8B71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80E8-5EE7-44D2-99E4-366FB2A9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86237-F1F3-4F17-8737-82965371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9EE28-CA68-42B8-98B1-8447E4C6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F48E4-C7FA-490D-B681-A26D72ED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E8786-B855-4275-8D9C-5B6AFCF4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E48A1-6B06-495C-B17A-765F401D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76B39-BFDF-464E-BDF3-D2B3C5C9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46FE4-D960-4BD5-B270-729D3F5E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575A1-73B9-47E9-A831-84BD4768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BE411-734A-4D24-B08D-1512CB3D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FCE40-2CB3-4B43-92DB-04C25A5A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5941-ED01-4E92-A735-D81C804A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ACE7C-C73A-483F-8629-0CFD8A4E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708B8-3AA4-425F-AE4E-668BC9DF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62ED7-DACE-4975-89FF-3D2853BD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EC27A-F5E8-4F84-927F-784A6C990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77FBB-5836-4866-9347-1D187272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BEDF5-8EC1-4D5B-894C-ECE55DDB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BAC1A-1977-4CC7-BF33-85932FCF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32E68-92C4-439B-9AC4-E3FCF086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3847A-C668-4546-8269-352025AD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C8383-34F4-4003-9BB1-A8743318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F77-2FD4-49E1-B537-54F86D29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9C7BC-2D33-4442-B5CB-9D6DCCD4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04A6E-D60C-4F38-86B8-6FF36902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B5689-E89D-426A-B9FA-F44E3FAE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A919B-EC2A-44EB-A73A-F3D2B9B2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0D030-ECA3-4979-8C38-067B46C6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6DFA6-0637-47FC-93C7-698FE227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5E318-256C-4B06-9046-FAD0319C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9ADDC-D198-4159-AB3F-63C8B5FF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6B43F-7448-443B-B486-2557041A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FBD44-9E9D-41A4-9775-0A14C9D4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CC9E-F1C7-4D32-B6B4-4A2DF8CB3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B234-909D-4F6F-AA87-E0CFB20BF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E41C-DD47-47A2-B3F1-00D03799D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FD9B-A895-493B-8F7C-2AE3A14BD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FEA7-9E78-4E62-BA05-7AF3F9D13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98A6-53F1-45C9-B4A3-91F1CB0A8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7BD7-300E-42B7-8292-4094B2C0F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4991-DE61-460B-B771-F392B53C4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7063-0293-4E37-B485-B56CCFA80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040" y="691920"/>
            <a:ext cx="79786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инные инновации в области педагогики – чрезвычайно редкое явление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правило, это – рассмотрение на новом витке педагогических, социальных, культурных достижений, давно забытых старых педагогических истин, использовавшихся ранее, в других условиях, в иной интерпретации методов и приемов обучения. Именно осмысление и применение их в новой учебной, культурно-социальной ситуации и дает основание говорить 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овы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дагогических технологиях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.С. Полат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826560" y="404280"/>
            <a:ext cx="7859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Обязательно подводить итоги игры,  выявлять победит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Не проводить игру ради самой игры. Появление игры на уроке должно быть целесообраз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 Новую игру лучше начинать учителю, а когда ученики усвоят правила, передать роль ведущего одному из н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914040" y="404640"/>
            <a:ext cx="797868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Учитель должен быть либо заинтересованным организатором игры, либо ее участник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Игра должна проводиться на иностранном языке, поэтому до начала игры необходимо ввести нужную лекси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Не раздавать игровой материал пока ученики не поняли правила иг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7905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а и та же игра может выступать в нескольких функциях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 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бучающая функ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развитие общеучебных умений и навыков, таких, как память, внимание, восприятие информации различной модальности, развитие навыков владения иностранным язык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 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оммуникативная функ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объединение в коллектив, установление эмоциональных контак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 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елаксационная функ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снятие эмоционального напряжения, вызванного нагрузкой на нервную систему при интенсивном обучен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 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звивающая функ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гармоничное развитие личностных качеств для активизации резервных возможно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826560" y="476280"/>
            <a:ext cx="78598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гровое моделирование на занятиях по иностранному языку способствует установлению психологического контакта, гармоничному развитию межличностных взаимоотношений, творческой инициативе, развивая при этом гибкость восприятия материала, позитивный настрой, воображение, умение слушать собеседни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4526280" cy="31654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rcRect l="0" t="4775" r="0" b="0"/>
          <a:stretch/>
        </p:blipFill>
        <p:spPr>
          <a:xfrm>
            <a:off x="4067280" y="3543480"/>
            <a:ext cx="480204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900000" y="260280"/>
            <a:ext cx="3695760" cy="58658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4832280" y="260280"/>
            <a:ext cx="37911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755640" y="981000"/>
            <a:ext cx="4152960" cy="51832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5099040" y="620640"/>
            <a:ext cx="3863880" cy="58784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755640" y="692280"/>
            <a:ext cx="41385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                        B                    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11280" y="692280"/>
            <a:ext cx="144360" cy="54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нение этих технологий позволяет видеть в каждом ребенке личность, учитывать его интересы, жизненный опыт, индивидуальные особенности; создавать благоприятный психологический климат на уроке, повышать мотивацию к изучению английского языка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ьзование этих технологий положительно сказывается на росте качества знаний и успеваемости моих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ников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785988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 проектов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гровые технологии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971280" y="836280"/>
            <a:ext cx="771516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 знаю, для чего мне надо все, что я познаю. Я знаю, где и как я могу это применить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вот основной тезис современного метода проек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од проектов - это совокупность учебно-познавательных приемов, которые позволяют решить ту или иную проблему в результате самостоятельных действий учащихся с обязательной презентацией этих результат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ектная технология включает в себя совокупность исследовательских, поисковых, проблемных методов, творческих по самой своей су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826560" y="404280"/>
            <a:ext cx="7859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ы, предназначенные для обучения языку, обладают как общими для всех проектов чертами, так и отличительными особенностями, среди которых главными являются следующи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языка в ситуациях, максимально приближенных к условиям реального обще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цент на самостоятельной работе учащихся (индивидуальной и групповой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ор темы, представляющей большой интерес для учащихся и непосредственно связанной с условиями, в которых выполняется проект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бор языкового материала, видов заданий и последовательности работы в соответствии с темой и целью проект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глядное представление результа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900000" y="260280"/>
            <a:ext cx="7786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ериод выполнения проектов у школьников развиваются следующие умения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щеучеб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 с учебником, со словарем, справочной литературой, составление плана доклада, сообщения, выступления по теме и т. д.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ециаль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умение сокращать текст и передавать его в устной форме, осуществлять тематический подбор лексики, пользоваться двуязычным словарем, делать краткие записи по проблеме, составлять сообщения и др.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бственн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муникативны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ения по видам речевой деятельности, включающие речевое и неречевое повед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900000" y="188640"/>
            <a:ext cx="7786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етод проект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ивает интеллект ученика, его умение планировать и отслеживать последовательность выполняемых действий, усваивать знания и применять их в практической деятельно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ивает творческие способности и самостоятельность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 ориентирован на самостоятельную деятельность учащихся, которая предполагает владение определенными умениями: анализа, синтеза, мысленного экспериментирования, прогнозирования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 работе над проектом в центре внимания находится мысль, а язык выступает в своей прямой функции – формирования и формулирования этих мыслей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 в большей степени, по сравнению со стандартными методами обучения, знакомит школьников со страноведческой тематикой, включает учащихся в активный диалог культур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зволяет обучить детей умению получать знания через свою деятельнос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971280" y="404280"/>
            <a:ext cx="77151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Играть или не играть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900000" y="691920"/>
            <a:ext cx="77868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08000" y="1268280"/>
            <a:ext cx="525636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ая мотив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900000" y="2781360"/>
            <a:ext cx="2448000" cy="93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муникатив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51280" y="2708280"/>
            <a:ext cx="208908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знаватель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300720" y="2781360"/>
            <a:ext cx="2158920" cy="93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стетическ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635280" y="4437000"/>
            <a:ext cx="2592360" cy="86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гров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556000" y="206064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206064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56360" y="2060640"/>
            <a:ext cx="136692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708360" y="2133720"/>
            <a:ext cx="0" cy="23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826560" y="404280"/>
            <a:ext cx="7859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ИЛА ИСПОЛЬЗОВАНИЯ ИГР НА УРОКА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начальном этапе лучше использовать игры с правилами, а не ролев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ила игры должны быть простыми, лучше, если они известны по играм на родном язы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Нельзя подменять игру игровым заданием, которое все должны выполнить одинаково, ведь результат игры всегда непредсказу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2:33:19Z</dcterms:created>
  <dc:creator>Customer</dc:creator>
  <dc:description/>
  <dc:language>en-US</dc:language>
  <cp:lastModifiedBy>Customer</cp:lastModifiedBy>
  <dcterms:modified xsi:type="dcterms:W3CDTF">2010-02-14T10:41:13Z</dcterms:modified>
  <cp:revision>21</cp:revision>
  <dc:subject/>
  <dc:title>Слайд 1</dc:title>
</cp:coreProperties>
</file>