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C83-1AC6-4093-A877-A20F4BB7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40C-7659-4D45-9F29-95C9C780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F80-3B6C-4241-98DC-85F626FC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2E9-8782-48D5-B8EA-DEC75898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1278-D524-4867-9E30-F3FDB762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729C-8E1A-40B3-AD7E-637C800E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EFD1-855D-44C0-9052-197A2BBA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F65C-F8CF-4CD5-AAB9-BA5D43B4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A12C-EF31-4464-9324-F4DF074B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107E-56F2-4996-9B83-6F2A8240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22E3-4955-4E7C-BDAC-D26A6F4D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F1E-BB5D-472D-A1AA-1F986A35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CD34-D656-407D-AC36-60F993AC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F07B-BFB9-43C4-A105-47C3EE5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2995-2D9D-4C28-A6AE-8607BF97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9237-1A81-4F53-832C-D0FF0341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AE0F-FC2A-40D4-B18F-086D621D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DF09-DAF8-4590-BF6E-959453D9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FFA9-AEE7-41C2-A234-484C4140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4601-7C8B-41EB-80D8-F9293CC5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01DD-8351-4842-A471-7096DEC5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74E1-7E6F-414A-A81E-9898E73E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694-2C4E-4DBE-A070-9F152F58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134D-C925-4E19-BA8C-E860DFC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3EC9-9E4B-40DA-8686-23A5C1EA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227C-D7CF-4486-8657-E252DC59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123F-86A9-4005-B0CF-8E8BAA3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1EF9-12E8-4785-9815-83B7A93B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E3938-A310-44B3-9069-3EFA8608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1B77-D1B4-467A-9498-3221AE06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3AA5-15F7-4681-B243-624A62A5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AF4D-3A9C-4217-9740-FE73F4B4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89EA-B15C-48D8-AE18-F4798048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0C2-BF25-47CF-9CC4-BDE18D5F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D47C-4AE8-4887-B4D6-3D27E615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15CE-1EBE-45E0-87AD-8F471461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6C30-CD23-4DD3-834C-2B200DB4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A7133-FC06-4C41-BDF4-CA8C2AB5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020F-DD67-425B-851F-09DF4C03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893D2-D3CC-463B-B3D7-3EF5F191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83EF0-7ADE-4115-9A72-19F06BAB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551C-F373-4213-A72D-C45A921C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A9D7-9E33-4926-A106-BF7C50D7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8B199-5C06-476E-8BBA-2BA28FB7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B38-2A52-4A01-B2C0-FB545A91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EF612-7566-4616-8169-1F1C8588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6AA0-35A4-4E91-BC84-1A492E10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0D42-1F6B-414C-837C-F5FFF52D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26CC-DD73-495A-ADFA-7BA991B1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95E77-8BDC-4501-8523-3CCE3357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B0731-8323-4113-A7E0-7B6FF037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486D2-5A1E-4F90-BB75-8D3FACF9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6200B-2BE3-4E95-B2D5-E6EF609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066B5-4B80-45BB-97E9-AD3FA8B3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0ED1A-631C-4D65-8C6A-4CCB7108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631-CE69-4180-A3A9-9F7D227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474EA-2C1E-4E90-A197-747BE390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2A5-D202-4F38-95FB-3F55ED08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4F7-3B8F-4AEB-8E33-B6E14705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C4D-E60A-4F73-8C41-32A908D0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a2c24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320C-1B43-4C24-9330-BE59A237D352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a2c24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5231-8745-4D6F-A1D1-FF9D94FDC47F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a2c24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529-18F2-4775-8B56-85471F819AC6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3AFB-3CF2-4D1A-8EF3-051BB3C192D2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4B3C-05A2-4B90-BB27-68D2C21D4D76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3-tub-ru.yandex.net/i?id=392382007-03-72&amp;n=21" TargetMode="External"/><Relationship Id="rId2" Type="http://schemas.openxmlformats.org/officeDocument/2006/relationships/hyperlink" Target="http://im4-tub-ru.yandex.net/i?id=304135127-63-72&amp;n=21" TargetMode="External"/><Relationship Id="rId3" Type="http://schemas.openxmlformats.org/officeDocument/2006/relationships/hyperlink" Target="http://im0-tub-ru.yandex.net/i?id=41492253-18-72&amp;n=21" TargetMode="External"/><Relationship Id="rId4" Type="http://schemas.openxmlformats.org/officeDocument/2006/relationships/hyperlink" Target="http://im5-tub-ru.yandex.net/i?id=105536080-56-72&amp;n=21" TargetMode="External"/><Relationship Id="rId5" Type="http://schemas.openxmlformats.org/officeDocument/2006/relationships/hyperlink" Target="http://im6-tub-ru.yandex.net/i?id=82226555-26-72&amp;n=21" TargetMode="External"/><Relationship Id="rId6" Type="http://schemas.openxmlformats.org/officeDocument/2006/relationships/hyperlink" Target="http://im6-tub-ru.yandex.net/i?id=82226555-26-72&amp;n=21" TargetMode="External"/><Relationship Id="rId7" Type="http://schemas.openxmlformats.org/officeDocument/2006/relationships/hyperlink" Target="http://im3-tub-ru.yandex.net/i?id=161848951-65-72&amp;n=21" TargetMode="External"/><Relationship Id="rId8" Type="http://schemas.openxmlformats.org/officeDocument/2006/relationships/hyperlink" Target="http://im6-tub-ru.yandex.net/i?id=328266542-32-72&amp;n=21" TargetMode="External"/><Relationship Id="rId9" Type="http://schemas.openxmlformats.org/officeDocument/2006/relationships/hyperlink" Target="http://im6-tub-ru.yandex.net/i?id=375413837-63-72&amp;n=21" TargetMode="External"/><Relationship Id="rId10" Type="http://schemas.openxmlformats.org/officeDocument/2006/relationships/hyperlink" Target="http://im2-tub-ru.yandex.net/i?id=343930022-57-72&amp;n=21" TargetMode="External"/><Relationship Id="rId11" Type="http://schemas.openxmlformats.org/officeDocument/2006/relationships/hyperlink" Target="http://im2-tub-ru.yandex.net/i?id=186465199-27-72&amp;n=21" TargetMode="External"/><Relationship Id="rId12" Type="http://schemas.openxmlformats.org/officeDocument/2006/relationships/hyperlink" Target="http://im6-tub-ru.yandex.net/i?id=116079786-17-72&amp;n=21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ПРОЕКТ </a:t>
            </a: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«Моя безопасность </a:t>
            </a: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в условиях автономного существования </a:t>
            </a: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в природной среде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41e1e"/>
                </a:solidFill>
                <a:latin typeface="Arial Black"/>
              </a:rPr>
              <a:t>Природные</a:t>
            </a:r>
            <a:endParaRPr b="0" lang="en-US" sz="4000" spc="-1" strike="noStrike">
              <a:solidFill>
                <a:srgbClr val="3a2c24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41e1e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a41e1e"/>
                </a:solidFill>
                <a:latin typeface="Arial Black"/>
              </a:rPr>
              <a:t>лекарственные </a:t>
            </a:r>
            <a:endParaRPr b="0" lang="en-US" sz="4000" spc="-1" strike="noStrike">
              <a:solidFill>
                <a:srgbClr val="3a2c24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41e1e"/>
                </a:solidFill>
                <a:latin typeface="Arial Black"/>
              </a:rPr>
              <a:t>средства</a:t>
            </a:r>
            <a:endParaRPr b="0" lang="en-US" sz="4000" spc="-1" strike="noStrike">
              <a:solidFill>
                <a:srgbClr val="3a2c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Зверобой продырявлен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11430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Это средство о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«девяносто девяти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болезней». Настой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травы применяется как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ее и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о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редство. 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и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микроб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ранозаживляющ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124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Чистотел большой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(все части растения ядовиты!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2057040"/>
            <a:ext cx="4572000" cy="2895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звестен своим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септическим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войствами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ется для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лечений кожных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заболеваний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863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Пижма обыкновенн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447920"/>
            <a:ext cx="4495680" cy="3962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цветочны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орзинки. 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жаропонижаю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микроб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глист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спазмолити-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ческ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езболивающ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352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Одуванчик лекарствен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949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листья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цветки и корни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Улучшает обмен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еществ, возбуждает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ппетит, улучш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ищеварение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желчегон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лабительны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, содержи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итамин С и витамины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группы В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59" name="Picture 4" descr="res1F5F454A-081B-4379-A5D3-2D3D3F25C406"/>
          <p:cNvPicPr/>
          <p:nvPr/>
        </p:nvPicPr>
        <p:blipFill>
          <a:blip r:embed="rId1"/>
          <a:stretch/>
        </p:blipFill>
        <p:spPr>
          <a:xfrm>
            <a:off x="4876920" y="1523880"/>
            <a:ext cx="34797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Полынь горьк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371240"/>
            <a:ext cx="4390920" cy="426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цветущие верхушки вместе с цветками. Обладает желчегонным,  усиливающим аппетит, ранозаживляющим, противосудорожным и лёгким снотворным  действием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4383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66440" y="614160"/>
            <a:ext cx="7611120" cy="10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Ромашка пахучая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523880"/>
            <a:ext cx="4724280" cy="426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именять можно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только наружно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в вид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настоя для  примочек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олосканий как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о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 дезинфицирующе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редство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46896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66440" y="614160"/>
            <a:ext cx="7611120" cy="10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Ромашка лекарственная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752480"/>
            <a:ext cx="4952880" cy="426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цветочны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орзинки. 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микроб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ы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пазмолитически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аллергическ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отогонным 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2306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Календула (ноготки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0520" y="1294920"/>
            <a:ext cx="4953240" cy="441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цветки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ы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ранозаживляю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нижающ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ровяное давлени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. Име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тхаркивающие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отогонные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желчегонные свойства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365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1a6"/>
                </a:solidFill>
                <a:latin typeface="Verdana"/>
              </a:rPr>
              <a:t>Кипрей узколистный (иван-ча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37124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Лекарственным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войствами 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сё растение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как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ее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ровоостанавливающее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успокаивающее 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лёгкое слабительно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редство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565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8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Ссылки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761760"/>
            <a:ext cx="8382240" cy="5483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1"/>
              </a:rPr>
              <a:t>http://im3-tub-ru.yandex.net/i?id=392382007-03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 мох сфагнум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2"/>
              </a:rPr>
              <a:t>http://im4-tub-ru.yandex.net/i?id=304135127-63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тысячелистник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3"/>
              </a:rPr>
              <a:t>http://im0-tub-ru.yandex.net/i?id=41492253-18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подорожник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4"/>
              </a:rPr>
              <a:t>http://im5-tub-ru.yandex.net/i?id=105536080-56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крапива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5"/>
              </a:rPr>
              <a:t>http://im6-tub-ru.yandex.net/i?id=82226555-26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кровохлёбка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6"/>
              </a:rPr>
              <a:t>http://im6-tub-ru.yandex.net/i?id=82226555-26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цветок кровохлёбки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7"/>
              </a:rPr>
              <a:t>http://im3-tub-ru.yandex.net/i?id=161848951-65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лопух лист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8"/>
              </a:rPr>
              <a:t>http://im6-tub-ru.yandex.net/i?id=328266542-32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лопух цветок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9"/>
              </a:rPr>
              <a:t>http://im6-tub-ru.yandex.net/i?id=375413837-63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шалфей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10"/>
              </a:rPr>
              <a:t>http://im2-tub-ru.yandex.net/i?id=343930022-5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цветок шалфея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11"/>
              </a:rPr>
              <a:t>http://im2-tub-ru.yandex.net/i?id=186465199-2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зверобой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12"/>
              </a:rPr>
              <a:t>http://im6-tub-ru.yandex.net/i?id=116079786-1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чистотел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3-tub-ru.yandex.net/i?id=18857487-29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пижма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3-tub-ru.yandex.net/i?id=226238294-38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одуванчик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3-tub-ru.yandex.net/i?id=45850093-4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полынь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6-tub-ru.yandex.net/i?id=354196328-21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ромашка пахучая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4-tub-ru.yandex.net/i?id=11934892-2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ромашка лекарственная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5-tub-ru.yandex.net/i?id=143515879-04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ноготки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6-tub-ru.yandex.net/i?id=57888158-13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иван-чай.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2c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8080" y="533160"/>
            <a:ext cx="7693200" cy="5172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2c24"/>
                </a:solidFill>
                <a:latin typeface="Verdana"/>
              </a:rPr>
              <a:t>Есть в травах и цветах целительная сила</a:t>
            </a:r>
            <a:endParaRPr b="0" lang="en-US" sz="3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2c24"/>
                </a:solidFill>
                <a:latin typeface="Verdana"/>
              </a:rPr>
              <a:t>Для всех, умеющих их тайну разгадать…</a:t>
            </a:r>
            <a:endParaRPr b="0" lang="en-US" sz="36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911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Сфагнум, торфяной мох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520" y="99072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фагновые мх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ладаю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сасывающей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пособностью и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хорош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гнилост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септическ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войством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оэтому растени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именяю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ак перевязочный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материал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и гнойных ранах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05432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e95"/>
                </a:solidFill>
                <a:latin typeface="Verdana"/>
              </a:rPr>
              <a:t>Тысячелистник обыкновен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0880" y="6858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 древнейших времён используется как кровоостанавливающее средство. Свежий сок растения хорошо заживляет раны. Помогает при заболеваниях мочевого пузыря и сердца. Входит в состав целебных чаёв, повышающих аппетит, имеющих желчегонное и слабительное действие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454560" cy="3581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12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Кровохлебка лекарственн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533376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2c24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При местном применени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обладает вяжущим,  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кровоостанавливаю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бактерицидны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(противовоспалительным)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и ранозаживляющ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1a6"/>
                </a:solidFill>
                <a:latin typeface="Verdana"/>
              </a:rPr>
              <a:t>Подорожник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121896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Для лечения использую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листья, соцветия и семена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Свежие</a:t>
            </a:r>
            <a:r>
              <a:rPr b="1" i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листья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употребляются наружно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как ранозаживляюще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средство при ссадинах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язвах, свищах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нарывах, ушибах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потертостях. Семена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обладают обволакивающим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действием (если боли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желудок)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3526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Крапива двудомн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160" y="106632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листья и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орневище с корнями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епараты крапивы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ся как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ровоостанавливающие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ранозаживляющие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щеукрепляющие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итаминизирующи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редства. Крапива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усиливает обмен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еществ, улучш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остав крови, укрепляет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хрящи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01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Лопух большой (репейник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85800" y="1011600"/>
            <a:ext cx="4267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Соком молодых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листьев лопуха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смазывают порезы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и потертости,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отваренные листья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прикладывают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к гнойным ранам.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Обладает антибактериальным, противовоспалительным, укрепляющим действием.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886200" cy="403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4114800" y="1219320"/>
            <a:ext cx="2038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Шалфей лекарствен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листья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растения. Шалфейный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чай применяют пр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пазмах желудочно-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ишечного тракта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оспалении слизистой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олочки желудка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ы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микробны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2971800" cy="4413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1790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risa</cp:lastModifiedBy>
  <dcterms:modified xsi:type="dcterms:W3CDTF">2013-03-03T10:40:25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