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E2E7-9F01-413E-920F-128F7C13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A52E-BD3C-4EF5-A0C0-E1CB8B55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A8C8-B1E3-48A6-8708-C8A740D4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AE8-91A2-4AD5-99DD-1F561CA1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51B5-A388-44CE-AEF2-C8D97D88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C2BF-51BE-40EC-896B-4553BA58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7B64-406C-4A11-924C-A62E493C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65F9-DE13-486D-B92D-44ABE61A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C314-0BA9-43F0-970A-E0712D06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408C-5F2E-4396-A35A-E434C584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9E28-5B9E-4F72-9AF5-71430B4F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D59-B8B8-42E4-BF01-B84575F6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BA80-627A-4FA8-BFEB-0E63326C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ACD4-4438-4F33-BB52-DB6CA6AE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A1CB-A2FC-4409-91CA-0025A972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3795-F80D-481B-9EAA-DC97761D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52BC-7F8A-4168-8B39-8E5C8AF9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DB8B6-C82C-40FB-9470-B0449E6C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2775B-AD6B-4869-93A1-C8CC81AC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3132F-00A1-492B-8805-D62A7AFC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BA713-ABBB-4BA7-A050-F1FF3694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1343E-FA39-4A9B-8282-A91423B1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A56-59F4-4258-A709-2D509CFF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678EA-6723-4E03-AEFC-1BB5C5A2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67765-46B1-4A45-9DC3-20219D28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B4FF3-52E9-4BD8-8355-6F6E6131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32B36-26F6-47ED-8588-0693CBDF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5BF7F-E8E4-4EFA-9813-2E345C51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9A7A9-373B-4AA2-8FCE-A7771808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477FA-1962-4F43-8D9C-44A87CAE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A09C1-8C23-4C45-9784-5F1439E7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91400-03DC-45F7-89AB-02B1DFAA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52E28-0C8A-4F35-AE38-0D9A1B22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BF8A-84D8-4D12-BD19-2C193903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AEF82-3130-4DDC-BB78-F6D1C083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B6D28-E6F0-4FD9-A098-9C92A19F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A6E5D-52D5-4DE8-94F1-1ECFED0D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B3BEE-26F9-4CCA-9A77-925E3885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C627F-EDAE-49FD-B7E6-65F77E2F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8AF4F-8808-49B3-9B27-FD16416F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25AD4-39C3-4CB2-95F1-F80FBC30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F7AC3-02D6-4E02-8FBE-F6CA9F9B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262C6-0CB3-4974-A89D-B8737639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FEE94-B65C-4C43-B519-1C00BCF9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BA2-EE5B-4AF1-B3CB-AE288E76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C6CF1-6E88-44F3-8B96-A69F03E4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99725-3A5D-4937-85E5-8C9934C3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8F48D-0874-445C-B426-50B9C262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B5F34-288C-46D2-85E9-AF0860D8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DA77F-D680-498D-A295-C7FB7464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D9302-18BF-4ADD-BF29-B50BC86E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338A7-B586-485A-B80E-82D647D6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92C98-1305-4395-A5E6-C40C6DB7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90A6E-4C9A-4D46-91AD-26BD0C6E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414BB-57BE-4DA4-85A6-0C36EAAD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506-EDE8-4439-899D-F6CD244B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34D7E-0F18-48F3-B494-D2F19342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5535-E667-4C8F-8FB0-7AFD352F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E23B-20C0-419D-B091-C2B2CC9C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ADB-A9D9-41A0-8D31-0010FDA0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97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a2c24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e7a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e7a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3a2c2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3a2c2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d6e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F84F-69ED-4257-A1D7-B9C9B2518693}" type="slidenum">
              <a:rPr b="0" lang="ru-RU" sz="1000" spc="-1" strike="noStrike">
                <a:solidFill>
                  <a:srgbClr val="ad6e6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97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a2c24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e7a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e7a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3a2c2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3a2c2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d6e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BB83-CBA1-4C5A-8DEC-74C05D0C62AE}" type="slidenum">
              <a:rPr b="0" lang="ru-RU" sz="1000" spc="-1" strike="noStrike">
                <a:solidFill>
                  <a:srgbClr val="ad6e6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97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a2c24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e7a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e7a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3a2c2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3a2c2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d6e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F8E8-EFF0-4832-9203-A272DF141E1D}" type="slidenum">
              <a:rPr b="0" lang="ru-RU" sz="1000" spc="-1" strike="noStrike">
                <a:solidFill>
                  <a:srgbClr val="ad6e6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97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e7a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e7a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3a2c2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3a2c2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d6e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D8E6-9F5D-464F-A252-3232A183C1BB}" type="slidenum">
              <a:rPr b="0" lang="ru-RU" sz="1000" spc="-1" strike="noStrike">
                <a:solidFill>
                  <a:srgbClr val="ad6e6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97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e7a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e7a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3a2c2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3a2c2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2c24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a2c2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2c24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d6e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1866-1751-47C2-B6AC-A0B56A15C4B5}" type="slidenum">
              <a:rPr b="0" lang="ru-RU" sz="1000" spc="-1" strike="noStrike">
                <a:solidFill>
                  <a:srgbClr val="ad6e6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3-tub-ru.yandex.net/i?id=392382007-03-72&amp;n=21" TargetMode="External"/><Relationship Id="rId2" Type="http://schemas.openxmlformats.org/officeDocument/2006/relationships/hyperlink" Target="http://im4-tub-ru.yandex.net/i?id=304135127-63-72&amp;n=21" TargetMode="External"/><Relationship Id="rId3" Type="http://schemas.openxmlformats.org/officeDocument/2006/relationships/hyperlink" Target="http://im0-tub-ru.yandex.net/i?id=41492253-18-72&amp;n=21" TargetMode="External"/><Relationship Id="rId4" Type="http://schemas.openxmlformats.org/officeDocument/2006/relationships/hyperlink" Target="http://im5-tub-ru.yandex.net/i?id=105536080-56-72&amp;n=21" TargetMode="External"/><Relationship Id="rId5" Type="http://schemas.openxmlformats.org/officeDocument/2006/relationships/hyperlink" Target="http://im6-tub-ru.yandex.net/i?id=82226555-26-72&amp;n=21" TargetMode="External"/><Relationship Id="rId6" Type="http://schemas.openxmlformats.org/officeDocument/2006/relationships/hyperlink" Target="http://im6-tub-ru.yandex.net/i?id=82226555-26-72&amp;n=21" TargetMode="External"/><Relationship Id="rId7" Type="http://schemas.openxmlformats.org/officeDocument/2006/relationships/hyperlink" Target="http://im3-tub-ru.yandex.net/i?id=161848951-65-72&amp;n=21" TargetMode="External"/><Relationship Id="rId8" Type="http://schemas.openxmlformats.org/officeDocument/2006/relationships/hyperlink" Target="http://im6-tub-ru.yandex.net/i?id=328266542-32-72&amp;n=21" TargetMode="External"/><Relationship Id="rId9" Type="http://schemas.openxmlformats.org/officeDocument/2006/relationships/hyperlink" Target="http://im6-tub-ru.yandex.net/i?id=375413837-63-72&amp;n=21" TargetMode="External"/><Relationship Id="rId10" Type="http://schemas.openxmlformats.org/officeDocument/2006/relationships/hyperlink" Target="http://im2-tub-ru.yandex.net/i?id=343930022-57-72&amp;n=21" TargetMode="External"/><Relationship Id="rId11" Type="http://schemas.openxmlformats.org/officeDocument/2006/relationships/hyperlink" Target="http://im2-tub-ru.yandex.net/i?id=186465199-27-72&amp;n=21" TargetMode="External"/><Relationship Id="rId12" Type="http://schemas.openxmlformats.org/officeDocument/2006/relationships/hyperlink" Target="http://im6-tub-ru.yandex.net/i?id=116079786-17-72&amp;n=21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311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ПРОЕКТ </a:t>
            </a:r>
            <a:br>
              <a:rPr sz="3600"/>
            </a:b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«Моя безопасность </a:t>
            </a:r>
            <a:br>
              <a:rPr sz="3600"/>
            </a:b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в условиях автономного существования </a:t>
            </a:r>
            <a:br>
              <a:rPr sz="3600"/>
            </a:b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в природной среде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4267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41e1e"/>
                </a:solidFill>
                <a:latin typeface="Arial Black"/>
              </a:rPr>
              <a:t>Природные</a:t>
            </a:r>
            <a:endParaRPr b="0" lang="en-US" sz="4000" spc="-1" strike="noStrike">
              <a:solidFill>
                <a:srgbClr val="3a2c24"/>
              </a:solidFill>
              <a:latin typeface="Verdana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41e1e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a41e1e"/>
                </a:solidFill>
                <a:latin typeface="Arial Black"/>
              </a:rPr>
              <a:t>лекарственные </a:t>
            </a:r>
            <a:endParaRPr b="0" lang="en-US" sz="4000" spc="-1" strike="noStrike">
              <a:solidFill>
                <a:srgbClr val="3a2c24"/>
              </a:solidFill>
              <a:latin typeface="Verdana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41e1e"/>
                </a:solidFill>
                <a:latin typeface="Arial Black"/>
              </a:rPr>
              <a:t>средства</a:t>
            </a:r>
            <a:endParaRPr b="0" lang="en-US" sz="4000" spc="-1" strike="noStrike">
              <a:solidFill>
                <a:srgbClr val="3a2c24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Зверобой продырявленн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11430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Это средство о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«девяносто девяти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болезней». Настой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травы применяется как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вяжущее и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отивовоспалительное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редство. Обладае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вяжущим,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антимикробны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ранозаживляющим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действием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3124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Чистотел большой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(все части растения ядовиты!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2057040"/>
            <a:ext cx="4572000" cy="2895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звестен своими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антисептическими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войствами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спользуется для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лечений кожных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заболеваний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3863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Пижма обыкновенна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447920"/>
            <a:ext cx="4495680" cy="3962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спользуют цветочные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корзинки. Обладае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жаропонижающи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отивомикробны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отивоглистны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отивоспазмолити-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чески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обезболивающим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действием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56" name="Picture 5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352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Одуванчик лекарственн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29492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спользуют листья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цветки и корни.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Улучшает обмен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веществ, возбуждает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аппетит, улучшае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ищеварение.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Обладае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желчегонны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лабительным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действием, содержи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витамин С и витамины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группы В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59" name="Picture 4" descr="res1F5F454A-081B-4379-A5D3-2D3D3F25C406"/>
          <p:cNvPicPr/>
          <p:nvPr/>
        </p:nvPicPr>
        <p:blipFill>
          <a:blip r:embed="rId1"/>
          <a:stretch/>
        </p:blipFill>
        <p:spPr>
          <a:xfrm>
            <a:off x="4876920" y="1523880"/>
            <a:ext cx="347976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Полынь горька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371240"/>
            <a:ext cx="4390920" cy="4267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спользуют цветущие верхушки вместе с цветками. Обладает желчегонным,  усиливающим аппетит, ранозаживляющим, противосудорожным и лёгким снотворным  действием.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43836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766440" y="614160"/>
            <a:ext cx="7611120" cy="10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Ромашка пахучая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523880"/>
            <a:ext cx="4724280" cy="426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именять можно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только наружно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спользуют в виде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настоя для  примочек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олосканий как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отивовоспалительное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 дезинфицирующее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редство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46896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66440" y="614160"/>
            <a:ext cx="7611120" cy="10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Ромашка лекарственная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752480"/>
            <a:ext cx="4952880" cy="426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спользуют цветочные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корзинки. Обладае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антимикробны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вяжущи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отивовоспалительным,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пазмолитическим,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антиаллергически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отогонным действием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2306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Календула (ноготки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0520" y="1294920"/>
            <a:ext cx="4953240" cy="4419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спользуют цветки.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Обладае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отивовоспалительным,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вяжущи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ранозаживляющи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нижающим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кровяное давление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действием. Имее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отхаркивающие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отогонные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желчегонные свойства.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3656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1a6"/>
                </a:solidFill>
                <a:latin typeface="Verdana"/>
              </a:rPr>
              <a:t>Кипрей узколистный (иван-чай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37124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Лекарственными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войствами обладае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всё растение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спользуют как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вяжущее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кровоостанавливающее,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успокаивающее и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лёгкое слабительное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редство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5654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8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Ссылки: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761760"/>
            <a:ext cx="8382240" cy="5483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d1f1f"/>
                </a:solidFill>
                <a:uFillTx/>
                <a:latin typeface="Verdana"/>
                <a:hlinkClick r:id="rId1"/>
              </a:rPr>
              <a:t>http://im3-tub-ru.yandex.net/i?id=392382007-03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 мох сфагнум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d1f1f"/>
                </a:solidFill>
                <a:uFillTx/>
                <a:latin typeface="Verdana"/>
                <a:hlinkClick r:id="rId2"/>
              </a:rPr>
              <a:t>http://im4-tub-ru.yandex.net/i?id=304135127-63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тысячелистник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d1f1f"/>
                </a:solidFill>
                <a:uFillTx/>
                <a:latin typeface="Verdana"/>
                <a:hlinkClick r:id="rId3"/>
              </a:rPr>
              <a:t>http://im0-tub-ru.yandex.net/i?id=41492253-18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подорожник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d1f1f"/>
                </a:solidFill>
                <a:uFillTx/>
                <a:latin typeface="Verdana"/>
                <a:hlinkClick r:id="rId4"/>
              </a:rPr>
              <a:t>http://im5-tub-ru.yandex.net/i?id=105536080-56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крапива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d1f1f"/>
                </a:solidFill>
                <a:uFillTx/>
                <a:latin typeface="Verdana"/>
                <a:hlinkClick r:id="rId5"/>
              </a:rPr>
              <a:t>http://im6-tub-ru.yandex.net/i?id=82226555-26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кровохлёбка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d1f1f"/>
                </a:solidFill>
                <a:uFillTx/>
                <a:latin typeface="Verdana"/>
                <a:hlinkClick r:id="rId6"/>
              </a:rPr>
              <a:t>http://im6-tub-ru.yandex.net/i?id=82226555-26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цветок кровохлёбки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d1f1f"/>
                </a:solidFill>
                <a:uFillTx/>
                <a:latin typeface="Verdana"/>
                <a:hlinkClick r:id="rId7"/>
              </a:rPr>
              <a:t>http://im3-tub-ru.yandex.net/i?id=161848951-65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лопух лист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d1f1f"/>
                </a:solidFill>
                <a:uFillTx/>
                <a:latin typeface="Verdana"/>
                <a:hlinkClick r:id="rId8"/>
              </a:rPr>
              <a:t>http://im6-tub-ru.yandex.net/i?id=328266542-32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лопух цветок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d1f1f"/>
                </a:solidFill>
                <a:uFillTx/>
                <a:latin typeface="Verdana"/>
                <a:hlinkClick r:id="rId9"/>
              </a:rPr>
              <a:t>http://im6-tub-ru.yandex.net/i?id=375413837-63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шалфей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d1f1f"/>
                </a:solidFill>
                <a:uFillTx/>
                <a:latin typeface="Verdana"/>
                <a:hlinkClick r:id="rId10"/>
              </a:rPr>
              <a:t>http://im2-tub-ru.yandex.net/i?id=343930022-57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цветок шалфея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d1f1f"/>
                </a:solidFill>
                <a:uFillTx/>
                <a:latin typeface="Verdana"/>
                <a:hlinkClick r:id="rId11"/>
              </a:rPr>
              <a:t>http://im2-tub-ru.yandex.net/i?id=186465199-27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зверобой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d1f1f"/>
                </a:solidFill>
                <a:uFillTx/>
                <a:latin typeface="Verdana"/>
                <a:hlinkClick r:id="rId12"/>
              </a:rPr>
              <a:t>http://im6-tub-ru.yandex.net/i?id=116079786-17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чистотел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cd5f"/>
                </a:solidFill>
                <a:latin typeface="Verdana"/>
              </a:rPr>
              <a:t>http://im3-tub-ru.yandex.net/i?id=18857487-29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пижма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cd5f"/>
                </a:solidFill>
                <a:latin typeface="Verdana"/>
              </a:rPr>
              <a:t>http://im3-tub-ru.yandex.net/i?id=226238294-38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одуванчик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cd5f"/>
                </a:solidFill>
                <a:latin typeface="Verdana"/>
              </a:rPr>
              <a:t>http://im3-tub-ru.yandex.net/i?id=45850093-47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полынь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cd5f"/>
                </a:solidFill>
                <a:latin typeface="Verdana"/>
              </a:rPr>
              <a:t>http://im6-tub-ru.yandex.net/i?id=354196328-21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ромашка пахучая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cd5f"/>
                </a:solidFill>
                <a:latin typeface="Verdana"/>
              </a:rPr>
              <a:t>http://im4-tub-ru.yandex.net/i?id=11934892-27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ромашка лекарственная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cd5f"/>
                </a:solidFill>
                <a:latin typeface="Verdana"/>
              </a:rPr>
              <a:t>http://im5-tub-ru.yandex.net/i?id=143515879-04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ноготки;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cd5f"/>
                </a:solidFill>
                <a:latin typeface="Verdana"/>
              </a:rPr>
              <a:t>http://im6-tub-ru.yandex.net/i?id=57888158-13-72&amp;n=21</a:t>
            </a:r>
            <a:r>
              <a:rPr b="0" lang="ru-RU" sz="1400" spc="-1" strike="noStrike">
                <a:solidFill>
                  <a:srgbClr val="f4cd5f"/>
                </a:solidFill>
                <a:latin typeface="Verdana"/>
              </a:rPr>
              <a:t> иван-чай.</a:t>
            </a:r>
            <a:endParaRPr b="0" lang="en-US" sz="14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e7ab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2c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8080" y="533160"/>
            <a:ext cx="7693200" cy="5172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a2c24"/>
                </a:solidFill>
                <a:latin typeface="Verdana"/>
              </a:rPr>
              <a:t>Есть в травах и цветах целительная сила</a:t>
            </a:r>
            <a:endParaRPr b="0" lang="en-US" sz="3600" spc="-1" strike="noStrike">
              <a:solidFill>
                <a:srgbClr val="3a2c24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a2c24"/>
                </a:solidFill>
                <a:latin typeface="Verdana"/>
              </a:rPr>
              <a:t>Для всех, умеющих их тайну разгадать…</a:t>
            </a:r>
            <a:endParaRPr b="0" lang="en-US" sz="36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23" name="Рисунок 4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5911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Сфагнум, торфяной мох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0520" y="990720"/>
            <a:ext cx="4038840" cy="5029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фагновые мхи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обладаю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всасывающей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пособностью и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хорошим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отивогнилостны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антисептическим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войством.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оэтому растение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именяю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как перевязочный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материал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и гнойных ранах.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6680" indent="-256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05432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e95"/>
                </a:solidFill>
                <a:latin typeface="Verdana"/>
              </a:rPr>
              <a:t>Тысячелистник обыкновенн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0880" y="685800"/>
            <a:ext cx="464832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 marL="254160" indent="-2541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 древнейших времён используется как кровоостанавливающее средство. Свежий сок растения хорошо заживляет раны. Помогает при заболеваниях мочевого пузыря и сердца. Входит в состав целебных чаёв, повышающих аппетит, имеющих желчегонное и слабительное действие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454560" cy="35812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12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Кровохлебка лекарственна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533376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2c24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3a2c24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2c24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  <a:ea typeface="Verdana"/>
              </a:rPr>
              <a:t>При местном применении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  <a:ea typeface="Verdana"/>
              </a:rPr>
              <a:t>обладает вяжущим,  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  <a:ea typeface="Verdana"/>
              </a:rPr>
              <a:t>кровоостанавливающим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  <a:ea typeface="Verdana"/>
              </a:rPr>
              <a:t>бактерицидным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  <a:ea typeface="Verdana"/>
              </a:rPr>
              <a:t>(противовоспалительным),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  <a:ea typeface="Verdana"/>
              </a:rPr>
              <a:t>и ранозаживляющим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  <a:ea typeface="Verdana"/>
              </a:rPr>
              <a:t>действием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5105520" y="114300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1a6"/>
                </a:solidFill>
                <a:latin typeface="Verdana"/>
              </a:rPr>
              <a:t>Подорожник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1218960"/>
            <a:ext cx="4648320" cy="5181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Для лечения использую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листья, соцветия и семена.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Свежие</a:t>
            </a:r>
            <a:r>
              <a:rPr b="1" i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листья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употребляются наружно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как ранозаживляющее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средство при ссадинах,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язвах, свищах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нарывах, ушибах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потертостях. Семена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обладают обволакивающим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действием (если боли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  <a:ea typeface="Arial"/>
              </a:rPr>
              <a:t>желудок)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5257800" y="1371600"/>
            <a:ext cx="33526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Крапива двудомна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160" y="106632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спользуют листья и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корневище с корнями.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епараты крапивы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спользуются как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кровоостанавливающие,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ранозаживляющие,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общеукрепляющие,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витаминизирующие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редства. Крапива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усиливает обмен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веществ, улучшае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остав крови, укрепляет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0640" indent="-26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хрящи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3019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Лопух большой (репейник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685800" y="1011600"/>
            <a:ext cx="42670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2c2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</a:rPr>
              <a:t>Соком молодых </a:t>
            </a:r>
            <a:endParaRPr b="0" lang="en-US" sz="2400" spc="-1" strike="noStrike">
              <a:solidFill>
                <a:srgbClr val="3a2c2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</a:rPr>
              <a:t>листьев лопуха </a:t>
            </a:r>
            <a:endParaRPr b="0" lang="en-US" sz="2400" spc="-1" strike="noStrike">
              <a:solidFill>
                <a:srgbClr val="3a2c2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</a:rPr>
              <a:t>смазывают порезы </a:t>
            </a:r>
            <a:endParaRPr b="0" lang="en-US" sz="2400" spc="-1" strike="noStrike">
              <a:solidFill>
                <a:srgbClr val="3a2c2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</a:rPr>
              <a:t>и потертости, </a:t>
            </a:r>
            <a:endParaRPr b="0" lang="en-US" sz="2400" spc="-1" strike="noStrike">
              <a:solidFill>
                <a:srgbClr val="3a2c2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</a:rPr>
              <a:t>отваренные листья </a:t>
            </a:r>
            <a:endParaRPr b="0" lang="en-US" sz="2400" spc="-1" strike="noStrike">
              <a:solidFill>
                <a:srgbClr val="3a2c2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</a:rPr>
              <a:t>прикладывают </a:t>
            </a:r>
            <a:endParaRPr b="0" lang="en-US" sz="2400" spc="-1" strike="noStrike">
              <a:solidFill>
                <a:srgbClr val="3a2c2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</a:rPr>
              <a:t>к гнойным ранам. </a:t>
            </a:r>
            <a:endParaRPr b="0" lang="en-US" sz="2400" spc="-1" strike="noStrike">
              <a:solidFill>
                <a:srgbClr val="3a2c2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Arial"/>
              </a:rPr>
              <a:t>Обладает антибактериальным, противовоспалительным, укрепляющим действием.</a:t>
            </a:r>
            <a:endParaRPr b="0" lang="en-US" sz="2400" spc="-1" strike="noStrike">
              <a:solidFill>
                <a:srgbClr val="3a2c24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4800600" y="1523880"/>
            <a:ext cx="3886200" cy="4038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"/>
          <p:cNvPicPr/>
          <p:nvPr/>
        </p:nvPicPr>
        <p:blipFill>
          <a:blip r:embed="rId2"/>
          <a:stretch/>
        </p:blipFill>
        <p:spPr>
          <a:xfrm>
            <a:off x="4114800" y="1219320"/>
            <a:ext cx="20383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1a6"/>
                </a:solidFill>
                <a:latin typeface="Verdana"/>
              </a:rPr>
              <a:t>Шалфей лекарственн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523520"/>
            <a:ext cx="4876560" cy="4419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3520" indent="-26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Используют листья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растения. Шалфейный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чай применяют при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спазмах желудочно-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кишечного тракта,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воспалении слизистой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оболочки желудка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Обладает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отивовоспалительным,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противомикробным 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2c24"/>
                </a:solidFill>
                <a:latin typeface="Verdana"/>
              </a:rPr>
              <a:t>действием.</a:t>
            </a:r>
            <a:endParaRPr b="0" lang="en-US" sz="2400" spc="-1" strike="noStrike">
              <a:solidFill>
                <a:srgbClr val="3a2c24"/>
              </a:solidFill>
              <a:latin typeface="Verdana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2971800" cy="44132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1790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risa</cp:lastModifiedBy>
  <dcterms:modified xsi:type="dcterms:W3CDTF">2013-03-03T10:40:25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