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466D-49D4-469D-BEC5-EA45EBB9F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28BA-35DB-4329-83C9-4FE92AAA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5A78-5249-4DE8-B43A-61DDCF54E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D380-8F79-4E7B-964A-54A89875A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1FF3-537D-4E2B-B6CD-797395524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43AA-49EF-41D6-8A67-5951B307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850C-5A3C-4879-A501-AD57BF90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600C-A659-40B5-AA14-918AF494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C500-ECCE-4D03-BCAC-E7F7213B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3461-8538-4B49-B961-C76CBDB9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E6C8-B2A8-45D8-BB91-42F49B5E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D253-0054-4C74-9568-AF85DDCE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12C6-6AAE-4B39-BAF1-41AD50BD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D5BC-732B-4395-81A8-90912FEF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393E-DCC6-4322-8C14-1255290E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D5B4-C2E6-4CF0-87A4-0EE4F0F97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0308-1A75-4E92-A883-084FBE97C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DA18-BFC6-4F51-A514-91EAEE05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BBA5-5011-4F33-8CED-8BEF5E63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F382-D75B-4855-B9D4-FA7843BE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F380-E9CC-441A-B804-0219C493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2646-23C7-41E3-A6C7-50340807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9C92-EBBE-4ECA-9CE9-560CDEE9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16E0-B432-48C5-9408-3E2115CA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7F60-405D-46EE-9D25-09A1A80970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AE1D-8F7C-4F89-86B8-678997F880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0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урятский республиканский педагогический колледж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Проектирование индивидуальных программ профессионального развити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br>
              <a:rPr sz="4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Модератор: Заварзина Т.Г., БРПК</a:t>
            </a:r>
            <a:br>
              <a:rPr sz="3000"/>
            </a:b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Логика проектирования ИПП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Блок-схема: процесс 7"/>
          <p:cNvSpPr/>
          <p:nvPr/>
        </p:nvSpPr>
        <p:spPr>
          <a:xfrm>
            <a:off x="3357720" y="1714680"/>
            <a:ext cx="3071520" cy="64260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Мотивационный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Блок-схема: процесс 8"/>
          <p:cNvSpPr/>
          <p:nvPr/>
        </p:nvSpPr>
        <p:spPr>
          <a:xfrm>
            <a:off x="2643120" y="2857680"/>
            <a:ext cx="4286160" cy="64260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Установочный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Блок-схема: процесс 9"/>
          <p:cNvSpPr/>
          <p:nvPr/>
        </p:nvSpPr>
        <p:spPr>
          <a:xfrm>
            <a:off x="2143080" y="3929040"/>
            <a:ext cx="5214960" cy="71424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еятельностный 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Блок-схема: процесс 10"/>
          <p:cNvSpPr/>
          <p:nvPr/>
        </p:nvSpPr>
        <p:spPr>
          <a:xfrm>
            <a:off x="1571760" y="5072040"/>
            <a:ext cx="6215040" cy="7858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ефлексивный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трелка вниз 12"/>
          <p:cNvSpPr/>
          <p:nvPr/>
        </p:nvSpPr>
        <p:spPr>
          <a:xfrm>
            <a:off x="4500720" y="4643280"/>
            <a:ext cx="428400" cy="57168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10253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низ 15"/>
          <p:cNvSpPr/>
          <p:nvPr/>
        </p:nvSpPr>
        <p:spPr>
          <a:xfrm>
            <a:off x="4500720" y="3500280"/>
            <a:ext cx="428400" cy="57168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10253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трелка вниз 16"/>
          <p:cNvSpPr/>
          <p:nvPr/>
        </p:nvSpPr>
        <p:spPr>
          <a:xfrm>
            <a:off x="4500720" y="2357280"/>
            <a:ext cx="428400" cy="57168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10253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озможные параметры самоанализа (Я- концепция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пециальность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едметы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ои ценнос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ое педагогическое кред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ои личные/профессиональные достижения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ои сильные /слабые стороны 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фера жизненных/профессиональных интересов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Что мне в себе нравится / не нравитс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ои увлечени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Цели и зада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ерспективные жизненные цели (профессиональные, личностные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лижайшие цели и задачи ( самопознание, образовательные задачи, профессиональные задачи, задачи по развитию конкретных качест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ланы (перспектива, стратегия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полагаемое направление профессионального развит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ланируемый уровень профессионального развития (квалификация, степень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полагаемые источники развития (программы, курсы, магистратура, самообразовани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полагаемые образовательные организации, в которых буду обучать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ограмма действий (тактика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опознание своих возможностей и склоннос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полнительное профессиональное образ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фессионально- личностное развит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ы образования и развит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озможные формы повышения квалифик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тоянно действующие семинары в    режиме  посещения 1 - 2 раза в месяц;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бота   проблемных   семинаров,   организуемых на   основе   изучения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    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овательных потребностей и затруднений;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дивидуальные и тематические консультации по просьбе педагогов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бота временных творческих групп по актуальным проблемам развития педагогической       теории       и       практик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озможные формы повышения квалифик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казание методической помощи на месте (интерактивный методкабинет);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рганизация (очной, очно-заочной, дистанционной) курсовой  подготовки на базе БРПК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ндивидуальные стажировки для усвоения актуального педагогического опыта лучших педагогов города, региона, страны, зарубежом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нсалтинговые услуги по заявкам отдельных педагог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Новые результаты образова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Блок-схема: процесс 3"/>
          <p:cNvSpPr/>
          <p:nvPr/>
        </p:nvSpPr>
        <p:spPr>
          <a:xfrm>
            <a:off x="3071880" y="1785960"/>
            <a:ext cx="3429000" cy="10000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зн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Блок-схема: процесс 22"/>
          <p:cNvSpPr/>
          <p:nvPr/>
        </p:nvSpPr>
        <p:spPr>
          <a:xfrm>
            <a:off x="3143160" y="4643280"/>
            <a:ext cx="3500640" cy="92880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личностное развит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Блок-схема: процесс 23"/>
          <p:cNvSpPr/>
          <p:nvPr/>
        </p:nvSpPr>
        <p:spPr>
          <a:xfrm>
            <a:off x="500040" y="3143160"/>
            <a:ext cx="3143160" cy="10000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компетен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Блок-схема: процесс 24"/>
          <p:cNvSpPr/>
          <p:nvPr/>
        </p:nvSpPr>
        <p:spPr>
          <a:xfrm>
            <a:off x="5643720" y="3214800"/>
            <a:ext cx="3000240" cy="10000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социализа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3" descr=""/>
          <p:cNvPicPr/>
          <p:nvPr/>
        </p:nvPicPr>
        <p:blipFill>
          <a:blip r:embed="rId1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13880" y="1143000"/>
            <a:ext cx="8062920" cy="1008000"/>
          </a:xfrm>
          <a:prstGeom prst="rect">
            <a:avLst/>
          </a:prstGeom>
          <a:solidFill>
            <a:srgbClr val="ebf1de"/>
          </a:solidFill>
          <a:ln w="9360">
            <a:solidFill>
              <a:srgbClr val="77933c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овый педаго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45"/>
          <p:cNvSpPr/>
          <p:nvPr/>
        </p:nvSpPr>
        <p:spPr>
          <a:xfrm>
            <a:off x="285840" y="3571920"/>
            <a:ext cx="3929040" cy="164304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етентный специал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8"/>
          <p:cNvSpPr/>
          <p:nvPr/>
        </p:nvSpPr>
        <p:spPr>
          <a:xfrm>
            <a:off x="4857840" y="3571920"/>
            <a:ext cx="4286160" cy="164304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ью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9"/>
          <p:cNvSpPr/>
          <p:nvPr/>
        </p:nvSpPr>
        <p:spPr>
          <a:xfrm flipH="1">
            <a:off x="1856880" y="2286000"/>
            <a:ext cx="2357640" cy="121428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0"/>
          <p:cNvSpPr/>
          <p:nvPr/>
        </p:nvSpPr>
        <p:spPr>
          <a:xfrm>
            <a:off x="5143680" y="2214720"/>
            <a:ext cx="2357280" cy="121428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3" descr=""/>
          <p:cNvPicPr/>
          <p:nvPr/>
        </p:nvPicPr>
        <p:blipFill>
          <a:blip r:embed="rId1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71680" y="1213920"/>
            <a:ext cx="8062560" cy="1008360"/>
          </a:xfrm>
          <a:prstGeom prst="rect">
            <a:avLst/>
          </a:prstGeom>
          <a:solidFill>
            <a:srgbClr val="ebf1de"/>
          </a:solidFill>
          <a:ln w="9360">
            <a:solidFill>
              <a:srgbClr val="77933c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ндивидуализация образ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45"/>
          <p:cNvSpPr/>
          <p:nvPr/>
        </p:nvSpPr>
        <p:spPr>
          <a:xfrm>
            <a:off x="428760" y="3571920"/>
            <a:ext cx="3929040" cy="164304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ивидуаль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азовательная траектор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учающего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8"/>
          <p:cNvSpPr/>
          <p:nvPr/>
        </p:nvSpPr>
        <p:spPr>
          <a:xfrm>
            <a:off x="4714920" y="3571920"/>
            <a:ext cx="4286160" cy="164304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ивидуальная програм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фессионального разви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даг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9"/>
          <p:cNvSpPr/>
          <p:nvPr/>
        </p:nvSpPr>
        <p:spPr>
          <a:xfrm flipH="1">
            <a:off x="1714320" y="2286000"/>
            <a:ext cx="2500200" cy="128592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0"/>
          <p:cNvSpPr/>
          <p:nvPr/>
        </p:nvSpPr>
        <p:spPr>
          <a:xfrm>
            <a:off x="5286240" y="2286000"/>
            <a:ext cx="2286000" cy="128592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офессиональное развит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Блок-схема: процесс 3"/>
          <p:cNvSpPr/>
          <p:nvPr/>
        </p:nvSpPr>
        <p:spPr>
          <a:xfrm>
            <a:off x="3071880" y="1785960"/>
            <a:ext cx="3429000" cy="10000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alibri"/>
              </a:rPr>
              <a:t>систематическое подкрепление  знани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Блок-схема: процесс 22"/>
          <p:cNvSpPr/>
          <p:nvPr/>
        </p:nvSpPr>
        <p:spPr>
          <a:xfrm>
            <a:off x="3143160" y="4643280"/>
            <a:ext cx="3500640" cy="92880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alibri"/>
              </a:rPr>
              <a:t>развитие личностных качест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Блок-схема: процесс 23"/>
          <p:cNvSpPr/>
          <p:nvPr/>
        </p:nvSpPr>
        <p:spPr>
          <a:xfrm>
            <a:off x="500040" y="3143160"/>
            <a:ext cx="3714840" cy="10000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alibri"/>
              </a:rPr>
              <a:t>совершенствование навыков и умени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Блок-схема: процесс 24"/>
          <p:cNvSpPr/>
          <p:nvPr/>
        </p:nvSpPr>
        <p:spPr>
          <a:xfrm>
            <a:off x="4857840" y="3143160"/>
            <a:ext cx="3786120" cy="10717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alibri"/>
              </a:rPr>
              <a:t>освоение новых знаний, умений, навык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заимосвязь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личностного и профессионального развит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600200"/>
          <a:ext cx="8229600" cy="49370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арамет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ичностное разви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фессиональное разви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и расширение системы ценностных ориентаций личности как системы морально-этических принципов, детерминирующих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и расширение системы ценностных ориентаций личности как системы морально-этических принципов, детерминирующих профессиональную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тенденции к самоактуализации и самореа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положительной мотивации к профессиональной деятельности и повышению своего мастерства, саморе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заимосвязь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личностного и профессионального развит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3840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арамет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ичностное разви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фессиональное разви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-концеп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и углубление адекватного и целостного представления о себе. Укрепление позитивной Я-концеп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екватное формирование Я-концепции учителя. Укрепление адекватной профессиональной самооце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спект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ределение направлений и перспектив дальнейшего внутреннего ро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нозирование карьерного роста и «творение» собственной профессиональной биограф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заимосвязь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личностного и профессионального развит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600200"/>
          <a:ext cx="8229600" cy="4572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арамет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ичностное разви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фессиональное разви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тивизация развития когнитивной сферы как способности к более абстрактному и обобщенному пониманию и дифференциации, категоризации явлений окружающего м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флексия собственной деятельности, личностного опы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тировка, совершенствование имеющихся профессиональных умений, навыков, способов деятельности на основе интериоризации новой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флексия профессиональной деятельности, педагогического опы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Цели введения индивидуальных программ профессионального развит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7120" y="142884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здание условий для реализации педагогом возможностей непрерывного самообразования через организацию открытого образовательного пространств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амостоятельное конструирование образовательного маршрута с учетом своей компетентности, профессиональных потребностей, дефицитов, предполагаемых сроков (от одного года до пяти лет в зависимости от желаемого результата: аттестация или реализация подпрограмм)и выбор форм реализации своего личностного потенциал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9:12:55Z</dcterms:created>
  <dc:creator>Tatyana</dc:creator>
  <dc:description/>
  <dc:language>en-US</dc:language>
  <cp:lastModifiedBy>Татьяна</cp:lastModifiedBy>
  <dcterms:modified xsi:type="dcterms:W3CDTF">2013-03-03T15:33:07Z</dcterms:modified>
  <cp:revision>44</cp:revision>
  <dc:subject/>
  <dc:title>Примерные образовательные программы  в соответствии с ФГОС: условия реализации</dc:title>
</cp:coreProperties>
</file>