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3542-9451-498F-BEB8-034BD21F1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C5A1-E792-49B7-86AD-47FF59C44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F497-128C-4E8F-B9C1-2C81D6B58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4B16-B4A5-4A49-BBE2-E89AE5E65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4CD36-2CB0-4BF2-B05D-209723374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A7A91-1E59-46D4-B4C2-899A8B69D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F99DA-F2A8-46C9-9BAE-E3600348B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8D07E-CADB-4B9F-B75B-1C8A66262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73CAA-724C-4ED1-BF9A-14E7D68E6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C2EB0-DE56-4FA8-9FCC-1D0498A48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5C492-1776-4E00-83A2-23C3B56A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1D96-5030-47D1-A42E-2CE194E1E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AEC06-0D7E-46CF-A7F1-F159DE24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40F31-945F-4681-9B08-F11C86C2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3252B-B843-463B-B215-E14F3575F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17263-7CA4-49C6-A601-4498B2901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06C12-EC0C-415D-AF1B-7184B3ABA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CE41-8A67-466B-9618-84988980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62B3-245B-41FB-BA95-6A389E56D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DCEF-F02B-4CEF-992A-D84F511E4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3F9D-EA11-4FB0-BBDE-BC256771A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1F66-3B79-4602-AD77-46D572A1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80DA-55D7-48DC-B41F-D344A83E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AB70-2B46-4A73-BFB7-4FE2A748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5EE6D-7339-4C7C-B1B3-9420E27728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0286E-E539-43D1-B043-9E34983C9D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0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урятский республиканский педагогический колледж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Проектирование индивидуальных программ профессионального развития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br>
              <a:rPr sz="4000"/>
            </a:b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Модератор: Заварзина Т.Г., БРПК</a:t>
            </a:r>
            <a:br>
              <a:rPr sz="3000"/>
            </a:br>
            <a:br>
              <a:rPr sz="3000"/>
            </a:b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Логика проектирования ИПП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Блок-схема: процесс 7"/>
          <p:cNvSpPr/>
          <p:nvPr/>
        </p:nvSpPr>
        <p:spPr>
          <a:xfrm>
            <a:off x="3357720" y="1714680"/>
            <a:ext cx="3071520" cy="64260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Мотивационный эт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Блок-схема: процесс 8"/>
          <p:cNvSpPr/>
          <p:nvPr/>
        </p:nvSpPr>
        <p:spPr>
          <a:xfrm>
            <a:off x="2643120" y="2857680"/>
            <a:ext cx="4286160" cy="64260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Установочный эт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Блок-схема: процесс 9"/>
          <p:cNvSpPr/>
          <p:nvPr/>
        </p:nvSpPr>
        <p:spPr>
          <a:xfrm>
            <a:off x="2143080" y="3929040"/>
            <a:ext cx="5214960" cy="71424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Деятельностный  эт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Блок-схема: процесс 10"/>
          <p:cNvSpPr/>
          <p:nvPr/>
        </p:nvSpPr>
        <p:spPr>
          <a:xfrm>
            <a:off x="1571760" y="5072040"/>
            <a:ext cx="6215040" cy="7858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Рефлексивный эт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Стрелка вниз 12"/>
          <p:cNvSpPr/>
          <p:nvPr/>
        </p:nvSpPr>
        <p:spPr>
          <a:xfrm>
            <a:off x="4500720" y="4643280"/>
            <a:ext cx="428400" cy="57168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10253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низ 15"/>
          <p:cNvSpPr/>
          <p:nvPr/>
        </p:nvSpPr>
        <p:spPr>
          <a:xfrm>
            <a:off x="4500720" y="3500280"/>
            <a:ext cx="428400" cy="57168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10253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трелка вниз 16"/>
          <p:cNvSpPr/>
          <p:nvPr/>
        </p:nvSpPr>
        <p:spPr>
          <a:xfrm>
            <a:off x="4500720" y="2357280"/>
            <a:ext cx="428400" cy="57168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10253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озможные параметры самоанализа (Я- концепция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пециальность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едметы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ои ценност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ое педагогическое кредо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ои личные/профессиональные достижения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ои сильные /слабые стороны 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фера жизненных/профессиональных интересов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Что мне в себе нравится / не нравится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ои увлечения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Цели и задач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ерспективные жизненные цели (профессиональные, личностные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лижайшие цели и задачи ( самопознание, образовательные задачи, профессиональные задачи, задачи по развитию конкретных качест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ланы (перспектива, стратегия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дполагаемое направление профессионального развит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ланируемый уровень профессионального развития (квалификация, степень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дполагаемые источники развития (программы, курсы, магистратура, самообразовани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дполагаемые образовательные организации, в которых буду обучатьс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ограмма действий (тактика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амопознание своих возможностей и склонност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полнительное профессиональное образов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фессионально- личностное развит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рмы образования и развит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озможные формы повышения квалифика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тоянно действующие семинары в    режиме  посещения 1 - 2 раза в месяц;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бота   проблемных   семинаров,   организуемых на   основе   изучения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    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овательных потребностей и затруднений;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дивидуальные и тематические консультации по просьбе педагогов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бота временных творческих групп по актуальным проблемам развития педагогической       теории       и       практики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озможные формы повышения квалифика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казание методической помощи на месте (интерактивный методкабинет);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рганизация (очной, очно-заочной, дистанционной) курсовой  подготовки на базе БРПК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ндивидуальные стажировки для усвоения актуального педагогического опыта лучших педагогов города, региона, страны, зарубежом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онсалтинговые услуги по заявкам отдельных педагогов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Новые результаты образован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Блок-схема: процесс 3"/>
          <p:cNvSpPr/>
          <p:nvPr/>
        </p:nvSpPr>
        <p:spPr>
          <a:xfrm>
            <a:off x="3071880" y="1785960"/>
            <a:ext cx="3429000" cy="10000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alibri"/>
              </a:rPr>
              <a:t>зн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Блок-схема: процесс 22"/>
          <p:cNvSpPr/>
          <p:nvPr/>
        </p:nvSpPr>
        <p:spPr>
          <a:xfrm>
            <a:off x="3143160" y="4643280"/>
            <a:ext cx="3500640" cy="92880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alibri"/>
              </a:rPr>
              <a:t>личностное развит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Блок-схема: процесс 23"/>
          <p:cNvSpPr/>
          <p:nvPr/>
        </p:nvSpPr>
        <p:spPr>
          <a:xfrm>
            <a:off x="500040" y="3143160"/>
            <a:ext cx="3143160" cy="10000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alibri"/>
              </a:rPr>
              <a:t>компетен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Блок-схема: процесс 24"/>
          <p:cNvSpPr/>
          <p:nvPr/>
        </p:nvSpPr>
        <p:spPr>
          <a:xfrm>
            <a:off x="5643720" y="3214800"/>
            <a:ext cx="3000240" cy="10000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alibri"/>
              </a:rPr>
              <a:t>социализац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3" descr=""/>
          <p:cNvPicPr/>
          <p:nvPr/>
        </p:nvPicPr>
        <p:blipFill>
          <a:blip r:embed="rId1"/>
          <a:stretch/>
        </p:blipFill>
        <p:spPr>
          <a:xfrm>
            <a:off x="0" y="0"/>
            <a:ext cx="928692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13880" y="1143000"/>
            <a:ext cx="8062920" cy="1008000"/>
          </a:xfrm>
          <a:prstGeom prst="rect">
            <a:avLst/>
          </a:prstGeom>
          <a:solidFill>
            <a:srgbClr val="ebf1de"/>
          </a:solidFill>
          <a:ln w="9360">
            <a:solidFill>
              <a:srgbClr val="77933c"/>
            </a:solidFill>
            <a:miter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овый педаго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45"/>
          <p:cNvSpPr/>
          <p:nvPr/>
        </p:nvSpPr>
        <p:spPr>
          <a:xfrm>
            <a:off x="285840" y="3571920"/>
            <a:ext cx="3929040" cy="1643040"/>
          </a:xfrm>
          <a:prstGeom prst="rect">
            <a:avLst/>
          </a:prstGeom>
          <a:solidFill>
            <a:srgbClr val="ebf1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петентный специали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8"/>
          <p:cNvSpPr/>
          <p:nvPr/>
        </p:nvSpPr>
        <p:spPr>
          <a:xfrm>
            <a:off x="4857840" y="3571920"/>
            <a:ext cx="4286160" cy="1643040"/>
          </a:xfrm>
          <a:prstGeom prst="rect">
            <a:avLst/>
          </a:prstGeom>
          <a:solidFill>
            <a:srgbClr val="ebf1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ью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49"/>
          <p:cNvSpPr/>
          <p:nvPr/>
        </p:nvSpPr>
        <p:spPr>
          <a:xfrm flipH="1">
            <a:off x="1856880" y="2286000"/>
            <a:ext cx="2357640" cy="1214280"/>
          </a:xfrm>
          <a:prstGeom prst="line">
            <a:avLst/>
          </a:prstGeom>
          <a:ln w="381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50"/>
          <p:cNvSpPr/>
          <p:nvPr/>
        </p:nvSpPr>
        <p:spPr>
          <a:xfrm>
            <a:off x="5143680" y="2214720"/>
            <a:ext cx="2357280" cy="1214280"/>
          </a:xfrm>
          <a:prstGeom prst="line">
            <a:avLst/>
          </a:prstGeom>
          <a:ln w="381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3" descr=""/>
          <p:cNvPicPr/>
          <p:nvPr/>
        </p:nvPicPr>
        <p:blipFill>
          <a:blip r:embed="rId1"/>
          <a:stretch/>
        </p:blipFill>
        <p:spPr>
          <a:xfrm>
            <a:off x="0" y="0"/>
            <a:ext cx="928692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71680" y="1213920"/>
            <a:ext cx="8062560" cy="1008360"/>
          </a:xfrm>
          <a:prstGeom prst="rect">
            <a:avLst/>
          </a:prstGeom>
          <a:solidFill>
            <a:srgbClr val="ebf1de"/>
          </a:solidFill>
          <a:ln w="9360">
            <a:solidFill>
              <a:srgbClr val="77933c"/>
            </a:solidFill>
            <a:miter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ндивидуализация образо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45"/>
          <p:cNvSpPr/>
          <p:nvPr/>
        </p:nvSpPr>
        <p:spPr>
          <a:xfrm>
            <a:off x="428760" y="3571920"/>
            <a:ext cx="3929040" cy="1643040"/>
          </a:xfrm>
          <a:prstGeom prst="rect">
            <a:avLst/>
          </a:prstGeom>
          <a:solidFill>
            <a:srgbClr val="ebf1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дивидуаль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разовательная траектор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учающего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8"/>
          <p:cNvSpPr/>
          <p:nvPr/>
        </p:nvSpPr>
        <p:spPr>
          <a:xfrm>
            <a:off x="4714920" y="3571920"/>
            <a:ext cx="4286160" cy="1643040"/>
          </a:xfrm>
          <a:prstGeom prst="rect">
            <a:avLst/>
          </a:prstGeom>
          <a:solidFill>
            <a:srgbClr val="ebf1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дивидуальная програм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фессионального разви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даг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49"/>
          <p:cNvSpPr/>
          <p:nvPr/>
        </p:nvSpPr>
        <p:spPr>
          <a:xfrm flipH="1">
            <a:off x="1714320" y="2286000"/>
            <a:ext cx="2500200" cy="128592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50"/>
          <p:cNvSpPr/>
          <p:nvPr/>
        </p:nvSpPr>
        <p:spPr>
          <a:xfrm>
            <a:off x="5286240" y="2286000"/>
            <a:ext cx="2286000" cy="128592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Профессиональное развити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Блок-схема: процесс 3"/>
          <p:cNvSpPr/>
          <p:nvPr/>
        </p:nvSpPr>
        <p:spPr>
          <a:xfrm>
            <a:off x="3071880" y="1785960"/>
            <a:ext cx="3429000" cy="10000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Calibri"/>
              </a:rPr>
              <a:t>систематическое подкрепление  знани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Блок-схема: процесс 22"/>
          <p:cNvSpPr/>
          <p:nvPr/>
        </p:nvSpPr>
        <p:spPr>
          <a:xfrm>
            <a:off x="3143160" y="4643280"/>
            <a:ext cx="3500640" cy="92880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Calibri"/>
              </a:rPr>
              <a:t>развитие личностных качест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Блок-схема: процесс 23"/>
          <p:cNvSpPr/>
          <p:nvPr/>
        </p:nvSpPr>
        <p:spPr>
          <a:xfrm>
            <a:off x="500040" y="3143160"/>
            <a:ext cx="3714840" cy="10000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Calibri"/>
              </a:rPr>
              <a:t>совершенствование навыков и умени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Блок-схема: процесс 24"/>
          <p:cNvSpPr/>
          <p:nvPr/>
        </p:nvSpPr>
        <p:spPr>
          <a:xfrm>
            <a:off x="4857840" y="3143160"/>
            <a:ext cx="3786120" cy="10717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Calibri"/>
              </a:rPr>
              <a:t>освоение новых знаний, умений, навык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заимосвязь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личностного и профессионального развит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57200" y="1600200"/>
          <a:ext cx="8229600" cy="49370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арамет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ичностное развит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фессиональное развит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н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витие и расширение системы ценностных ориентаций личности как системы морально-этических принципов, детерминирующих дея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витие и расширение системы ценностных ориентаций личности как системы морально-этических принципов, детерминирующих профессиональную дея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витие тенденции к самоактуализации и самореал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витие положительной мотивации к профессиональной деятельности и повышению своего мастерства, самореализ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заимосвязь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личностного и профессионального развит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1600200"/>
          <a:ext cx="8229600" cy="38401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арамет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ичностное развит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фессиональное развит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-концеп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витие и углубление адекватного и целостного представления о себе. Укрепление позитивной Я-концеп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декватное формирование Я-концепции учителя. Укрепление адекватной профессиональной самооцен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спекти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ределение направлений и перспектив дальнейшего внутреннего ро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нозирование карьерного роста и «творение» собственной профессиональной биограф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заимосвязь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личностного и профессионального развит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57200" y="1600200"/>
          <a:ext cx="8229600" cy="45720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арамет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ичностное развит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фессиональное развит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3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тивизация развития когнитивной сферы как способности к более абстрактному и обобщенному пониманию и дифференциации, категоризации явлений окружающего ми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флексия собственной деятельности, личностного опы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рректировка, совершенствование имеющихся профессиональных умений, навыков, способов деятельности на основе интериоризации новой информ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флексия профессиональной деятельности, педагогического опы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Цели введения индивидуальных программ профессионального развит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7120" y="142884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оздание условий для реализации педагогом возможностей непрерывного самообразования через организацию открытого образовательного пространства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амостоятельное конструирование образовательного маршрута с учетом своей компетентности, профессиональных потребностей, дефицитов, предполагаемых сроков (от одного года до пяти лет в зависимости от желаемого результата: аттестация или реализация подпрограмм)и выбор форм реализации своего личностного потенциал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8T19:12:55Z</dcterms:created>
  <dc:creator>Tatyana</dc:creator>
  <dc:description/>
  <dc:language>en-US</dc:language>
  <cp:lastModifiedBy>Татьяна</cp:lastModifiedBy>
  <dcterms:modified xsi:type="dcterms:W3CDTF">2013-03-03T15:33:07Z</dcterms:modified>
  <cp:revision>44</cp:revision>
  <dc:subject/>
  <dc:title>Примерные образовательные программы  в соответствии с ФГОС: условия реализации</dc:title>
</cp:coreProperties>
</file>