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BC74-73FB-40AB-8094-AD6E6E85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0A2-BF8E-4D72-8AED-74906806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CF1A-C636-41DE-8B12-A004135B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4F6-18C0-424B-9940-2BD2F9AB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FA13-0CF8-4876-8566-5F129405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9CB5-1308-4BDE-86B1-28D8C488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1615-F4A5-40C2-B09B-CF0798A1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FDA1-9188-41E6-AA39-F7860A5F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9B50-87FB-420D-B2BF-CB5DF3F3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7B35-236E-4417-8AB9-B3C91C77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848D-A32A-4ED0-8C5D-E8935E57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E17-A0DF-4FC6-AB82-6F865A63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43E3-06AC-45D1-8477-413905C7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86DB-1B45-4976-9FB9-173AABFC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44B9-28CC-450A-BF4E-0974975F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B5B7-0C4E-4DDB-B8C7-BE829828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A866-8985-4524-90D3-A19E8965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F3A-3DE3-443C-8909-FBDDB910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E5B-6EF3-43EF-9FB2-2BE527C5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0C2-5A80-4947-853F-CA8A87FF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58E4-632F-4CA2-8179-921D26C7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F4A-0FCF-413C-A1FD-5DC0693B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A89-0687-4C2F-B058-1D9ED75C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6D3D-B742-47A6-8311-B3D983F7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B41A-FBE8-4E2A-AF58-7782941F9B7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F5E5-6323-4DAB-8956-8BB3ACE5112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76360" y="2276640"/>
            <a:ext cx="6361200" cy="13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азки А.С.Пушкина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Белка песенки …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а орешки все …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А орешки не простые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се скорлупки …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276640"/>
            <a:ext cx="37767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4105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ошел старик к синему…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тал он кликать …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риплыла к нему …, спросил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Чего тебе надобно, старч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43280" y="2421000"/>
            <a:ext cx="37720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496224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 лукоморья … зеленый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латая …. на дубе том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 днем, и ночью….учен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се ходит по цепи круг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435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421000"/>
            <a:ext cx="41050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етер на море…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 кораблик подгоняет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н бежит себе в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 раздутых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211640" y="20606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356000" y="1209600"/>
            <a:ext cx="3373560" cy="2185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908000" y="3724200"/>
            <a:ext cx="2951280" cy="2816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80200" y="3716280"/>
            <a:ext cx="2317680" cy="2808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11280" y="1209600"/>
            <a:ext cx="33732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26920" y="24120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835280" y="3141720"/>
            <a:ext cx="2428920" cy="3522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716360" y="1322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4716360" y="4221000"/>
            <a:ext cx="37465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484360" y="2421000"/>
            <a:ext cx="4540320" cy="18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А.С. Пушки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звестный русский поэт. Родился в городе Москве 6 июня  1799 года. Окончил Царскосельский лице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32440" y="2117880"/>
            <a:ext cx="29224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Сказка о попе и работнике его Балд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2637000"/>
            <a:ext cx="48243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Живет Балда в поповом доме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пит себе на соломе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ст за четверых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аботает за семеры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435640" y="2276640"/>
            <a:ext cx="30830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6870960" cy="7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Сказка о золотой рыбк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00720" y="177336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ак взмолится золотая рыбка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Голосом молвит человечьим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«Отпусти ты, старче, меня в мор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орогой за себя дам откуп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ткуплюсь, чем только пожелаешь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3776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6943680" cy="18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Сказка о мертвой царевне и о семи богатыря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24922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ень за днем идет, мелькая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А царевна молода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се в лесу, не скучно ей у семи богатыр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0" y="2708280"/>
            <a:ext cx="3776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Сказка о золотом петушк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5160" y="2418840"/>
            <a:ext cx="37785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т мудрец перед Дадон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ал и вынул из меш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олотого петуш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37764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687096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Сказка о царе Салтане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356000" y="1844640"/>
            <a:ext cx="4114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ри девицы под окном Пряли поздно вечерк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«Кабы я была царица, -говорит одна девиц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о на весь крещеный мир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риготовила б я пир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3776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692360" y="1989000"/>
            <a:ext cx="5686200" cy="176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скажи словечко.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2332080"/>
            <a:ext cx="4392360" cy="29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Жил старик со своею…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У самого синего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ни жили в землянк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овно тридцать лет и…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05480" y="2401920"/>
            <a:ext cx="37764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5:11:18Z</dcterms:created>
  <dc:creator>Admin</dc:creator>
  <dc:description/>
  <dc:language>en-US</dc:language>
  <cp:lastModifiedBy>Admin</cp:lastModifiedBy>
  <dcterms:modified xsi:type="dcterms:W3CDTF">2011-03-15T17:17:26Z</dcterms:modified>
  <cp:revision>36</cp:revision>
  <dc:subject/>
  <dc:title>Слайд 1</dc:title>
</cp:coreProperties>
</file>