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39E-2CF6-4F97-8229-24242A74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BF8-A9DC-42B8-A819-A6CC02F3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71D-C9B1-4E8D-9245-F5F7EA30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90D-8EE6-4F14-83FE-DDA4A6F4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99D7-104A-4C26-97FD-2484CC5D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071C-974E-472C-8D5A-750014C2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9D69-FE82-41AA-BE07-EFC3C8B7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E856-3B68-4F88-A757-5F25658B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5D8F-9F17-4765-81A2-34263736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AF6C-01C7-4683-B82F-FAA6685F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80FB-1508-43D3-A762-A8DB114F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565-B8FE-48B7-827E-8E6710A1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1FC8-F852-405E-A91D-89BC8409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F521-7ABD-4493-80D6-5B862C31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240B-B58F-40A9-A48F-1418E013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1B67-1200-4A04-B8FB-D629C2F2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9B07-4D80-4731-8502-674CEE67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906-A82F-495C-AAAF-EFFD1C23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F8D-6B47-44D6-AA32-DFEE9F3F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8D9-8D60-4A0E-9FC5-CF9635B8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8F9-9A8D-4BE2-BD70-F83F9A31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356-3C60-4A95-97D2-108644EB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6F9-793C-4B56-AF9C-B902189D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6A9-60F1-4E64-92A4-40CC269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F7AD-9A3B-4809-8E3F-D7B17DAE4B2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09EB-502C-4895-BC9F-2C0F7676D9C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76360" y="2276640"/>
            <a:ext cx="6361200" cy="13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ки А.С.Пушкина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Белка песенки 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а орешки все …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 орешки не простые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се скорлупки 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37767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4105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ошел старик к синему…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тал он кликать …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риплыла к нему …, спросил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Чего тебе надобно, старч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3280" y="2421000"/>
            <a:ext cx="3772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496224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 лукоморья … зеленый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латая …. на дубе том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 днем, и ночью….уче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се ходит по цепи круг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435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41050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етер на море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 кораблик подгоняе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н бежит себе в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 раздутых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211640" y="2060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56000" y="1209600"/>
            <a:ext cx="3373560" cy="2185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908000" y="3724200"/>
            <a:ext cx="2951280" cy="2816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80200" y="3716280"/>
            <a:ext cx="2317680" cy="2808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11280" y="1209600"/>
            <a:ext cx="33732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26920" y="24120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835280" y="3141720"/>
            <a:ext cx="2428920" cy="3522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716360" y="1322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716360" y="4221000"/>
            <a:ext cx="37465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484360" y="2421000"/>
            <a:ext cx="4540320" cy="18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А.С. Пушки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звестный русский поэт. Родился в городе Москве 6 июня  1799 года. Окончил Царскосельский лице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32440" y="2117880"/>
            <a:ext cx="29224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Сказка о попе и работнике его Балд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2637000"/>
            <a:ext cx="4824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Живет Балда в поповом доме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пит себе на солом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ст за четверых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ботает за семеры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0830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6870960" cy="7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Сказка о золотой рыб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00720" y="177336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ак взмолится золотая рыбк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Голосом молвит человечьи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«Отпусти ты, старче, меня в мор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орогой за себя дам откуп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ткуплюсь, чем только пожелаешь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3776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6943680" cy="18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Сказка о мертвой царевне и о семи богатыря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24922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ень за днем идет, мелькая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 царевна молод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се в лесу, не скучно ей у семи богатыр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0" y="2708280"/>
            <a:ext cx="3776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Сказка о золотом петуш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5160" y="2418840"/>
            <a:ext cx="37785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т мудрец перед Дадон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ал и вынул из меш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олотого петуш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37764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687096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Сказка о царе Салтане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356000" y="1844640"/>
            <a:ext cx="4114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ри девицы под окном Пряли поздно вечер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«Кабы я была царица, -говорит одна девиц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 на весь крещеный мир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риготовила б я пир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3776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692360" y="1989000"/>
            <a:ext cx="5686200" cy="176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скажи словечко.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2332080"/>
            <a:ext cx="4392360" cy="29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Жил старик со своею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У самого синего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ни жили в землянк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овно тридцать лет и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05480" y="2401920"/>
            <a:ext cx="37764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5:11:18Z</dcterms:created>
  <dc:creator>Admin</dc:creator>
  <dc:description/>
  <dc:language>en-US</dc:language>
  <cp:lastModifiedBy>Admin</cp:lastModifiedBy>
  <dcterms:modified xsi:type="dcterms:W3CDTF">2011-03-15T17:17:26Z</dcterms:modified>
  <cp:revision>36</cp:revision>
  <dc:subject/>
  <dc:title>Слайд 1</dc:title>
</cp:coreProperties>
</file>