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F941-7CA1-4AC3-AC46-D8D2C87A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F40D-89C4-496E-99E1-8294546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7AA9-B27F-4D7D-B7D7-6F64208B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37C7-9EA2-4808-AF29-638A79AE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FE91-B936-4671-9969-F51C0C73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A86D-ED49-4549-88D0-555B4ECD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D47-F14B-4751-833F-1B97349F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C106-B7BC-4EAC-9812-EF0479A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B90-56D7-41A2-AFB6-971040DF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8571-F333-4B28-A4DC-2C34129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0171-BA62-4EC6-9101-05A0C0B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F812-94BB-45E8-9604-7E3E305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F335-95E6-4554-A3A8-C4F3C47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765A-1A11-4B29-A27D-DA28882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4AC1-C1B1-4601-AD94-4866E2A8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C687-5B9B-411D-A687-53C4A42A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00D5-047A-4C4F-892A-A4DB9F4D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EE77-A089-478A-AF20-B0EEFE4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10EB-7330-40D9-A1BC-27E1C433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930C-B2F7-45A8-9662-B49E7B5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1B2D-F301-42DF-B1A2-66F50BEA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08FE-8258-478E-9C6A-1313BA8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2D81-3CE5-4029-9C0B-8C1975D8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99A1-DF3F-42E2-A7E8-A8A93AB6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1E9F-3EE7-4BB6-9177-72D8CC6E5E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431A-911E-4836-BA69-925DC6DBFD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«Путешествие по сказкам А.С. Пушкина»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рохина Вале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179280" y="324000"/>
          <a:ext cx="8568720" cy="6210000"/>
        </p:xfrm>
        <a:graphic>
          <a:graphicData uri="http://schemas.openxmlformats.org/drawingml/2006/table">
            <a:tbl>
              <a:tblPr/>
              <a:tblGrid>
                <a:gridCol w="910800"/>
                <a:gridCol w="713160"/>
                <a:gridCol w="616320"/>
                <a:gridCol w="713520"/>
                <a:gridCol w="714600"/>
                <a:gridCol w="615240"/>
                <a:gridCol w="616320"/>
                <a:gridCol w="909720"/>
                <a:gridCol w="616320"/>
                <a:gridCol w="910800"/>
                <a:gridCol w="615600"/>
                <a:gridCol w="616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9160" y="1482120"/>
            <a:ext cx="90248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горизонта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Отец князя Гвид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В чем жили старик со старухой у самого синего мор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Кто подсказал Елисею, где искать царевн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В кого превратился князь Гвидон в первый ра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Жених «мертвой» царев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. Кто обходил дозором «славный город» Гвидо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. С чем пришел невод из моря в первый ра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389880"/>
            <a:ext cx="8075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вертика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Кто укусил ткачих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 Дядька тридцати трех богатыре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. Продолжи «на пороге сидит его старуха, а перед нею разбитое …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. От чего умерла мачеха  «мертвой» царевн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. Кто «круглый год по небу ходит, сводит зиму с теплою весной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130320"/>
          <a:ext cx="9144000" cy="6727680"/>
        </p:xfrm>
        <a:graphic>
          <a:graphicData uri="http://schemas.openxmlformats.org/drawingml/2006/table">
            <a:tbl>
              <a:tblPr/>
              <a:tblGrid>
                <a:gridCol w="826920"/>
                <a:gridCol w="655920"/>
                <a:gridCol w="691920"/>
                <a:gridCol w="660600"/>
                <a:gridCol w="649080"/>
                <a:gridCol w="648000"/>
                <a:gridCol w="704520"/>
                <a:gridCol w="827280"/>
                <a:gridCol w="704880"/>
                <a:gridCol w="652320"/>
                <a:gridCol w="825480"/>
                <a:gridCol w="649440"/>
                <a:gridCol w="6476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3:35:54Z</dcterms:created>
  <dc:creator>Admin</dc:creator>
  <dc:description/>
  <dc:language>en-US</dc:language>
  <cp:lastModifiedBy>User</cp:lastModifiedBy>
  <dcterms:modified xsi:type="dcterms:W3CDTF">2013-01-13T11:42:16Z</dcterms:modified>
  <cp:revision>4</cp:revision>
  <dc:subject/>
  <dc:title>«Путешествие по сказкам А.С. Пушкина».</dc:title>
</cp:coreProperties>
</file>