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02A3-5666-408E-A2E8-D51C2475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665AD-3F6E-4188-83D3-7EEBAED0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794B-91E8-4F7F-AE2E-FD8BAD88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AF03-DA5B-4AAB-8ACB-3C4D4D02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6413-824A-4831-882F-1C31CDC3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EB22-CD4D-4109-87C1-2F748304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4B79-0F12-4854-9F30-C2DFC3BA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525D-E323-4B6B-9296-D1DD8F90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8913-7633-4907-86C3-9B87C8FC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867B-4860-4F95-A6B3-6AE029F7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09C5-3602-4E7F-93FF-1AE72B98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C0BF-F122-4633-AF6C-B0D69E93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9764-827F-43CC-A030-53506114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BDD3-61D4-4764-BB58-BB7AF311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BFBA-04A1-44BA-AB06-1703383E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F257-1735-4141-A0C3-71D7EB15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2532-E224-4FD5-AA25-A1E81B77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9BAF6-7189-47A3-B095-DF09312F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39B2-B8C0-40B7-8D32-1DD46DFC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3971-C040-46F1-82B2-C829AAE4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CCDD5-5344-4F67-92C8-C09796DF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0D49-FF7F-4B77-8A02-9D24B82D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E2607-DC14-4584-BB33-7AE63591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2537-BFF4-4CBC-865E-CDBBD058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702A-9230-478F-8E83-4D7B2D78AB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5741-0837-4576-B668-237DD3DB220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«Путешествие по сказкам А.С. Пушкина»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рохина Вале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179280" y="324000"/>
          <a:ext cx="8568720" cy="6210000"/>
        </p:xfrm>
        <a:graphic>
          <a:graphicData uri="http://schemas.openxmlformats.org/drawingml/2006/table">
            <a:tbl>
              <a:tblPr/>
              <a:tblGrid>
                <a:gridCol w="910800"/>
                <a:gridCol w="713160"/>
                <a:gridCol w="616320"/>
                <a:gridCol w="713520"/>
                <a:gridCol w="714600"/>
                <a:gridCol w="615240"/>
                <a:gridCol w="616320"/>
                <a:gridCol w="909720"/>
                <a:gridCol w="616320"/>
                <a:gridCol w="910800"/>
                <a:gridCol w="615600"/>
                <a:gridCol w="6163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9160" y="1482120"/>
            <a:ext cx="90248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горизонта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Отец князя Гвид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В чем жили старик со старухой у самого синего мор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Кто подсказал Елисею, где искать царевн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В кого превратился князь Гвидон в первый ра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Жених «мертвой» царев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. Кто обходил дозором «славный город» Гвидо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. С чем пришел невод из моря в первый ра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389880"/>
            <a:ext cx="8075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о вертика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 Кто укусил ткачих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 Дядька тридцати трех богатыре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. Продолжи «на пороге сидит его старуха, а перед нею разбитое …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9. От чего умерла мачеха  «мертвой» царевн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1. Кто «круглый год по небу ходит, сводит зиму с теплою весной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130320"/>
          <a:ext cx="9144000" cy="6727680"/>
        </p:xfrm>
        <a:graphic>
          <a:graphicData uri="http://schemas.openxmlformats.org/drawingml/2006/table">
            <a:tbl>
              <a:tblPr/>
              <a:tblGrid>
                <a:gridCol w="826920"/>
                <a:gridCol w="655920"/>
                <a:gridCol w="691920"/>
                <a:gridCol w="660600"/>
                <a:gridCol w="649080"/>
                <a:gridCol w="648000"/>
                <a:gridCol w="704520"/>
                <a:gridCol w="827280"/>
                <a:gridCol w="704880"/>
                <a:gridCol w="652320"/>
                <a:gridCol w="825480"/>
                <a:gridCol w="649440"/>
                <a:gridCol w="6476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3:35:54Z</dcterms:created>
  <dc:creator>Admin</dc:creator>
  <dc:description/>
  <dc:language>en-US</dc:language>
  <cp:lastModifiedBy>User</cp:lastModifiedBy>
  <dcterms:modified xsi:type="dcterms:W3CDTF">2013-01-13T11:42:16Z</dcterms:modified>
  <cp:revision>4</cp:revision>
  <dc:subject/>
  <dc:title>«Путешествие по сказкам А.С. Пушкина».</dc:title>
</cp:coreProperties>
</file>