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4DF-164E-4655-BAE9-A54A50DC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21A-A686-47B5-823B-4332A480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61F-B854-4721-882D-1F6583DF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B79-FB56-4FAC-AB51-26444BC0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A813-FA84-4A45-A5D1-71D0099B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C2DA-BA5A-48FF-836A-913415E6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A91B-514A-49A6-9C5A-D47D6E0C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EDCF-17EE-4C5B-9FBE-59C3C44B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6685-E3AB-4437-872F-C636F931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8BED-5883-484F-9982-A429CCAA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DCA7-338E-4AB5-9612-FCA4DB6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675-9462-4321-95E9-4DB3F8C3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E67F-27F5-4E4C-AE16-0187B60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1FE0-C07F-48B9-A525-6996D423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A0DE-32A4-4F84-BB33-70E1CD0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6D9A-FEB5-40AB-BB74-4E003097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4C18-25AF-47D7-9783-6D30B5C0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B92-25D4-41E2-A6E8-971467C0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F14-CAAD-40A7-973F-7E02AF9D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DCE-F7F4-4B02-B59E-EA24B1E3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B7B-7631-49D0-BBF1-5E587938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456-07A8-440A-AED4-9D26DB77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109-FD56-4197-8A94-D4A749E8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9E7-83DE-44F4-9872-E89E19BB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99CE-5532-4F51-82E4-7020B38AB9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334-4C36-4E55-8B08-62C2C4E15D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28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Рациональные выражения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( 10 класс)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95120" y="45716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МАТЕМАТ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«ГИМНАЗИЯ № 5 Г. БЕЛГОРО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ВЫДОВА МАРИНА ГЕОРГИ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дночлены- произведение чисел, переменных и их степеней, а также сами числа, переменные и их степен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1876320" y="3106800"/>
                <a:ext cx="593100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ногочлены- сумма одночленов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781280" y="2398680"/>
                <a:ext cx="597204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член называется нулевым, если он после приведения подобных членов превращается в число ну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мма, разность , произведение двух многочленов- многочл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=С, где А,В- многочл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лгебраическая дроб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46400" y="2398680"/>
                <a:ext cx="496872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1219320" y="990720"/>
                <a:ext cx="693396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циональным выражением называют выражение, в котором несколько алгебраических дробей соединено знаками арифметических действий, причем это выражение не содержит деления на нулевой многочл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2840040" y="3809880"/>
                <a:ext cx="392904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533520" y="457200"/>
                <a:ext cx="807696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56908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Алгоритм решения дробно-рационального уравн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найти общий знаменатель дробей, входящих в урав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умножить обе части уравнения на общий знамена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решить получившееся целое урав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исключить из его корней те, которые обращают в нуль общий знамен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1523880" y="304920"/>
                <a:ext cx="590580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3-03-03T05:0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