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F7A-463D-4CEB-9AE7-07132A89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078-766D-440F-8D5B-714AA837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5D8-B564-4907-B0C5-76E1C026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FDF-C9A8-4B03-8395-546E1D14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400E-32AA-4021-9FE9-E57621C3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15EC-D8AC-40A3-8427-E3A9830C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5B45-E3FA-4BE7-AE0B-031B8D54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F5A3-A182-43FF-B43F-F673ED6A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89CA-04AF-4EC4-BDF0-FDE4F392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CCD5-0219-4D8B-A245-21295E72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B508-CF4D-49DA-9901-3F87625D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C82-A081-4BBC-AA1F-B15A049B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7077-3A7A-40C9-8E4E-66F0E517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4DFE-0B96-4D27-9C38-1821D668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75F4-6E96-4187-963C-8E90B3DD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D1C9-E6F9-40EC-9600-5482B98F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D388-E99D-49CF-A396-260EFC52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4D4-7503-4567-AA57-ECF66B92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3DD-2CAB-49A2-ABB0-F6D832D8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C59-7748-4108-B13D-0C219C2B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26C-C263-4804-9FD1-F27C2226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AAAC-9633-4D2A-93BF-5E6017CF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819-55FB-4C42-B463-88260B5D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067-4373-48D1-80D1-4C42539A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5E9A-132A-4C76-AA49-103CC535FC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E116-E302-4E80-9DC3-9C9323AC893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28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Рациональные выражения 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( 10 класс)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95120" y="45716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МАТЕМАТ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«ГИМНАЗИЯ № 5 Г. БЕЛГОРОД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ВЫДОВА МАРИНА ГЕОРГИ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дночлены- произведение чисел, переменных и их степеней, а также сами числа, переменные и их степени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1876320" y="3106800"/>
                <a:ext cx="593100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ногочлены- сумма одночленов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781280" y="2398680"/>
                <a:ext cx="597204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член называется нулевым, если он после приведения подобных членов превращается в число ну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мма, разность , произведение двух многочленов- многочл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=С, где А,В- многочле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лгебраическая дроб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246400" y="2398680"/>
                <a:ext cx="496872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1219320" y="990720"/>
                <a:ext cx="693396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304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циональным выражением называют выражение, в котором несколько алгебраических дробей соединено знаками арифметических действий, причем это выражение не содержит деления на нулевой многочл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2840040" y="3809880"/>
                <a:ext cx="392904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533520" y="457200"/>
                <a:ext cx="8076960" cy="57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65000"/>
            <a:ext cx="856908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Алгоритм решения дробно-рационального уравнени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найти общий знаменатель дробей, входящих в уравн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умножить обе части уравнения на общий знамена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решить получившееся целое уравн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исключить из его корней те, которые обращают в нуль общий знамен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1523880" y="304920"/>
                <a:ext cx="590580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13-03-03T05:05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