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09A-2AEB-40E4-A24E-71DF46C7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77B-1D4A-4B51-B122-5975E084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DF8-9F93-4E94-A13C-1C68F854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7CC-D3D9-4B32-8D36-56EA85CB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AC63-77EB-49F7-8DF7-3607141B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52C9-342C-4F20-8FA6-14BF4C09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0149-1065-4400-BEA5-75DAD6A2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BEAD-069A-46F6-A336-9D8C0B7E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7043-0085-43B7-AB5E-11A69D3D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44D4-9E24-49F1-8B2E-B901A025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5CEE-BE8F-4081-9AD3-DAE7B83E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5F3-90D8-4B7E-BCFC-7FD2083B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8A2C-0DDA-4770-9410-C3314685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4AE4-D6E4-4836-ADEA-10D83970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A8FC-C541-4E2B-A341-D2279F58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598F-5739-40E3-B373-33E3067C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55B6-47A9-4012-9569-F45853A4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29A-BE86-4BD6-93A0-33853716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77C-9B22-49F7-A8EC-E2B1BF0E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51C-D5BD-47C5-9291-6390FD8A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E23-3A81-4194-A55F-18D1B3B8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8EE-88A8-48C2-BFD6-6CB405BB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5ED-B8C8-42D8-92F6-3B822625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C34-C956-4016-97A3-FF07A00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2459-D20D-4A56-B6E2-6B24C8C4492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BBE8-828B-4392-BA3E-F2AAA7E30381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3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Формирование кинестетических ощущений и мелкой моторики в художественно – творческой деятельности у детей с речевой патологией (онр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89000"/>
            <a:ext cx="3672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ДОУ д/с"№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Белочк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Картинка 83 из 161673"/>
          <p:cNvPicPr/>
          <p:nvPr/>
        </p:nvPicPr>
        <p:blipFill>
          <a:blip r:embed="rId1"/>
          <a:stretch/>
        </p:blipFill>
        <p:spPr>
          <a:xfrm>
            <a:off x="6516720" y="4148280"/>
            <a:ext cx="2481120" cy="248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7120" y="4668840"/>
            <a:ext cx="412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16360" y="450864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ажи мне, и я забуду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ажи мне, и я запомню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й мне действовать самому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я научус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фу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160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етание различных техник и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73480" y="1268280"/>
            <a:ext cx="4970520" cy="4826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5113440" cy="4200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оделки из природного материала и пластилина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5689800" cy="426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4825800" cy="3619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4537080" cy="3301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851280" y="1628640"/>
            <a:ext cx="50767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ластилиновые фантаз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708360" y="2349360"/>
            <a:ext cx="5221440" cy="3916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5114880" cy="3837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518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216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Готовимся к пасхе </a:t>
            </a:r>
            <a:br>
              <a:rPr sz="4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(аппликация на яйце лоскутками или салфетками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976560" cy="4105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924360" y="2951280"/>
            <a:ext cx="4968720" cy="3660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348000" y="3807000"/>
            <a:ext cx="4068720" cy="305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88000" y="1628640"/>
            <a:ext cx="382896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Игрушки на елку из соленого тес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4692600" cy="3108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5608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6950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художественно – творческий труд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зволяет решат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559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оррекционные зада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ярно опосредованно стимулируется действие речевых зон коры головного мозга, что положительно сказывается на исправлении речи у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ствуется внимание и память, психологические процессы, тесно связанные с речь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егчается будущим школьникам усвоение навыков пись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ановливается положительное влияние развития пальчиковой моторики на коррекцию звукопроизношения у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художественно – творческий труд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озволяет решать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Задачи нравственного, сенсорного, трудового, умственного воспит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убляются представления детей об окружающих предмет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уется пространственное мышление; развивается конструктивный пракси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ется художественно – эстетическое восприят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детей повышается самооценка, появляется уверенность в своих сил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ю подготовил воспитатель логопедической группы МДОУ д/с№8 «Белочка» Поспелова Т. 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640" y="4076640"/>
            <a:ext cx="6769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Развитие ручных кинестетических ощущений и тонкой моторики пальцев ру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4000" y="2276280"/>
            <a:ext cx="7885080" cy="42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ние бытовых и гигиенических навыков, навыков самообслуживания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ьные игры по развитию кинестезий (массаж и самомассаж пальцев) и тонкой моторики пальцев рук;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занятиях по ИЗО и ручному труду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дактические игры на развитие конструктивно-игровой деятель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льчиковый театр, игры, упражнени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ка руки к письму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92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Занятия по ИЗО и ручному труду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струирование из бумаг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струирование из нетрадиционных материалов (ватные диски, вата, салфетки, пряжа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струирование из природного матери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исование с использованием различного матери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п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Конструирование из бумаг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инание и разрывание бумаг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ладывание из бумаги (оригами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мажная скульпту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азрывание бумаги и сминание (скатывание) ее в комоч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713800" cy="4359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42920" y="162072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ваная апплик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6732720" cy="5050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716616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ппликация с использованием разноцветной   пряж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16360" y="1467000"/>
            <a:ext cx="5868720" cy="4402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20090" t="0" r="15629" b="0"/>
          <a:stretch/>
        </p:blipFill>
        <p:spPr>
          <a:xfrm>
            <a:off x="324000" y="1557360"/>
            <a:ext cx="4198680" cy="489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13338" t="0" r="17312" b="0"/>
          <a:stretch/>
        </p:blipFill>
        <p:spPr>
          <a:xfrm>
            <a:off x="4067280" y="1413000"/>
            <a:ext cx="4838760" cy="5229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971640" y="1457280"/>
            <a:ext cx="7200720" cy="540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79280" y="1415880"/>
            <a:ext cx="89647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ппликация из ватных диск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457880" cy="426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5986800" cy="4721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26920" y="1919160"/>
            <a:ext cx="7345440" cy="375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116000" y="1022400"/>
            <a:ext cx="73436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ппликация из в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5113440" cy="475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4295880" cy="4681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55640" y="1000080"/>
            <a:ext cx="7777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8:29:55Z</dcterms:created>
  <dc:creator>pro7</dc:creator>
  <dc:description/>
  <dc:language>en-US</dc:language>
  <cp:lastModifiedBy>User</cp:lastModifiedBy>
  <dcterms:modified xsi:type="dcterms:W3CDTF">2013-02-19T11:01:22Z</dcterms:modified>
  <cp:revision>8</cp:revision>
  <dc:subject/>
  <dc:title>Развитие ручных кинестетических ощущений и тонкой моторики пальцев рук</dc:title>
</cp:coreProperties>
</file>