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54E-BAF0-4126-8F51-3143EAE7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ECA-4589-4225-8605-2805FED3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87B-FC1E-4BB3-B0B7-2AF7D082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7CD-8073-4FAC-9A22-9E1093D1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158C-A104-4950-9A31-E9C5D9B8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36D2-D3B4-4401-8514-BF89FCEA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D17-FA85-48DB-A8DA-6278208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BF00-3136-42DF-B21B-EBD90EC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FC5D-E8A3-4C69-8BDE-BA0BB4EC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B98D-BC53-4E0B-A543-4137A8C1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0F4-E23C-4F97-9262-2708E9C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C08-124E-4B26-A4C2-9AB4BDC9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737-4476-4315-8050-0B16E70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064A-5819-4B04-ACCC-D9B4EED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30FF-51B3-4DD5-9C73-B050102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2BE-362B-40D4-A78D-8E29A93C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A7A8-1D4E-4115-A17E-31D2BE77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2AE-DF48-4532-9B20-C939B85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ECF-2F1F-46F6-87D6-721344B2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199-5D65-40CD-B77E-36BF977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F72-95EF-45EC-B552-75E0B3C1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448-36E8-4320-9F09-94AB4DE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1DB-3F5C-4C0C-98AC-E3F5F80B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80E-65ED-49E3-B088-F1A0F00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D79A-8642-44EA-848E-8EDC34A7A51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6836-55C8-495B-80FD-60F92A4A153F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3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Формирование кинестетических ощущений и мелкой моторики в художественно – творческой деятельности у детей с речевой патологией (онр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89000"/>
            <a:ext cx="3672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ДОУ д/с"№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Белочк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Картинка 83 из 161673"/>
          <p:cNvPicPr/>
          <p:nvPr/>
        </p:nvPicPr>
        <p:blipFill>
          <a:blip r:embed="rId1"/>
          <a:stretch/>
        </p:blipFill>
        <p:spPr>
          <a:xfrm>
            <a:off x="6516720" y="4148280"/>
            <a:ext cx="2481120" cy="248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7120" y="4668840"/>
            <a:ext cx="41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16360" y="450864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жи мне, и я забуду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ажи мне, и я запомню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й мне действовать самому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я научус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фу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60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етание различных техник и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73480" y="1268280"/>
            <a:ext cx="4970520" cy="482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5113440" cy="4200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оделки из природного материала и пластилина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568980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4537080" cy="330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51280" y="1628640"/>
            <a:ext cx="50767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ластилиновые фантаз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5221440" cy="391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5114880" cy="3837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51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216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отовимся к пасхе 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(аппликация на яйце лоскутками или салфетками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976560" cy="4105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24360" y="2951280"/>
            <a:ext cx="4968720" cy="3660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348000" y="380700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88000" y="1628640"/>
            <a:ext cx="382896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Игрушки на елку из соленого тес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692600" cy="3108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5608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950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художественно – творческий труд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зволяет решат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559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оррекционные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рно опосредованно стимулируется действие речевых зон коры головного мозга, что положительно сказывается на исправлении речи у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ствуется внимание и память, психологические процессы, тесно связанные с реч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егчается будущим школьникам усвоение навыков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ановливается положительное влияние развития пальчиковой моторики на коррекцию звукопроизношения у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художественно – творческий труд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озволяет решать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Задачи нравственного, сенсорного, трудового, умственного воспит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убляются представления детей об окружающих предмет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ся пространственное мышление; развивается конструктивный пракси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ется художественно – эстетическое восприя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детей повышается самооценка, появляется уверенность в своих сил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ю подготовил воспитатель логопедической группы МДОУ д/с№8 «Белочка» Поспелова Т.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640" y="4076640"/>
            <a:ext cx="6769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азвитие ручных кинестетических ощущений и тонкой моторики пальцев ру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885080" cy="42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ие бытовых и гигиенических навыков, навыков самообслуживания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ьные игры по развитию кинестезий (массаж и самомассаж пальцев) и тонкой моторики пальцев рук;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занятиях по ИЗО и ручному труду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дактические игры на развитие конструктивно-игровой деятель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льчиковый театр, игры, упражнени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ка руки к письму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Занятия по ИЗО и ручному труду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руирование из бума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руирование из нетрадиционных материалов (ватные диски, вата, салфетки, пряжа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руирование из природного матери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исование с использованием различного матери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п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онструирование из бумаг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инание и разрывание бумаг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ладывание из бумаги (оригами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мажная скульпту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зрывание бумаги и сминание (скатывание) ее в комоч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13800" cy="4359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42920" y="162072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ваная апплик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6732720" cy="505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71661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ппликация с использованием разноцветной   пряж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16360" y="1467000"/>
            <a:ext cx="5868720" cy="4402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20090" t="0" r="15629" b="0"/>
          <a:stretch/>
        </p:blipFill>
        <p:spPr>
          <a:xfrm>
            <a:off x="324000" y="1557360"/>
            <a:ext cx="4198680" cy="489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13338" t="0" r="17312" b="0"/>
          <a:stretch/>
        </p:blipFill>
        <p:spPr>
          <a:xfrm>
            <a:off x="4067280" y="1413000"/>
            <a:ext cx="4838760" cy="522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971640" y="1457280"/>
            <a:ext cx="7200720" cy="540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79280" y="1415880"/>
            <a:ext cx="89647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ппликация из ватных диск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45788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986800" cy="4721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26920" y="1919160"/>
            <a:ext cx="7345440" cy="375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16000" y="1022400"/>
            <a:ext cx="73436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ппликация из в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5113440" cy="475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295880" cy="468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55640" y="1000080"/>
            <a:ext cx="7777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8:29:55Z</dcterms:created>
  <dc:creator>pro7</dc:creator>
  <dc:description/>
  <dc:language>en-US</dc:language>
  <cp:lastModifiedBy>User</cp:lastModifiedBy>
  <dcterms:modified xsi:type="dcterms:W3CDTF">2013-02-19T11:01:22Z</dcterms:modified>
  <cp:revision>8</cp:revision>
  <dc:subject/>
  <dc:title>Развитие ручных кинестетических ощущений и тонкой моторики пальцев рук</dc:title>
</cp:coreProperties>
</file>