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5D5DC-4597-4A3E-8656-399F19E5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1DF28-432B-4A55-8979-38A6E2A1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9F47-F753-41D3-9FA4-83DAC2AB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EC17-4B24-42B0-BAF8-92728802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036E-C6B3-4BE4-8BD9-113D3BFC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EC73-F6F9-4B28-B51A-5477D3C2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23B8-0DB0-4837-B540-54D48319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CBA3-313F-4737-B6CA-B1A0F0F3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4A93-2F08-464F-9C85-9F30FF0E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7CA3-1D69-4DE7-9113-BA63BA72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CCA7-5678-4A85-BDFF-1D366E19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0C51-9ACA-4973-AB9C-8E08B190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E98F-1D4F-4515-BB7B-0AEA84CE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3187-C39B-4AB0-B32E-4AA8AA93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210A-3C86-4A68-85D2-5DD2C7BD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FC2E-135A-45AA-821F-813EC711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0DEE-8978-4CD2-9CB2-60B6BB5D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D520-EE51-47E8-AA7E-DD611AE7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AD70-772C-41F1-B2F7-B48087B0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774B-39A5-4FDA-BC83-E17358F8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B1CD3-7B2F-4991-9C94-610D7CF6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FC9F0-09EC-441D-8EDF-CBAF701F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A3D44-AB79-43CF-A03D-7F83B243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755C-EB80-443E-888E-83F231F9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A7B1-ECBF-44EA-A2E9-8BA29A08B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CC20-1289-478C-8A96-A8E626401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108360" y="155736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Вдруг из черной темноты в небе выросли цветы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  А на них-то голубые, пунцовые, золоты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  Распускаются цветы небывалой красоты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  И все улицы под ними тоже стали голубыми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  Пунцовыми, золотыми, разноцветными такими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72723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488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04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00720" y="2349360"/>
            <a:ext cx="42354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9 Мая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- День Побед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7:03:27Z</dcterms:created>
  <dc:creator>Admin</dc:creator>
  <dc:description/>
  <dc:language>en-US</dc:language>
  <cp:lastModifiedBy>Admin</cp:lastModifiedBy>
  <dcterms:modified xsi:type="dcterms:W3CDTF">2011-05-05T15:09:29Z</dcterms:modified>
  <cp:revision>6</cp:revision>
  <dc:subject/>
  <dc:title>Слайд 1</dc:title>
</cp:coreProperties>
</file>