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9E74-A1BE-40B6-89BC-50D59E82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A059-B6A2-487C-A918-2A105863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14DA-7BDC-4C0B-AC1B-7ABB68B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F02B-C7C5-47CB-B5D3-70A721B0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CF62-E3B9-4A91-AE2B-47183712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2C3-92E1-48A1-99A9-4CC0A6C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BEB-2D6E-4AA3-908A-769F368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4B3-4663-4851-AFDA-D0B7FAE7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3F74-064D-432E-936E-728B6F9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A29-F7A7-4B6A-B9CE-6FFC80DA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79A-D023-49D5-8BD7-10CF5AC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1066-1CB2-43AE-B17E-33DDCA9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C17C-DBBD-430B-8869-EACD0B0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B9F4-7DBF-4456-B4B6-9D73D0D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26CB-2F27-44DE-A910-C5D74F76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99DA-FC04-456E-9125-7F143873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0C84-67B2-45F2-AA1F-F9F4CE8C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038D-A821-43F6-810E-2253897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6B2E-5AF6-43B6-8F06-97C19C4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670B-8733-4309-895F-600892A9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32EF-A91D-49F8-9709-C0067F98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799D-178D-48EA-9FAB-3651B07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5FE9-B6E1-4BCF-AB9A-19B6EDD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9760-F598-417F-9716-B28F514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85D-1357-45B0-9D24-5CFD24A7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AE8-2422-48F8-B9D7-B7F00D64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108360" y="155736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друг из черной темноты в небе выросли цветы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А на них-то голубые, пунцовые, золоты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Распускаются цветы небывалой красот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И все улицы под ними тоже стали голубыми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  Пунцовыми, золотыми, разноцветными таким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72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488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00720" y="2349360"/>
            <a:ext cx="42354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9 Ма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 День Побе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03:27Z</dcterms:created>
  <dc:creator>Admin</dc:creator>
  <dc:description/>
  <dc:language>en-US</dc:language>
  <cp:lastModifiedBy>Admin</cp:lastModifiedBy>
  <dcterms:modified xsi:type="dcterms:W3CDTF">2011-05-05T15:09:29Z</dcterms:modified>
  <cp:revision>6</cp:revision>
  <dc:subject/>
  <dc:title>Слайд 1</dc:title>
</cp:coreProperties>
</file>