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6FFE-E39B-468D-B197-6CF3025A2FA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F5A7-ECAA-4E3C-8276-E945F3FEA0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16F0-FD70-4F92-B91A-433BA13868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3532-D600-4E0E-BB8C-C020D27605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7DDE-B4CE-4EF4-A345-10CCBDAA003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56B3-360A-4B57-9A68-1CC624D20E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79DA-8C63-4665-944A-556B4F5B50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D382-4A63-433B-ABE5-282C592209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5DAF-273A-4DC2-94B3-874633717F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57C4-02C5-4E75-824D-47C9F74CEC3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73A1-71F3-482F-BDA6-E92632D74F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6A48-596E-4F94-9F83-8654E0CFB7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6AFB-3283-42D8-9610-0FB962C696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2BEE-AF73-4F13-BE7D-8A35B27D11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C47D-43B6-4887-A085-08BBBF8AFC4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1C55-B96D-4402-850A-B028CF0257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BD79E-BDAC-4F73-AB1D-205068A11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21C99-EF12-4054-841F-D99713038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540D6-3F15-4163-AC0B-625C1CDDC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399E3-E6D3-4489-B463-3DDBEEA01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6196D-EEE6-499E-9FB8-AC764433D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D199E-2329-4035-A99C-85654FDE4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65F93-0B01-4189-930C-1E8FFBAFE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18689-6A14-4E3E-8FD2-673372978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21108-8137-4DF7-8094-5DD0C32B3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BB6B3-1B31-4986-B49F-9500B814E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6F84F-0462-4FBD-840A-5A73DEEE8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22C86-3CF9-4E15-AF6E-9630623F4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A7337-EC56-42B7-BB03-42E023BC6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C8AE6-D65D-497F-BFEC-FD8BE1610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54C22-1DC0-44B7-91CC-2DE1CFA14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01211-250C-4382-A489-1B1FFC8FF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53815-DE0B-4E45-9164-75D07AB68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0622B-11A6-4CEF-AD06-F6E155313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ED926-D4B0-4544-BE05-275E8C01A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2D824-7B90-4977-9209-317FAAD14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DC040-90B9-48AD-92E8-90E2E2F7E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7FF7A-3E5C-4E41-A519-F0A62FD40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B5AE-D5CD-4DEE-8F7F-5D271D8A7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BA96-C7EC-4BA7-9879-3EAAF3C23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821E-9D52-42CE-933B-4973A4524EE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E0F9-15E0-4E5D-B130-EC9B29011FE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99800" y="107172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0033"/>
                </a:solidFill>
                <a:latin typeface="Times New Roman"/>
              </a:rPr>
              <a:t>Применение самооценки на уроках истории.</a:t>
            </a: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тникова Ольга Владимировна</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ель Первой категории </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БОУ «СОШ№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371600" y="1599840"/>
            <a:ext cx="7772400" cy="4530600"/>
          </a:xfrm>
          <a:prstGeom prst="rect">
            <a:avLst/>
          </a:prstGeom>
          <a:noFill/>
          <a:ln w="0">
            <a:noFill/>
          </a:ln>
        </p:spPr>
        <p:txBody>
          <a:bodyPr anchor="t">
            <a:normAutofit/>
          </a:bodyPr>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Структура урока:</a:t>
            </a:r>
            <a:endParaRPr b="0" lang="en-US" sz="2200" spc="-1" strike="noStrike">
              <a:solidFill>
                <a:srgbClr val="000000"/>
              </a:solidFill>
              <a:latin typeface="Arial"/>
            </a:endParaRPr>
          </a:p>
          <a:p>
            <a:pPr lvl="1" marL="952560" indent="-495360">
              <a:spcBef>
                <a:spcPts val="550"/>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корректирование знаний и умений по результатам самоконтроля и самооценок учащихся, с одновременным контролем и регулированием достоверности выставленных самооценок,</a:t>
            </a:r>
            <a:endParaRPr b="0" lang="en-US" sz="2200" spc="-1" strike="noStrike">
              <a:solidFill>
                <a:srgbClr val="000000"/>
              </a:solidFill>
              <a:latin typeface="Arial"/>
            </a:endParaRPr>
          </a:p>
          <a:p>
            <a:pPr lvl="1" marL="952560" indent="-495360">
              <a:spcBef>
                <a:spcPts val="550"/>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дание самостоятельной домашней работы,</a:t>
            </a:r>
            <a:endParaRPr b="0" lang="en-US" sz="2200" spc="-1" strike="noStrike">
              <a:solidFill>
                <a:srgbClr val="000000"/>
              </a:solidFill>
              <a:latin typeface="Arial"/>
            </a:endParaRPr>
          </a:p>
          <a:p>
            <a:pPr lvl="1" marL="952560" indent="-495360">
              <a:spcBef>
                <a:spcPts val="550"/>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бъяснение нового материала, с одновременным объяснением выполнения учащимися задания,</a:t>
            </a:r>
            <a:endParaRPr b="0" lang="en-US" sz="2200" spc="-1" strike="noStrike">
              <a:solidFill>
                <a:srgbClr val="000000"/>
              </a:solidFill>
              <a:latin typeface="Arial"/>
            </a:endParaRPr>
          </a:p>
          <a:p>
            <a:pPr lvl="1" marL="952560" indent="-495360">
              <a:spcBef>
                <a:spcPts val="550"/>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крепление знаний и умений проводимого на основе решения разработанной системы творческих задач и проблемных ситуаций;</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333760" y="1599840"/>
            <a:ext cx="38098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ремя урока на проверку домашнего задания не тратитс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итель до урока получает информацию о готовности каждого ученика через «Журнал самооценок»</a:t>
            </a:r>
            <a:endParaRPr b="0" lang="en-US" sz="2400" spc="-1" strike="noStrike">
              <a:solidFill>
                <a:srgbClr val="000000"/>
              </a:solidFill>
              <a:latin typeface="Arial"/>
            </a:endParaRPr>
          </a:p>
        </p:txBody>
      </p:sp>
      <p:pic>
        <p:nvPicPr>
          <p:cNvPr id="130" name="Picture 6" descr="DSC02509"/>
          <p:cNvPicPr/>
          <p:nvPr/>
        </p:nvPicPr>
        <p:blipFill>
          <a:blip r:embed="rId1"/>
          <a:stretch/>
        </p:blipFill>
        <p:spPr>
          <a:xfrm>
            <a:off x="785880" y="1785960"/>
            <a:ext cx="3809880" cy="2857320"/>
          </a:xfrm>
          <a:prstGeom prst="rect">
            <a:avLst/>
          </a:prstGeom>
          <a:ln w="28440">
            <a:solidFill>
              <a:srgbClr val="0000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749920" y="1599840"/>
            <a:ext cx="3394080" cy="4924440"/>
          </a:xfrm>
          <a:prstGeom prst="rect">
            <a:avLst/>
          </a:prstGeom>
          <a:noFill/>
          <a:ln w="0">
            <a:noFill/>
          </a:ln>
        </p:spPr>
        <p:txBody>
          <a:bodyPr anchor="t">
            <a:normAutofit/>
          </a:bodyPr>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Структура урока:</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 корректирование знаний и умений по результатам самоконтроля и самооценок учащихся, с одновременным контролем и регулированием достоверности выставленных самооценок</a:t>
            </a:r>
            <a:endParaRPr b="0" lang="en-US" sz="2200" spc="-1" strike="noStrike">
              <a:solidFill>
                <a:srgbClr val="000000"/>
              </a:solidFill>
              <a:latin typeface="Arial"/>
            </a:endParaRPr>
          </a:p>
        </p:txBody>
      </p:sp>
      <p:pic>
        <p:nvPicPr>
          <p:cNvPr id="132" name="Picture 5" descr="задания для письменнной проверки дом"/>
          <p:cNvPicPr/>
          <p:nvPr/>
        </p:nvPicPr>
        <p:blipFill>
          <a:blip r:embed="rId1"/>
          <a:stretch/>
        </p:blipFill>
        <p:spPr>
          <a:xfrm>
            <a:off x="642960" y="1928880"/>
            <a:ext cx="5184720" cy="388764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371600" y="1599840"/>
            <a:ext cx="7772400" cy="4530600"/>
          </a:xfrm>
          <a:prstGeom prst="rect">
            <a:avLst/>
          </a:prstGeom>
          <a:noFill/>
          <a:ln w="0">
            <a:noFill/>
          </a:ln>
        </p:spPr>
        <p:txBody>
          <a:bodyPr anchor="t">
            <a:normAutofit/>
          </a:bodyPr>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Структура урока:</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2. задание самостоятельной домашней работы.</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омашнее задание является одновременно и классным. Оно разбивается на части от 3 до 5. </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омашнее задание приобретает четкость и конкретность.</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ченик знает, что будет спрашивать учитель на следующем уроке. У него пропадает страх, появляется желание сделать задание на высокую оценку.</a:t>
            </a:r>
            <a:endParaRPr b="0" lang="en-US" sz="2200" spc="-1" strike="noStrike">
              <a:solidFill>
                <a:srgbClr val="000000"/>
              </a:solidFill>
              <a:latin typeface="Arial"/>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371600" y="1599840"/>
            <a:ext cx="7772400" cy="4530600"/>
          </a:xfrm>
          <a:prstGeom prst="rect">
            <a:avLst/>
          </a:prstGeom>
          <a:noFill/>
          <a:ln w="0">
            <a:noFill/>
          </a:ln>
        </p:spPr>
        <p:txBody>
          <a:bodyPr anchor="t">
            <a:normAutofit/>
          </a:bodyPr>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00"/>
                </a:solidFill>
                <a:uFillTx/>
                <a:latin typeface="Arial"/>
              </a:rPr>
              <a:t>Структура урока:</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объяснение нового материала, с одновременным объяснением выполнения учащимися задания.</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ы помним, что новая тема разбита от 3-5 часте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599840"/>
            <a:ext cx="7772400" cy="453060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Правила:</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мооценка выставляется на каждом уроке.</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еника, который поставил самооценку 0 - 2 не спрашиваю.</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еник, поставивший себе оценку 3-5, готовится ее защитить.</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мооценка ученика отказавшегося отвечать на вопрос( или если ученик не смог защитить её) – корректируется учителем.</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машнее задание задается в начале урока и поясняется его выполнение.</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ррекция знаний проходит по тем вопросам, которые были заданы в качестве домашнего задания</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ю возможность исправить оценку.</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371600" y="1599840"/>
            <a:ext cx="7772400" cy="45306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нципы:</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мократическая идеология, сотрудничество и партнерство</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ть обучение как производственный процесс, с вытекающими отсюда производственными, трудовыми отношениями, с нормированием труда учащихся, с созданием системы положительных мотиваций и стимулов.</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правления   процессом познавательной деятельности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3716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Учащимся на уроке даётся учебное «производственное» задание, состоящее из нескольких частей. Даются критерии оценки выполнения задания. Выполняя задание, ученик оценивает каждую часть выполненного задания. Выставляет себе оценку своей работы за каждую его часть, причём такую оценку, на которую он претендует и обязуется её защитить при провер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ля эффективного управления учением необходимо</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ть психологические условия и организацию познавательного процесса, способствующего правильной самооценке знаний   учащихся;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правлять достоверностью самооценки;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ть четкую организацию сбора и фиксации самооценок;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овать полученную информацию для полной ликвидации пробелов в знаниях каждого учащегося по изучаемому материал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371600" y="1599840"/>
            <a:ext cx="7772400" cy="45306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Объясняем, что такое самооценка, ее критерии:</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 учебный материал воспроизвести не могу</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 я знаю и понимаю учебный материал, могу воспроизвести при сопровождении преподавателя.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 я умею и выполняю самостоятельно учебную работу по индивидуальной траектории или с .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 я исследую учебную проблему, оформляю итоги индивидуальной работы и представляю (презентую) их публич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3716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яем, что свою самооценку нужно ставить за домашнее задание на перемене перед уроком в «Журнал самооцено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DSC02392"/>
          <p:cNvPicPr/>
          <p:nvPr/>
        </p:nvPicPr>
        <p:blipFill>
          <a:blip r:embed="rId1"/>
          <a:stretch/>
        </p:blipFill>
        <p:spPr>
          <a:xfrm>
            <a:off x="357120" y="1857240"/>
            <a:ext cx="4400640" cy="4680000"/>
          </a:xfrm>
          <a:prstGeom prst="rect">
            <a:avLst/>
          </a:prstGeom>
          <a:ln w="57240">
            <a:solidFill>
              <a:srgbClr val="0000ff"/>
            </a:solidFill>
            <a:miter/>
          </a:ln>
        </p:spPr>
      </p:pic>
      <p:sp>
        <p:nvSpPr>
          <p:cNvPr id="112" name="PlaceHolder 1"/>
          <p:cNvSpPr>
            <a:spLocks noGrp="1"/>
          </p:cNvSpPr>
          <p:nvPr>
            <p:ph/>
          </p:nvPr>
        </p:nvSpPr>
        <p:spPr>
          <a:xfrm>
            <a:off x="4876560" y="1599840"/>
            <a:ext cx="42670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Журнал самооценок»</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33cc33"/>
                </a:solidFill>
                <a:latin typeface="Arial"/>
              </a:rPr>
              <a:t>Дата заняти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Домашнее задание (вопросы, задачи и т.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00"/>
                </a:solidFill>
                <a:latin typeface="Arial"/>
              </a:rPr>
              <a:t>  </a:t>
            </a:r>
            <a:r>
              <a:rPr b="0" lang="ru-RU" sz="2400" spc="-1" strike="noStrike">
                <a:solidFill>
                  <a:srgbClr val="ff9900"/>
                </a:solidFill>
                <a:latin typeface="Arial"/>
              </a:rPr>
              <a:t>Итоговая оценка за уро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Список класс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330033"/>
                </a:solidFill>
                <a:latin typeface="Arial"/>
              </a:rPr>
              <a:t>Самооценки </a:t>
            </a:r>
            <a:endParaRPr b="0" lang="en-US" sz="2400" spc="-1" strike="noStrike">
              <a:solidFill>
                <a:srgbClr val="000000"/>
              </a:solidFill>
              <a:latin typeface="Arial"/>
            </a:endParaRPr>
          </a:p>
        </p:txBody>
      </p:sp>
      <p:sp>
        <p:nvSpPr>
          <p:cNvPr id="113" name="Line 6"/>
          <p:cNvSpPr/>
          <p:nvPr/>
        </p:nvSpPr>
        <p:spPr>
          <a:xfrm flipV="1">
            <a:off x="2627280" y="2204640"/>
            <a:ext cx="2592360" cy="1443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8"/>
          <p:cNvSpPr/>
          <p:nvPr/>
        </p:nvSpPr>
        <p:spPr>
          <a:xfrm flipV="1">
            <a:off x="1979640" y="2781360"/>
            <a:ext cx="2952720" cy="71280"/>
          </a:xfrm>
          <a:prstGeom prst="line">
            <a:avLst/>
          </a:prstGeom>
          <a:ln w="93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 name="Line 9"/>
          <p:cNvSpPr/>
          <p:nvPr/>
        </p:nvSpPr>
        <p:spPr>
          <a:xfrm>
            <a:off x="3132000" y="2708280"/>
            <a:ext cx="1944720" cy="936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84360" y="4076640"/>
            <a:ext cx="43192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flipV="1">
            <a:off x="2124000" y="4508280"/>
            <a:ext cx="3024360" cy="649080"/>
          </a:xfrm>
          <a:prstGeom prst="line">
            <a:avLst/>
          </a:prstGeom>
          <a:ln w="9360">
            <a:solidFill>
              <a:srgbClr val="33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371600" y="1599840"/>
            <a:ext cx="77724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Учащиеся заполняют «Ведомости» в тетради, в которой записываются даты – числа занятий уроков, указываются дни, когда будет осуществлен контроль знаний через «Контрольную», «Зачет» или др., итоговая оценка за четвер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едомость оценок в тетради</a:t>
            </a:r>
            <a:endParaRPr b="0" lang="en-US" sz="4200" spc="-1" strike="noStrike">
              <a:solidFill>
                <a:srgbClr val="330033"/>
              </a:solidFill>
              <a:latin typeface="Times New Roman"/>
            </a:endParaRPr>
          </a:p>
        </p:txBody>
      </p:sp>
      <p:pic>
        <p:nvPicPr>
          <p:cNvPr id="120" name="Picture 5" descr="DSC02515"/>
          <p:cNvPicPr/>
          <p:nvPr/>
        </p:nvPicPr>
        <p:blipFill>
          <a:blip r:embed="rId1">
            <a:lum bright="24000"/>
          </a:blip>
          <a:stretch/>
        </p:blipFill>
        <p:spPr>
          <a:xfrm>
            <a:off x="468360" y="2133720"/>
            <a:ext cx="4103640" cy="3078000"/>
          </a:xfrm>
          <a:prstGeom prst="rect">
            <a:avLst/>
          </a:prstGeom>
          <a:ln w="76320">
            <a:solidFill>
              <a:srgbClr val="0000ff"/>
            </a:solidFill>
            <a:miter/>
          </a:ln>
        </p:spPr>
      </p:pic>
      <p:sp>
        <p:nvSpPr>
          <p:cNvPr id="121"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ты занятий в четверт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раграф, который подлежит оценк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ая оценка за уро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ая оценка за четверть</a:t>
            </a:r>
            <a:endParaRPr b="0" lang="en-US" sz="2400" spc="-1" strike="noStrike">
              <a:solidFill>
                <a:srgbClr val="000000"/>
              </a:solidFill>
              <a:latin typeface="Arial"/>
            </a:endParaRPr>
          </a:p>
        </p:txBody>
      </p:sp>
      <p:sp>
        <p:nvSpPr>
          <p:cNvPr id="122" name="Line 8"/>
          <p:cNvSpPr/>
          <p:nvPr/>
        </p:nvSpPr>
        <p:spPr>
          <a:xfrm flipV="1">
            <a:off x="2843280" y="1844280"/>
            <a:ext cx="2449440" cy="180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1"/>
          <p:cNvSpPr/>
          <p:nvPr/>
        </p:nvSpPr>
        <p:spPr>
          <a:xfrm flipV="1">
            <a:off x="2124000" y="1916280"/>
            <a:ext cx="3168720" cy="107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flipV="1">
            <a:off x="1547640" y="2852280"/>
            <a:ext cx="3672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flipV="1">
            <a:off x="1547640" y="3933360"/>
            <a:ext cx="3311640" cy="14292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4140360" y="3716280"/>
            <a:ext cx="718920" cy="10080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5"/>
          <p:cNvSpPr/>
          <p:nvPr/>
        </p:nvSpPr>
        <p:spPr>
          <a:xfrm>
            <a:off x="3780000" y="2852640"/>
            <a:ext cx="1079280" cy="18716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2T05:34:27Z</dcterms:created>
  <dc:creator>1</dc:creator>
  <dc:description/>
  <dc:language>en-US</dc:language>
  <cp:lastModifiedBy>Ольга</cp:lastModifiedBy>
  <dcterms:modified xsi:type="dcterms:W3CDTF">2013-03-03T08:09:28Z</dcterms:modified>
  <cp:revision>16</cp:revision>
  <dc:subject/>
  <dc:title>Применение технологии Леонова на уроках истории.</dc:title>
</cp:coreProperties>
</file>