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088-FF33-43C1-BD62-41EC613E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7E6-4BDB-4A45-9AD2-91CD5F8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484-6938-4539-8620-7CAF9E67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ED6-0835-4887-9B65-29D65181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35EA-69A7-4C4C-ACEF-0F12F329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609C-007A-4D56-B5A5-FF1BAF3C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463-4472-4037-9BDF-2DBEF38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5642-B55B-4DCC-852C-946453B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998B-9764-4BF3-9E7A-7035AF9B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43B6-C85F-49F1-A24C-A2774E1D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64B-439E-4911-B840-75230A0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865-FDE4-4B6E-9D4F-4D06241F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A32E-E078-47E7-BD57-30BD6B13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F6D8-9C7B-4F64-8E0F-4DF7772F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1832-3663-4299-9871-E36F067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F73A-4A93-449A-8C76-7E556715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9123-2B4C-41B8-A105-57602CC6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8F4-22CD-4B3E-A3C8-5C3563A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36E-3509-4E00-8B9F-78265B5C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111-38E6-4622-BC83-93275F8E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99B-61D9-4126-B391-0CA48605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BF6-D216-4DB1-8519-C9F4C8F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91C-3F8F-4D2C-B0F6-8743012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B81-06CD-411A-B067-A4FDCF3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D9D-68E5-4851-8F3B-EDEEF81CD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0252-D232-4B82-A3DB-34A2C8472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e52"/>
                </a:solidFill>
                <a:latin typeface="Arial"/>
              </a:rPr>
              <a:t>Система оценивания в начальной школе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 класс – безотметочное обу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«Карта успех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Цели ведения «карты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«Карта успеха» вводится для первоклассников и работает на успех ученика, позволяет дифференцированно подойти к оцениванию, формирует самостоятельность и ответствен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«Карта успех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Процедура составления и работы с «картой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На начальном этапе в 1-ом классе вводится словесная оценка за содержательный ответ, интересное высказывание, «умный» вопрос или творческое проявление. По мере того, как у ребят накапливается учебный опыт, определенные знания и умения, им становится мало словесных оценок. Постепенно учителя 1-ых классов вводят разбор ошибок, допущенных учениками, выписывают их на доску, предлагают создать игровую ситуацию. Затем ребенок ищет ошибки в работе соседа по парте, но не ограничивается их исправлением, а обязательно дает совет, о чем нужно вспомнить ученику, допустившему ошибку, какое правило повторить. Далее школьник самостоятельно ищет это правило в учебнике или справочнике. Работа усложняется, и в итоге завершается самооценкой и рекомендациями – «советами самому себ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овместными усилиями разрабатываются и вводятся «карты успеха», на каждую четверть создается отдельная «карта», неусвоенные вопросы и неотработанные умения переносятся в «карту» на другую четверть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6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«Карта успеха» ученика              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(письмо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557360"/>
          <a:ext cx="8540640" cy="4597200"/>
        </p:xfrm>
        <a:graphic>
          <a:graphicData uri="http://schemas.openxmlformats.org/drawingml/2006/table">
            <a:tbl>
              <a:tblPr/>
              <a:tblGrid>
                <a:gridCol w="1944360"/>
                <a:gridCol w="863640"/>
                <a:gridCol w="792360"/>
                <a:gridCol w="863640"/>
                <a:gridCol w="936360"/>
                <a:gridCol w="863640"/>
                <a:gridCol w="792360"/>
                <a:gridCol w="792000"/>
                <a:gridCol w="69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Навыки пис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I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II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V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Копирование с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Размер бук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Наклон бук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Формы бук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обе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Соед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«Карта успеха» ученика              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</a:rPr>
              <a:t>(математика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1680" y="1125360"/>
          <a:ext cx="8518320" cy="5354640"/>
        </p:xfrm>
        <a:graphic>
          <a:graphicData uri="http://schemas.openxmlformats.org/drawingml/2006/table">
            <a:tbl>
              <a:tblPr/>
              <a:tblGrid>
                <a:gridCol w="2182680"/>
                <a:gridCol w="863640"/>
                <a:gridCol w="863640"/>
                <a:gridCol w="720720"/>
                <a:gridCol w="934920"/>
                <a:gridCol w="865440"/>
                <a:gridCol w="718920"/>
                <a:gridCol w="698760"/>
                <a:gridCol w="669600"/>
              </a:tblGrid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Умения и навы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I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II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V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исьмо циф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умерация до 100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пис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авнение чисе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ложение и вычитание круглых десят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ложение двузначного числа с однозначным (без перехода через разряд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Распознавание геометрических фигур на черте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Измерение длин с помощью линей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«Карта успеха» за 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четверть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Условные обозначения:</a:t>
            </a:r>
            <a:br>
              <a:rPr sz="1600"/>
            </a:b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              + - </a:t>
            </a: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знает и умеет принять на практике</a:t>
            </a:r>
            <a:br>
              <a:rPr sz="1600"/>
            </a:br>
            <a:r>
              <a:rPr b="1" i="1" lang="en-US" sz="1600" spc="-1" strike="noStrike">
                <a:solidFill>
                  <a:srgbClr val="1bf33f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знает, но иногда ошибается</a:t>
            </a:r>
            <a:br>
              <a:rPr sz="1600"/>
            </a:b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? – </a:t>
            </a: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самостоятельно не выполняет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773360"/>
          <a:ext cx="8540640" cy="4724280"/>
        </p:xfrm>
        <a:graphic>
          <a:graphicData uri="http://schemas.openxmlformats.org/drawingml/2006/table">
            <a:tbl>
              <a:tblPr/>
              <a:tblGrid>
                <a:gridCol w="1461960"/>
                <a:gridCol w="6193080"/>
                <a:gridCol w="885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Умение и навы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+ </a:t>
                      </a:r>
                      <a:r>
                        <a:rPr b="0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V</a:t>
                      </a:r>
                      <a:r>
                        <a:rPr b="0" i="1" lang="ru-RU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 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Умеет работать самостоятельн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Коммуникативные навык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умеет работать в групп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высказывает свое мнени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выслушивает мнение товарищ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Чт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Темп чтения незнакомого текс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Чтение целыми слова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исать слова с непроверяемыми написани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Находить в предложении подлежащее и сказуемо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Знание таблицы сложения однозначных чис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Знание алгоритма решения зада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Окружающий 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Различать объекты природы и предметы, созданные человек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Различать основные признаки осен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одпись учителя 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одпись родителей 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e19"/>
                </a:solidFill>
                <a:latin typeface="Arial"/>
              </a:rPr>
              <a:t>«Лист самооценки ученик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Цель использ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Работая с этим листом, учитель может определить направление развития и пути работы над возникшими у ребенка проблем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99ff"/>
                </a:solidFill>
                <a:uFillTx/>
                <a:latin typeface="Arial"/>
              </a:rPr>
              <a:t>Процедура и материа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Лист самооценки заполняется в начале изучения темы и в ко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Класс 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Фамилия, имя 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Предмет 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Тема 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Что нового узнал? 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Чему новому научился? 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Чему хотел научиться, но не получилось? 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Почему не получилось? 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Какие проблемы возникли при работе над темой ? 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Пути решения проблем. 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25d4"/>
                </a:solidFill>
                <a:latin typeface="Arial"/>
              </a:rPr>
              <a:t>«Карта успешности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5406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Цель использо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Ученики, неуспешные в учебе, могут быть успешными в других видах деятельности. Чтобы поддержать ситуацию  успеха, учителя изучают, в каких областях ребенок считает себя успешны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Процедура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Ребенку предлагается следующая анке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 В каком из перечисленных видов деятельности ты чувствуешь себя наиболее успешны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Учебная деятельность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Здоров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Спорт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Общ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Личный ро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. Кто заметил твой успе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Род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Учитель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Кто-то ещ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Однокласс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3. Считаешь ли ты себя успешным человеко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Иног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Скорее, да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Н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4. Вспомни и опиши несколькими предложениями свой самый большой успе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5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023b"/>
                </a:solidFill>
                <a:latin typeface="Arial"/>
              </a:rPr>
              <a:t>Безотметочная система оценива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Правила безопасного оценивания (не скупиться на похвалу, хвалить исполнителя, не критиковать исполнение, ставить перед ребенком только конкретные цели, не ставить перед первоклассником несколько целей одновременно и 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Развернутая словесная оценка учителя, иногда письменная, а раз в четверть – письмо ученику и родителям о том, каковы достижения и где следует постараться ещ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Родительские собрания, где на фоне общего сообщения о результатах движения класса родители по лежащим перед ними работам ребенка могут увидеть его движение по сравнению со всем классом; здесь могут быть представлены и анонимные рейтинги контрольных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Индивидуальные беседы с родител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Выставки всех продуктов учебной работы де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Система портфолио (накопление продуктов детской учебной работы, начало которой связано с индивидуальным интересом учащегося, в портфолио фиксируются интересы ребенка и их динамик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Задания, не требующие оценки со стороны, они сами демонстрируют ученику уровень его достиж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Шкалы, отражающие динамику результа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Шкалы, позволяющие видеть перспекти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Рейтинговая контрольная работа, где баллы определяются совместно с детьми, а затем каждый сам может определить результат выпол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Система внеурочных образовательных событий (предметные игры, конкурсы, праздники, творческие экзамены, детские проекты и 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33"/>
                </a:solidFill>
                <a:latin typeface="Arial"/>
              </a:rPr>
              <a:t>Новые формы оценивания учебных достижений школьнико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ртфель»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Рефлексивная карта»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рта успеха»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Лист самооценки учени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0f9"/>
                </a:solidFill>
                <a:latin typeface="Arial"/>
              </a:rPr>
              <a:t>«Портфель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88640"/>
            <a:ext cx="8540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1b8d"/>
                </a:solidFill>
                <a:uFillTx/>
                <a:latin typeface="Arial"/>
              </a:rPr>
              <a:t>Цели составления «портфеля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Для учи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а) выявление уровня владения умениями и навы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б) выявление пробелов в подгото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Для ребе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а) выработка положительной мотивации и интереса к уче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б) развитие самоанализа и самооце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2dfd"/>
                </a:solidFill>
                <a:latin typeface="Arial"/>
              </a:rPr>
              <a:t>«Портфель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9fcf"/>
                </a:solidFill>
                <a:uFillTx/>
                <a:latin typeface="Arial"/>
              </a:rPr>
              <a:t>Процедура составления «портфеля»</a:t>
            </a: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 проста. Материал для оценивания собирают сами дети, обсуждая его с учителями и родителями. Отдельные элементы «портфеля» переходят вместе с учеником из года в 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В ходе совместного обсуждения с учениками определяется, из каких элементов будет состоять «портфель», как он будет выглядеть. Например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Письмо владельца «портфеля», в котором отражена цель его созд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Оглавл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Работы учащего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Самоанализ работы за 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Содержательная характеристика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Работы, которые ученик считает лучш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Результаты тестов, проверочных рабо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Образцы изобразительного творч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Схемы индивидуальных и групповых прое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Формы, образцы оформления результатов проек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ef9"/>
                </a:solidFill>
                <a:latin typeface="Arial"/>
              </a:rPr>
              <a:t>«Портфель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Весь материал ученик собирает в папку с прозрачными файлами, которая будет храниться у него. Каждая работа, включенная в «портфель», снабжена листом самооценки выполнения зад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ff66"/>
                </a:solidFill>
                <a:uFillTx/>
                <a:latin typeface="Arial"/>
              </a:rPr>
              <a:t>Формы оценки «портфеля»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 каждый ученик определяет для себя сам. Это может быть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Публичная презентация в конце четверти, года (она может проходить на классном часе, родительском собр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Выставка «портфелей» (по желанию учащихс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ff66"/>
                </a:solidFill>
                <a:uFillTx/>
                <a:latin typeface="Arial"/>
              </a:rPr>
              <a:t>Критерии оценки «портфеля»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 также определяются индивидуаль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творчест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факторы, отражающие развитие ребенка (учебная самостоятельность и активность, умение учиться, самоконтроль и самооценка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понимание и полнота отражения учебного матери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ff66"/>
                </a:solidFill>
                <a:uFillTx/>
                <a:latin typeface="Arial"/>
              </a:rPr>
              <a:t>Предварительные результаты: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 работа по технологии «портфеля» позволяет учител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Оценивать уровень самостоятельности де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Выявить проблемы формирования самооценки учащего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Определить преобладающую мотивацию ребен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Оценить уровень владения умениями и навы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f341"/>
                </a:solidFill>
                <a:latin typeface="Arial"/>
              </a:rPr>
              <a:t>«Рефлексивная карт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Цели составления «рефлексивной карты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Для учителя – это средство оцени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а) интеллектуальных, коммуникативных проявлений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б) уровня овладения предметными знаниями, умениями, навы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- Для ребенка «рефлексивная карта» помог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а) сформировать умения словесно оценивать свою работу, сравнивать с образцом или результатами предыдущей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б) дать представление о конкретных умениях и навыках, которые должны быть сформирова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в) выработать потребность в организации своего тру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«Рефлексивная карт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Процедура составления и работы с «картой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«Рефлексивная карта» представляет собой листы плотной бумаги, которые вклеиваются в дневник ученика. В ней отмечены предметные умения и навыки, которые дети должны приобрести в процессе обучения, а также коммуникативные умения и личностное развитие ребенка. Набор рубрик, вносимых в «карту», составляется учителем. Еженедельно, ежемесячно или по четвертям ученик и учитель в соответствующих графах  ставят условные зна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Ученик (самооценка) став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! – знаю или умею очень хорош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* - иногда ошибаюс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? – пока самостоятельно не выполня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Учитель (оценка) став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+ - знает, умеет применять на практи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* - знает, но иногда ошиба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? – пока испытывает труд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Самооценка ученика предшествует оценке учителя. Учитель либо соглашается с ней, либо вносит коррективы. Отметки первоначально делаются карандашом, затем выделяются ярким цветом (особенно успех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В конце учебного года «карта» будет вложена в «портфель» ученика, в раздел «Мои достижения по предметам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fc6e"/>
                </a:solidFill>
                <a:latin typeface="Arial"/>
              </a:rPr>
              <a:t>«Рефлексивная карт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Предварительные результа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«Рефлексивная карта» дает возможность учителю контролировать процесс овладения учащимися определенными умениями и навыками, вовремя выявить затруднения и оказать необходимую помощь. Родители после ознакомления с «Рефлексивной картой», как показал опыт, проявляют больший интерес и начинают внимательнее относиться к учебному труду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Возможные риски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Работа с «картой» может стать формальной, если не приучать детей к самоанали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Заполнение «карт» будет трудоемким, если работа ведется несистематичес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Очень важна разъяснительная работа с родителями. Родитель, не понимающий учителя, превращается в недру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2:01:42Z</dcterms:created>
  <dc:creator>User</dc:creator>
  <dc:description/>
  <dc:language>en-US</dc:language>
  <cp:lastModifiedBy>User</cp:lastModifiedBy>
  <dcterms:modified xsi:type="dcterms:W3CDTF">2004-05-19T11:50:51Z</dcterms:modified>
  <cp:revision>6</cp:revision>
  <dc:subject/>
  <dc:title>Система оценивания в начальной школе</dc:title>
</cp:coreProperties>
</file>