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7BEE-DF21-438D-AC17-C8870DCC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37BA-F9CC-4BC7-B773-B3D8C3C7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2952-4DC2-4732-9039-2C79A3EC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64AE-17F2-4D98-A298-D756F5EE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8C4F-5FC3-4C70-A349-8F109049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591A-D5E9-46DF-812B-F49BDA98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CF42-B61C-4C28-AB04-6FD58B24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6126-4E9F-4E55-8183-4C1DC41B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A3B0-9BA3-4B01-A634-7A1DB863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3B56-4BCA-46F6-9719-5496A3BC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A26E-1976-433C-B45D-4F91CF4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57E8-E0DA-408F-A877-FF6C65FC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6A55-E89B-4647-87D6-ACDBEB9F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BE8E-0429-4FB8-BC96-28E4E6A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72ED-95B7-4124-9128-0B5B6A47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2E45-4689-4535-AFAC-F25C1C0A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D957-0074-4B9E-A550-11A02A10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D6BF-C1A4-47E8-8FE7-21D3EAC0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E716-12B3-45D1-BB2B-02B95506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C62A-6755-432F-BDB6-78846FD0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176F-3AA4-4ECC-9142-2C956966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51782-46BA-4705-B0A3-85FA6DEE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731E-AE24-4FA1-8A9D-78B740AB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509A-9115-4B08-9A00-526CF118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DD9C-D0F8-41E9-A751-738E852C01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5FFB-55BB-4F48-AE5A-77B43120AE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kaz-pushkina.ru/kadr/pb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kaz-pushkina.ru/kadr/pb6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kaz-pushkina.ru/kadr/pb1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skaz-pushkina.ru/kadr/pb16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skaz-pushkina.ru/kadr/pb19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kaz-pushkina.ru/kadr/pb26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kaz-pushkina.ru/kadr/pb27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kaz-pushkina.ru/kadr/pb32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27280" y="1773360"/>
            <a:ext cx="5473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азка о поп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работнике его Балд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505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смеялся Балда лука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ты это выдумал, пра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де тебе тягаться со мн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 мною, с самим Балдо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ого послали супоста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ожди-ка моего меньшого брата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Сказки Пушкина. Где тебе тягаться со мною, со мною, с самим Балдою?"/>
          <p:cNvPicPr/>
          <p:nvPr/>
        </p:nvPicPr>
        <p:blipFill>
          <a:blip r:embed="rId1"/>
          <a:stretch/>
        </p:blipFill>
        <p:spPr>
          <a:xfrm>
            <a:off x="5219640" y="2708280"/>
            <a:ext cx="3600360" cy="2338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48320" y="1980720"/>
            <a:ext cx="403848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92000" y="620280"/>
            <a:ext cx="565164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шел Балда в ближний лес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ймал двух зайков, да в меш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морю опять он приход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оря бесенка на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жит Балда за уши одного зай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ляши-тка ты под нашу балалай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, бесенок, еще молоден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мною тягаться слабен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было б лишь времени т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гони-ка сперва моего б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, два, три! догоняй-ка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Сказки Пушкина. Обгони-ка сперва моего брата."/>
          <p:cNvPicPr/>
          <p:nvPr/>
        </p:nvPicPr>
        <p:blipFill>
          <a:blip r:embed="rId1"/>
          <a:stretch/>
        </p:blipFill>
        <p:spPr>
          <a:xfrm>
            <a:off x="0" y="2314440"/>
            <a:ext cx="32050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ились бесенок и зай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енок по берегу морск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зайка в лесок до д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, море кругом обежав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унув язык, мордку подняв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ежал бесенок, задыхая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мокрешенек, лапкой утирая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сля: дело с Балдою сла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Сказки Пушкина. Пустились бесенок и зайка"/>
          <p:cNvPicPr/>
          <p:nvPr/>
        </p:nvPicPr>
        <p:blipFill>
          <a:blip r:embed="rId1"/>
          <a:stretch/>
        </p:blipFill>
        <p:spPr>
          <a:xfrm>
            <a:off x="4648320" y="2611440"/>
            <a:ext cx="40384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ядь — а Балда братца глад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говаривая: „Братец мой любим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л, бедняжка! отдохни, родимый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енок отороп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остик поджал, совсем присмир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братца поглядывает б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годи, — говорит, — схожу за оброком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ел к деду, говорит: „Бе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гнал меня меньшой Балда!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Сказки Пушкина. Глядь — а Балда братца гладит..."/>
          <p:cNvPicPr/>
          <p:nvPr/>
        </p:nvPicPr>
        <p:blipFill>
          <a:blip r:embed="rId1"/>
          <a:stretch/>
        </p:blipFill>
        <p:spPr>
          <a:xfrm>
            <a:off x="5195880" y="2317680"/>
            <a:ext cx="34704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5761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рый Бес стал тут думать д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Балда наделал такого шу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всё море смут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олнами так и расход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лез бесенок: „Полно, мужич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шлем тебе весь оброк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ько слушай. Видишь ты палку э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ери себе любую 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далее палку брос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т пускай и оброк уно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ж? боишься вывихнуть ру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го ты ждешь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жду вон этой туч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швырну туда твою пал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и начну с вами, чертями, свалку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Сказки Пушкина. Беда! Обогнал меня меньшой Балда!"/>
          <p:cNvPicPr/>
          <p:nvPr/>
        </p:nvPicPr>
        <p:blipFill>
          <a:blip r:embed="rId1"/>
          <a:stretch/>
        </p:blipFill>
        <p:spPr>
          <a:xfrm>
            <a:off x="5824440" y="2637000"/>
            <a:ext cx="33195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77058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угался бесенок да к де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ывать про Балдову побе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Балда над морем опять шум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чертям веревкой гроз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лез опять бесенок: „Что ты хлопоч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тебе оброк, коли захочешь..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, говорит Балда: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моя чере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сам назнач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м тебе, враженок,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м, какова у тебя с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ишь, там сивая кобы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былу подыми-тка 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неси ее полвер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есешь кобылу, оброк уж тв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несешь кобылы, ан будет он мой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Сказки Пушкина. Этого провести не штука!"/>
          <p:cNvPicPr/>
          <p:nvPr/>
        </p:nvPicPr>
        <p:blipFill>
          <a:blip r:embed="rId1"/>
          <a:stretch/>
        </p:blipFill>
        <p:spPr>
          <a:xfrm>
            <a:off x="5364000" y="2997360"/>
            <a:ext cx="274644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дненькой б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кобылу подле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атужи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апружи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поднял кобылу, два шага шагну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ретьем упал, ножки протян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Сказки Пушкина. Бедненький бес Под кобылу подлез..."/>
          <p:cNvPicPr/>
          <p:nvPr/>
        </p:nvPicPr>
        <p:blipFill>
          <a:blip r:embed="rId1"/>
          <a:stretch/>
        </p:blipFill>
        <p:spPr>
          <a:xfrm>
            <a:off x="457200" y="2611440"/>
            <a:ext cx="40384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Балда ему: „Глупый ты б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да ж ты за нами поле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уками-то снести не см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я, смотри, снесу промеж ног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 Балда на кобылку верьх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версту проскакал, так что пыль стол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Сказки Пушкина. А я, смотри, снесу промеж ног."/>
          <p:cNvPicPr/>
          <p:nvPr/>
        </p:nvPicPr>
        <p:blipFill>
          <a:blip r:embed="rId1"/>
          <a:stretch/>
        </p:blipFill>
        <p:spPr>
          <a:xfrm>
            <a:off x="4648320" y="2611440"/>
            <a:ext cx="40384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19640" y="1557360"/>
            <a:ext cx="497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угался бесенок и к де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шел рассказывать про такую поб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и стали в круж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ть нечего — собрали полный об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на Балду взвалили меш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т Балда, покряки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п, завидя Балду, вскаки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попадью пряч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страху коряч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b57" descr="Сказки Пушкина. За попадью прячется, Со страху корячится"/>
          <p:cNvPicPr/>
          <p:nvPr/>
        </p:nvPicPr>
        <p:blipFill>
          <a:blip r:embed="rId1"/>
          <a:stretch/>
        </p:blipFill>
        <p:spPr>
          <a:xfrm>
            <a:off x="0" y="2276640"/>
            <a:ext cx="30481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48320" y="9079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да его тут отыск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дал обр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ты требовать с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дный п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ставил л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ервого щ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ыгнул поп до потол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 второго щ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шился поп язы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с третьего щ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шибло ум у ста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Балда приговаривал с укориз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гонялся бы ты, поп, за дешевизной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Сказки Пушкина. Бедный поп Подставил лоб"/>
          <p:cNvPicPr/>
          <p:nvPr/>
        </p:nvPicPr>
        <p:blipFill>
          <a:blip r:embed="rId1"/>
          <a:stretch/>
        </p:blipFill>
        <p:spPr>
          <a:xfrm>
            <a:off x="457200" y="2611440"/>
            <a:ext cx="4038480" cy="2624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Сказки Пушкина. Не гонялся бы ты, поп, за дешевизной"/>
          <p:cNvPicPr/>
          <p:nvPr/>
        </p:nvPicPr>
        <p:blipFill>
          <a:blip r:embed="rId2"/>
          <a:stretch/>
        </p:blipFill>
        <p:spPr>
          <a:xfrm>
            <a:off x="468360" y="404640"/>
            <a:ext cx="25909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л-был поп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оконный л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ел поп по баз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еть кой-какого тов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встречу ему Бал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т, сам не зная к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, батька, так рано поднял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го ты взыскался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 ему в ответ: „Нужен мне работн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ар, конюх и плот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где найти мне та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ужителя не слишком дорогого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да говорит: „Буду служить тебе слав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ердно и очень исправ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од за три щелка тебе по лб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же мне давай вареную полбу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Сказки Пушкина. Пошел поп по базару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33360"/>
            <a:ext cx="3710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адумался поп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 себе почесывать л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к щелку ведь ро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понадеялся он на русской ав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 говорит Балде: „Ла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будет нам обоим накла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иви-ка на моем подвор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жи свое усердие и проворье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Сказки Пушкина. На встречу ему Балда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4076640"/>
            <a:ext cx="33544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Сказки Пушкина. До светла всё у него пляшет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7560" y="2565360"/>
            <a:ext cx="2786040" cy="1887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48000" y="981000"/>
            <a:ext cx="56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вет Балда в поповом дом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т себе на солом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 за четвер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ет за семер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светла всё у него пляш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шадь запряжет, полосу вспаш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чь затопит, всё заготовит, закуп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ичко испечет да сам и облуп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адья Балдой не нахвал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овна о Балде лишь и печал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енок зовет его тя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шу заварит, нянчится с дитя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Сказки Пушкина. Спит себе на соломе..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0"/>
            <a:ext cx="2881440" cy="216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Сказки Пушкина. Попенок зовет его тятей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4618080"/>
            <a:ext cx="29527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поп один Балду не люб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его не приголуб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расплате думает частень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идет, и срок уж близень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 ни ест, ни пьет, ночи не сп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б у него заране трещ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 попадье призн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и так: что делать остается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 у бабы догадл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сякие хитрости повадл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дья говорит: „Знаю сред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далить от нас такое бед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ажи Балде службу, чтоб стало ему не в моч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ребуй, чтоб он ее исполнил точь-в-т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 ты и лоб от расправы избав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алду-то без расплаты отправишь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Сказки Пушкина.Закажи Балде службу, чтоб стало ему не в мочь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844640"/>
            <a:ext cx="360036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о на сердце попа веселе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 он глядеть на Балду посме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он кричит: „Поди-ка сю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ый мой работник Бал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ушай: платить обязались ч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е оброк по самой моей смер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чшего б не надобно дох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есть на них недоимки за три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ешься ты своей пол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ери-ка с чертей оброк мне полный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Сказки Пушкина. Начал он глядеть на Балду посмелее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349360"/>
            <a:ext cx="324180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627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да, с попом понапрасну не спор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ел, сел у берега мор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м он стал веревку крут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конец ее в море мо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из моря вылез старый Бе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чем ты, Балда, к нам залез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Сказки Пушкина. Скажи, за что такая немилость?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492280"/>
            <a:ext cx="35244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6920" y="1412640"/>
            <a:ext cx="7199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вот веревкой хочу море морщ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вас, проклятое племя, корчить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а старого взяла тут уны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жи, за что такая немилость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за что? Вы не плотите обр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мните положеного с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ужо будет нам поте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, собакам, великая помеха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´лдушка, погоди ты морщить м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ок сполна ты получишь вск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годи, вышлю к тебе внука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да мыслит: „Этого провести не штука!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нырнул подосланный бесе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яукал он как голодный котен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равствуй, Балда мужич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тебе надобен обр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 оброке век мы не слых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было чертям такой печ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у, так и быть — возьми, да с уговор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общего нашего приговору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впредь не было никому го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скорее из нас обежит около мор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т и бери себе полный об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 тем там приготовят мешок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Сказки Пушкина. Замяукал он как голодный котенок..."/>
          <p:cNvPicPr/>
          <p:nvPr/>
        </p:nvPicPr>
        <p:blipFill>
          <a:blip r:embed="rId1"/>
          <a:stretch/>
        </p:blipFill>
        <p:spPr>
          <a:xfrm>
            <a:off x="5651640" y="836640"/>
            <a:ext cx="30589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3:30:24Z</dcterms:created>
  <dc:creator>Admin</dc:creator>
  <dc:description/>
  <dc:language>en-US</dc:language>
  <cp:lastModifiedBy>Admin</cp:lastModifiedBy>
  <dcterms:modified xsi:type="dcterms:W3CDTF">2011-10-19T16:32:47Z</dcterms:modified>
  <cp:revision>9</cp:revision>
  <dc:subject/>
  <dc:title>Слайд 1</dc:title>
</cp:coreProperties>
</file>