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4D5A-7047-4F5E-8BE2-5B5AD7A7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BDF0-FB5E-466B-AA37-ED32C28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1164-F0AE-4750-8B9E-0F04982E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E08D-9D0C-4BFD-81D8-5D0280B5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40CE-3E76-4828-AF70-3FC2FFEE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AFD7-6EB7-403C-9F96-7BAB43B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F20-FEE8-4D60-B251-3B324152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F8B-4DBE-48BC-A1C8-DDB64D4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CF67-D9D7-4452-9A8C-153BECD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11E2-8862-4988-9D63-7AFE006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91A-8F15-4463-8EE3-FC8F5AA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8958-4B11-498E-A8A0-49A779C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B4A-8689-4C07-B86E-9396A5A8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DDE-3851-4785-99C3-4BA5B7D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049-DBA1-4D0C-87CE-5535AF05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631F-13EA-4DF1-BC55-2A81D9E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53D-A150-4203-AE23-E3905EBE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C665-7D93-4672-99F9-615C4431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125B-BD88-4DEB-A6F5-675ABCF4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32BF-0074-45EF-8947-B61A6C9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F41D-800E-4B3E-9B5A-85093DFD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033F-071C-4C87-80CA-6AE07CB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3958-65A4-4426-ABBC-75080ED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A02A-DA84-47B5-A670-EBF470E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B2E-C955-4DE5-8DCE-D86769907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997F-8C58-4118-80E5-6C03D4E71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1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kaz-pushkina.ru/kadr/pb16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skaz-pushkina.ru/kadr/pb19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2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2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kaz-pushkina.ru/kadr/pb3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27280" y="1773360"/>
            <a:ext cx="5473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 о поп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работнике его Балд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05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меялся Балда лука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ы это выдумал, пра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тебе тягаться со мн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 мною, с самим Балдо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го послали супоста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ожди-ка моего меньшого брата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Сказки Пушкина. Где тебе тягаться со мною, со мною, с самим Балдою?"/>
          <p:cNvPicPr/>
          <p:nvPr/>
        </p:nvPicPr>
        <p:blipFill>
          <a:blip r:embed="rId1"/>
          <a:stretch/>
        </p:blipFill>
        <p:spPr>
          <a:xfrm>
            <a:off x="5219640" y="2708280"/>
            <a:ext cx="3600360" cy="2338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620280"/>
            <a:ext cx="5651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л Балда в ближний лес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ймал двух зайков, да в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рю опять он при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оря бесенка на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ит Балда за уши одного зай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ляши-тка ты под нашу балалай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, бесенок, еще молоден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мною тягаться слабен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было б лишь времени т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гони-ка сперва моего б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, два, три! догоняй-к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Сказки Пушкина. Обгони-ка сперва моего брата."/>
          <p:cNvPicPr/>
          <p:nvPr/>
        </p:nvPicPr>
        <p:blipFill>
          <a:blip r:embed="rId1"/>
          <a:stretch/>
        </p:blipFill>
        <p:spPr>
          <a:xfrm>
            <a:off x="0" y="2314440"/>
            <a:ext cx="32050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ились бесенок и зай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нок по берегу морск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айка в лесок до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, море кругом обежав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унув язык, мордку подняв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ежал бесенок, задыхая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мокрешенек, лапкой утирая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сля: дело с Балдою сла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Сказки Пушкина. Пустились бесенок и зайка"/>
          <p:cNvPicPr/>
          <p:nvPr/>
        </p:nvPicPr>
        <p:blipFill>
          <a:blip r:embed="rId1"/>
          <a:stretch/>
        </p:blipFill>
        <p:spPr>
          <a:xfrm>
            <a:off x="464832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ядь — а Балда братца гла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варивая: „Братец мой люби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л, бедняжка! отдохни, родимы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нок отороп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стик поджал, совсем присмир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ратца поглядывает б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и, — говорит, — схожу за оброком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 к деду, говорит: „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гнал меня меньшой Балда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Сказки Пушкина. Глядь — а Балда братца гладит..."/>
          <p:cNvPicPr/>
          <p:nvPr/>
        </p:nvPicPr>
        <p:blipFill>
          <a:blip r:embed="rId1"/>
          <a:stretch/>
        </p:blipFill>
        <p:spPr>
          <a:xfrm>
            <a:off x="5195880" y="2317680"/>
            <a:ext cx="34704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5761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ый Бес стал тут думать д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Балда наделал такого шу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всё море сму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олнами так и расход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лез бесенок: „Полно, мужи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лем тебе весь оброк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слушай. Видишь ты палку э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 себе любую 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далее палку брос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пускай и оброк у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ж? боишься вывихнуть р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го ты ждешь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жду вон этой туч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швырну туда твою па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и начну с вами, чертями, свалку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Сказки Пушкина. Беда! Обогнал меня меньшой Балда!"/>
          <p:cNvPicPr/>
          <p:nvPr/>
        </p:nvPicPr>
        <p:blipFill>
          <a:blip r:embed="rId1"/>
          <a:stretch/>
        </p:blipFill>
        <p:spPr>
          <a:xfrm>
            <a:off x="5824440" y="2637000"/>
            <a:ext cx="33195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77058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угался бесенок да к д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про Балдову поб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алда над морем опять шум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чертям веревкой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ез опять бесенок: „Что ты хлопоч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тебе оброк, коли захочешь..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, говорит Балда: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моя чер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сам назна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м тебе, враженок,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м, какова у тебя с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шь, там сивая кобы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ылу подыми-тка 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неси ее полвер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сешь кобылу, оброк уж т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несешь кобылы, ан будет он мо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Сказки Пушкина. Этого провести не штука!"/>
          <p:cNvPicPr/>
          <p:nvPr/>
        </p:nvPicPr>
        <p:blipFill>
          <a:blip r:embed="rId1"/>
          <a:stretch/>
        </p:blipFill>
        <p:spPr>
          <a:xfrm>
            <a:off x="5364000" y="2997360"/>
            <a:ext cx="274644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дненькой 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обылу подле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ту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пру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поднял кобылу, два шага шагн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ретьем упал, ножки протя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Сказки Пушкина. Бедненький бес Под кобылу подлез..."/>
          <p:cNvPicPr/>
          <p:nvPr/>
        </p:nvPicPr>
        <p:blipFill>
          <a:blip r:embed="rId1"/>
          <a:stretch/>
        </p:blipFill>
        <p:spPr>
          <a:xfrm>
            <a:off x="45720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Балда ему: „Глупый ты б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да ж ты за нами поле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уками-то снести не см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я, смотри, снесу промеж ног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 Балда на кобылку верьх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ерсту проскакал, так что пыль стол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Сказки Пушкина. А я, смотри, снесу промеж ног."/>
          <p:cNvPicPr/>
          <p:nvPr/>
        </p:nvPicPr>
        <p:blipFill>
          <a:blip r:embed="rId1"/>
          <a:stretch/>
        </p:blipFill>
        <p:spPr>
          <a:xfrm>
            <a:off x="4648320" y="2611440"/>
            <a:ext cx="4038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19640" y="1557360"/>
            <a:ext cx="497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угался бесенок и к д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л рассказывать про такую поб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и стали в круж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ть нечего — собрали полный об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на Балду взвалили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т Балда, покряк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п, завидя Балду, вскак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падью пряч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страху коря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b57" descr="Сказки Пушкина. За попадью прячется, Со страху корячится"/>
          <p:cNvPicPr/>
          <p:nvPr/>
        </p:nvPicPr>
        <p:blipFill>
          <a:blip r:embed="rId1"/>
          <a:stretch/>
        </p:blipFill>
        <p:spPr>
          <a:xfrm>
            <a:off x="0" y="2276640"/>
            <a:ext cx="30481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48320" y="90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 его тут отыск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ал обр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ы требовать 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дный п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тавил л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ерво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нул поп до пот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второ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шился поп яз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с третьего щ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ибло ум у ста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Балда приговаривал с укориз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гонялся бы ты, поп, за дешевизной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Сказки Пушкина. Бедный поп Подставил лоб"/>
          <p:cNvPicPr/>
          <p:nvPr/>
        </p:nvPicPr>
        <p:blipFill>
          <a:blip r:embed="rId1"/>
          <a:stretch/>
        </p:blipFill>
        <p:spPr>
          <a:xfrm>
            <a:off x="457200" y="2611440"/>
            <a:ext cx="4038480" cy="2624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Сказки Пушкина. Не гонялся бы ты, поп, за дешевизной"/>
          <p:cNvPicPr/>
          <p:nvPr/>
        </p:nvPicPr>
        <p:blipFill>
          <a:blip r:embed="rId2"/>
          <a:stretch/>
        </p:blipFill>
        <p:spPr>
          <a:xfrm>
            <a:off x="468360" y="404640"/>
            <a:ext cx="25909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л-был п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оконный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 поп по баз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еть кой-какого тов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стречу ему Бал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т, сам не зная к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, батька, так рано подня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го ты взыскался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 ему в ответ: „Нужен мне работ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, конюх и пло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где найти мне та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ителя не слишком дорогого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 говорит: „Буду служить тебе слав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ердно и очень исправ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од за три щелка тебе по лб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же мне давай вареную полбу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Сказки Пушкина. Пошел поп по базару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710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адумался п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 себе почесывать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 щелку ведь ро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понадеялся он на русской ав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 говорит Балде: „Ла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удет нам обоим накла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иви-ка на моем подвор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жи свое усердие и проворье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Сказки Пушкина. На встречу ему Балда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4076640"/>
            <a:ext cx="33544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Сказки Пушкина. До светла всё у него пляшет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7560" y="2565360"/>
            <a:ext cx="2786040" cy="1887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48000" y="98100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вет Балда в поповом до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т себе на соло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 за четвер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ет за семер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светла всё у него пля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шадь запряжет, полосу вспаш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ь затопит, всё заготовит, закуп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ичко испечет да сам и облу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дья Балдой не нахвал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овна о Балде лишь и печал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енок зовет его тя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шу заварит, нянчится с дитя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Сказки Пушкина. Спит себе на соломе..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0"/>
            <a:ext cx="28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Сказки Пушкина. Попенок зовет его тятей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618080"/>
            <a:ext cx="2952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поп один Балду не люб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его не приголуб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асплате думает частень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идет, и срок уж близень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 ни ест, ни пьет, ночи не сп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 у него заране трещ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попадье призн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так: что делать остается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 у бабы догадл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сякие хитрости повадл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ья говорит: „Знаю сред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далить от нас такое бед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ажи Балде службу, чтоб стало ему не в 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ребуй, чтоб он ее исполнил точь-в-т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ты и лоб от расправы избав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алду-то без расплаты отправишь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Сказки Пушкина.Закажи Балде службу, чтоб стало ему не в мочь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844640"/>
            <a:ext cx="3600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о на сердце попа весел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 он глядеть на Балду посме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он кричит: „Поди-ка сю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ый мой работник Бал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й: платить обязались ч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оброк по самой моей смер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его б не надобно д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есть на них недоимки за тр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ешься ты своей пол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ери-ка с чертей оброк мне полный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Сказки Пушкина. Начал он глядеть на Балду посмелее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349360"/>
            <a:ext cx="32418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да, с попом понапрасну не сп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ел, сел у берега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он стал веревку кру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конец ее в море мо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из моря вылез старый Бе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ты, Балда, к нам залез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Сказки Пушкина. Скажи, за что такая немилость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492280"/>
            <a:ext cx="35244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6920" y="1412640"/>
            <a:ext cx="719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от веревкой хочу море морщ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вас, проклятое племя, корчить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а старого взяла тут уны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и, за что такая немилость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за что? Вы не плотите обр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мните положеного с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ужо будет нам пот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, собакам, великая помех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´лдушка, погоди ты морщить м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ок сполна ты получишь вск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и, вышлю к тебе внука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да мыслит: „Этого провести не штука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нырнул подосланный бес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яукал он как голодный кот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, Балда мужич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тебе надобен об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броке век мы не слых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ыло чертям такой печ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, так и быть — возьми, да с угово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общего нашего приговору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предь не было никому г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скорее из нас обежит около м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и бери себе полный об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тем там приготовят мешок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Сказки Пушкина. Замяукал он как голодный котенок..."/>
          <p:cNvPicPr/>
          <p:nvPr/>
        </p:nvPicPr>
        <p:blipFill>
          <a:blip r:embed="rId1"/>
          <a:stretch/>
        </p:blipFill>
        <p:spPr>
          <a:xfrm>
            <a:off x="5651640" y="836640"/>
            <a:ext cx="30589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3:30:24Z</dcterms:created>
  <dc:creator>Admin</dc:creator>
  <dc:description/>
  <dc:language>en-US</dc:language>
  <cp:lastModifiedBy>Admin</cp:lastModifiedBy>
  <dcterms:modified xsi:type="dcterms:W3CDTF">2011-10-19T16:32:47Z</dcterms:modified>
  <cp:revision>9</cp:revision>
  <dc:subject/>
  <dc:title>Слайд 1</dc:title>
</cp:coreProperties>
</file>