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E19-0289-4EB6-8AE3-0AF41ACB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F56-8A51-4684-B1D3-A3D7E7D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D80-E446-42F6-9995-16F2A0AA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F2B-D690-4E08-9A51-55B41E75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5B0-BB6F-4A18-AFDB-4DD9B9C4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EF61-461A-4F48-934C-D06C64D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B456-794B-4FD7-9016-BA21438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0827-687A-4FF0-ADC7-D8B1FA1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D8E0-9D98-4D13-AF0D-0342953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3F2-CE30-43D8-8C2B-0699012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C07-74C0-4DC6-A75E-1E9784F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2E9-1DF9-41D6-A1B3-E741DF7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993D-9F87-4564-B32D-F9791BA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B8B4-2E12-44C9-B5FB-B713F72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6520-57D5-4239-A07A-FB5F12E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565-23B1-47CE-A140-590ABB81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C1F-083C-41CC-A435-1999C163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F44-03AF-46D4-8B3A-C592F9F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FDF-A519-44A7-9EFD-BAF23EA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0D0-7F3B-40EC-AD9A-2B84AE8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062-FA67-41E1-BC89-B2BCD907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78E-499E-4A37-8657-1D43430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1CD-F7A2-4CB3-B0C9-A905F03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EF3-C46B-4B74-917E-69921E03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77C-4788-4E65-A71F-FFC9D0835F56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254A-E831-4321-AD66-BF7D689C155A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вместная деятельность логопеда, воспитателя и родител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76720" y="566100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ДОУ д/с"№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Белочк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Картинка 83 из 161673"/>
          <p:cNvPicPr/>
          <p:nvPr/>
        </p:nvPicPr>
        <p:blipFill>
          <a:blip r:embed="rId1"/>
          <a:stretch/>
        </p:blipFill>
        <p:spPr>
          <a:xfrm>
            <a:off x="539640" y="3933720"/>
            <a:ext cx="24814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Формы родительских собраний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1915920"/>
            <a:ext cx="76932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ческое (традицион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ческая мастер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онно - деятельностая, деловая, ролевая 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или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ыш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ску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н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лый ст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ер – встре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52120" y="566280"/>
            <a:ext cx="774396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Родительское собрание в форме педагогической мастерской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«Играем вместе»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24792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5184720" cy="388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5761080" cy="432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627280" y="1916280"/>
            <a:ext cx="630072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2764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Выставки с участием родителей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5424480" cy="40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5124240" cy="384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4836960" cy="3627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6193080" cy="46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50920" y="1859040"/>
            <a:ext cx="82087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0160" y="472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ые досуги с родителями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5268960" cy="3951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6337440" cy="47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24360" y="2276640"/>
            <a:ext cx="50529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332000" y="1628640"/>
            <a:ext cx="684036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зентацию подготовил воспитатель логопедической группы МДОУ д/с№8 «Белочка» Поспелова Т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ая деятельность логопеда и воспитателя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ное составление перспективного планирования на текущий период по всем направлени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уждение и выбор форм, методов и приемов коррекционно – развивающе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ащение развивающего предметного пространства в групповом помещ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посещение занятий и совместное проведение интегрированных комплексных зан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женедельные задания логопеда воспитател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Логопед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зывает лексические темы на месяц в начале каждого месяц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лексикон по каждой тем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цели и задачи коррекционной раб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яет фамилии детей, которым воспитатель должен уделять особое внимание в первую очере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Еженедельные задания логопеда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гопедические пятимину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вижные игры и пальчиковую гимнасти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дивидуальн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омендации по подбору художественной литературы и иллюстрацио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Логопедические пятиминутки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риал по развитию лексики, грамматики, фонетики, связной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закреплению или дифференциации поставленных зву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развитию навыков звукового и слогового анализа и си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о развитию фонематических представлений и неречевых психических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торение и закрепление материала, отработанного с детьми логопе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Подвижные игры, упражнения, пальчиковая гимнастика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общей и тонкой мотор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ординация движе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ординация речи с 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ие подражательных и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4869000"/>
            <a:ext cx="69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ются: физкультминутки на занятия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вижные игры на прогулке или в свободное время во в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овине д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Воспитатель</a:t>
            </a:r>
            <a:br>
              <a:rPr sz="3200"/>
            </a:b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дагогическое обследование детей по всем видам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ледование состояния мелкой мотор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ет перспективный план работы, руководствуясь общеобразовательной и коррекционной програм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РАБОТА С РОДИТЕЛЯМИ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УППОВЫЕ ФОРМЫ РАБОТЫ С РОДИТЕЛЯ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ни открытых две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кетир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тические консульт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е собрания с просмотром фрагментов занятий с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тельские собр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формление информационно-методических выставок для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жемесячно в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одительском уголк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новляется подборка тематических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смотр открытых занятий с последующим обсужд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дивидуальные консультации и посещение семьи воспитан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Совместная работа логопеда с родителями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и еженедельно получают от логопеда методические рекоменд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о на вечерних прием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исьменной форме в специальных тетрадях по пятниц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шние задания для выполнения дом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0053" t="8218" r="9284" b="7312"/>
          <a:stretch/>
        </p:blipFill>
        <p:spPr>
          <a:xfrm>
            <a:off x="6588000" y="404640"/>
            <a:ext cx="2305080" cy="295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7292" r="0" b="9060"/>
          <a:stretch/>
        </p:blipFill>
        <p:spPr>
          <a:xfrm>
            <a:off x="5580000" y="907920"/>
            <a:ext cx="2562120" cy="331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0938" r="0" b="10905"/>
          <a:stretch/>
        </p:blipFill>
        <p:spPr>
          <a:xfrm>
            <a:off x="5003640" y="1484280"/>
            <a:ext cx="2563920" cy="309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1916280"/>
            <a:ext cx="2381040" cy="3057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708360" y="2637000"/>
            <a:ext cx="2133720" cy="3057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340000" y="3429000"/>
            <a:ext cx="1905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21:41:47Z</dcterms:created>
  <dc:creator>pro7</dc:creator>
  <dc:description/>
  <dc:language>en-US</dc:language>
  <cp:lastModifiedBy>User</cp:lastModifiedBy>
  <dcterms:modified xsi:type="dcterms:W3CDTF">2013-03-03T11:56:51Z</dcterms:modified>
  <cp:revision>8</cp:revision>
  <dc:subject/>
  <dc:title>Совместная деятельность логопеда и воспитателя.</dc:title>
</cp:coreProperties>
</file>