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F28-3541-42B0-8999-A2DB8A1B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CF1-1C1C-44E9-B683-5003F555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D13-301C-40BA-8A7E-2F806D5E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8CD-2EB6-4794-BB66-F77949AA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AD46-9A01-45A5-B807-913E721C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56F4-616B-4B1A-9A6E-D2D3DCD1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55C7-6925-46AD-AECF-2EA29CDE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1BA1-0B7E-478E-986C-FD4B3479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EADE-7BE3-4459-AEC8-B2C00891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F4EF-8D55-44F0-A15B-E4C27B0B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5EB1-910A-4F55-AC34-E511DAA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67A-5FA0-4907-A892-9C648115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0F56-A715-412B-B49F-9C5D594C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9528-9318-48BA-B24B-93C1E583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4D90-AFE9-4D65-A980-97EC4B27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8057-305A-432F-8AB1-7FF69C35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74C0-FAE8-4263-BFA6-CED2FF01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B1F-762B-4805-A5F2-CC971110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20D-BEE9-4B74-9D51-F244504F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7A0-4FF8-4BB2-918B-63ED72A7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942-3226-45C1-9659-DD5B23A3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F31-B7F6-45E6-B3B6-CEFCEFB8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186-310C-4DBE-BA88-82BCBBD0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F15-2DF1-4E5A-BD0E-29A92BFD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EB9C-45EF-4A05-A396-34E1F186CF94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E21D-1AB3-40DC-AD8E-92C2725B27B3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вместная деятельность логопеда, воспитателя и родителе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76720" y="5661000"/>
            <a:ext cx="30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ДОУ д/с"№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Белочк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Картинка 83 из 161673"/>
          <p:cNvPicPr/>
          <p:nvPr/>
        </p:nvPicPr>
        <p:blipFill>
          <a:blip r:embed="rId1"/>
          <a:stretch/>
        </p:blipFill>
        <p:spPr>
          <a:xfrm>
            <a:off x="539640" y="3933720"/>
            <a:ext cx="24814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Формы родительских собраний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1915920"/>
            <a:ext cx="76932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ческое (традиционно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гогическая мастер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онно - деятельностая, деловая, ролевая иг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фере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или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ыш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ску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к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н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глый ст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чер – встре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52120" y="566280"/>
            <a:ext cx="7743960" cy="12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Родительское собрание в форме педагогической мастерской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«Играем вместе»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3247920"/>
            <a:ext cx="4537080" cy="340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80000" y="2637000"/>
            <a:ext cx="5184720" cy="388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5761080" cy="432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627280" y="1916280"/>
            <a:ext cx="6300720" cy="47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27640" y="332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Выставки с участием родителей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76720" y="2565360"/>
            <a:ext cx="5424480" cy="406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5124240" cy="3843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67280" y="1341360"/>
            <a:ext cx="4836960" cy="362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79280" y="2060640"/>
            <a:ext cx="6193080" cy="464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50920" y="1859040"/>
            <a:ext cx="820872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0160" y="47268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Совместные досуги с родителями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968720" cy="372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92360" y="1700280"/>
            <a:ext cx="5268960" cy="3951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050920" y="2133720"/>
            <a:ext cx="5616720" cy="4213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6337440" cy="47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924360" y="2276640"/>
            <a:ext cx="50529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332000" y="1628640"/>
            <a:ext cx="684036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зентацию подготовил воспитатель логопедической группы МДОУ д/с№8 «Белочка» Поспелова Т.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Совместная деятельность логопеда и воспитателя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ное составление перспективного планирования на текущий период по всем направления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суждение и выбор форм, методов и приемов коррекционно – развивающей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ащение развивающего предметного пространства в групповом помещ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аимопосещение занятий и совместное проведение интегрированных комплексных заня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женедельные задания логопеда воспитател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Логопед 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азывает лексические темы на месяц в начале каждого месяц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ный лексикон по каждой тем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цели и задачи коррекционной рабо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яет фамилии детей, которым воспитатель должен уделять особое внимание в первую очере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Еженедельные задания логопеда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огопедические пятимину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вижные игры и пальчиковую гимнасти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дивидуальную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комендации по подбору художественной литературы и иллюстрационного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Логопедические пятиминутки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териал по развитию лексики, грамматики, фонетики, связной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ажнения по закреплению или дифференциации поставленных зву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ажнения по развитию навыков звукового и слогового анализа и синт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ажнения по развитию фонематических представлений и неречевых психических фун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торение и закрепление материала, отработанного с детьми логопе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Подвижные игры, упражнения, пальчиковая гимнастика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5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ие общей и тонкой мотор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ординация движен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ординация речи с движ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ие подражательных и творческих способ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4869000"/>
            <a:ext cx="698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уются: физкультминутки на занятия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вижные игры на прогулке или в свободное время во в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овине д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Воспитатель</a:t>
            </a:r>
            <a:br>
              <a:rPr sz="3200"/>
            </a:b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дагогическое обследование детей по всем видам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следование состояния мелкой мотор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ляет перспективный план работы, руководствуясь общеобразовательной и коррекционной программ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РАБОТА С РОДИТЕЛЯМИ 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85690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УППОВЫЕ ФОРМЫ РАБОТЫ С РОДИТЕЛЯ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ни открытых двер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нкетиро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тические консульт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тельские собрания с просмотром фрагментов занятий с деть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тельские собр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формление информационно-методических выставок для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жемесячно в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одительском уголк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бновляется подборка тематических материа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смотр открытых занятий с последующим обсужд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дивидуальные консультации и посещение семьи воспитан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Совместная работа логопеда с родителями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дители еженедельно получают от логопеда методические рекоменд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но на вечерних прием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исьменной форме в специальных тетрадях по пятниц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машние задания для выполнения дом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0053" t="8218" r="9284" b="7312"/>
          <a:stretch/>
        </p:blipFill>
        <p:spPr>
          <a:xfrm>
            <a:off x="6588000" y="404640"/>
            <a:ext cx="2305080" cy="295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7292" r="0" b="9060"/>
          <a:stretch/>
        </p:blipFill>
        <p:spPr>
          <a:xfrm>
            <a:off x="5580000" y="907920"/>
            <a:ext cx="2562120" cy="3311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10938" r="0" b="10905"/>
          <a:stretch/>
        </p:blipFill>
        <p:spPr>
          <a:xfrm>
            <a:off x="5003640" y="1484280"/>
            <a:ext cx="2563920" cy="309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00720" y="1916280"/>
            <a:ext cx="2381040" cy="3057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708360" y="2637000"/>
            <a:ext cx="2133720" cy="3057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340000" y="3429000"/>
            <a:ext cx="1905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21:41:47Z</dcterms:created>
  <dc:creator>pro7</dc:creator>
  <dc:description/>
  <dc:language>en-US</dc:language>
  <cp:lastModifiedBy>User</cp:lastModifiedBy>
  <dcterms:modified xsi:type="dcterms:W3CDTF">2013-03-03T11:56:51Z</dcterms:modified>
  <cp:revision>8</cp:revision>
  <dc:subject/>
  <dc:title>Совместная деятельность логопеда и воспитателя.</dc:title>
</cp:coreProperties>
</file>