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0A6-8ED4-4EB3-A46C-96EC5C54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8C3-01D4-49E2-85E2-0170AA0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98E-FE72-469A-8372-81E30D83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9E7-6281-43A4-8E79-E9ABEE82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80D-E87B-4D6D-89FB-3845898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62B-10E7-44AE-B001-BF4D94AA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ED0-FDF5-4692-93FB-A70054EA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254-4710-41E4-8E44-0B0AA38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7B5-4CC3-40A1-A6AD-B346C35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39C-F15F-456F-942D-8C633FD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C96-6048-4BFE-BD6A-55CD299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5B2-26A2-4FFF-BC5F-D54AEDB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5C7B-C98C-40DD-86BE-8BDAB9AF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ie Umwelt ist in Gefahr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Recycling kommt zur Hil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7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Müllber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Plastikflaschen werden gebal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Plastikflaschen werden sorti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Neue Produ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3-03T12:51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