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DE8-93FC-44F3-BA5C-284D6EA5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EB9-F9B8-4231-9298-8A130432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210-65F0-47A1-842E-9D4BBC31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888-9351-410E-8CD1-B10DAE9E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3F7-9CF6-446A-AEEA-0329521B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015-2C9A-4216-A9B8-2112D08C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44D-F3DD-43ED-B4A8-2DD85469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022-8CF0-4B7F-92E7-FBA0F7F7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DF6-CA3B-41C8-923E-DDE84A79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770-BB5C-4778-A6B6-7DBC5583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29C-DEA1-4588-84F5-0A6DF697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428-E786-4265-A71B-01722107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4BA3-8F49-4B9A-ACEA-05B7D631F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ie Umwelt ist in Gefahr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200016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Recycling kommt zur Hil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7624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Müllberg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Plastikflaschen werden gebal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Plastikflaschen werden sorti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Neue Produk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3-03-03T12:51:0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