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95F-9BB5-4A3F-ADFB-6F6E356E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250-DB00-483E-AB9C-EA4A5375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8AF-DF52-4E78-A4AE-4EB0E747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11A-4D61-48BD-B648-5CF1F1C0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627-D0D7-4EFD-B807-943AA00E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63C-CD38-4228-8294-A362431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9FA-4F05-4139-A4E3-EA34D24B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C9D-1DF6-4D0F-A45E-42007113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386-9974-4182-957B-1BC1035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3A4-A40B-4F92-8594-3CB6884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C82-DCDE-40F7-8340-7F680FB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F26-A850-4C67-AE36-E6EBDE90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18BB-A147-486D-A581-C754B470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f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58680" cy="186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2111400" cy="173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2708280"/>
            <a:ext cx="2111400" cy="1731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84720" y="2637000"/>
            <a:ext cx="2111400" cy="1731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050920" y="2349360"/>
            <a:ext cx="1598760" cy="208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5240" y="2421000"/>
            <a:ext cx="1598760" cy="208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1532160" cy="1893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132000" y="476280"/>
            <a:ext cx="333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 ЧИСЕ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1736640" y="3789360"/>
            <a:ext cx="1736640" cy="217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76720" y="3716280"/>
            <a:ext cx="122400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06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5084640"/>
            <a:ext cx="6476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64000" y="3860640"/>
            <a:ext cx="10796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28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020000" y="4437000"/>
            <a:ext cx="1081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7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7037E-007 L 0.2757 -3.7037E-007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1f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708280"/>
            <a:ext cx="2521080" cy="2521080"/>
          </a:xfrm>
          <a:prstGeom prst="ellipse">
            <a:avLst/>
          </a:prstGeom>
          <a:solidFill>
            <a:srgbClr val="ee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836640"/>
            <a:ext cx="2354400" cy="2160720"/>
          </a:xfrm>
          <a:prstGeom prst="ellipse">
            <a:avLst/>
          </a:prstGeom>
          <a:solidFill>
            <a:srgbClr val="ed9c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35280" y="3645000"/>
            <a:ext cx="10285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 40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2421000"/>
            <a:ext cx="8175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03640" y="249228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92360" y="4653000"/>
            <a:ext cx="77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76360" y="537372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4221000"/>
            <a:ext cx="7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7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96000" y="1700280"/>
            <a:ext cx="1009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80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0" y="620640"/>
            <a:ext cx="74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00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48360" y="333360"/>
            <a:ext cx="66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24720" y="2276640"/>
            <a:ext cx="7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80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51640" y="306864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0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56000" y="1844640"/>
            <a:ext cx="72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60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227640" y="3357720"/>
            <a:ext cx="2257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bf7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940360" y="2852640"/>
            <a:ext cx="1008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12000" y="3645000"/>
            <a:ext cx="9190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80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4437000"/>
            <a:ext cx="115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732720" y="4581360"/>
            <a:ext cx="228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72360" y="4581360"/>
            <a:ext cx="2584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12000" y="4581360"/>
            <a:ext cx="228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1:46:02Z</dcterms:created>
  <dc:creator>Добрынина</dc:creator>
  <dc:description/>
  <dc:language>en-US</dc:language>
  <cp:lastModifiedBy>Добрынина</cp:lastModifiedBy>
  <dcterms:modified xsi:type="dcterms:W3CDTF">2013-03-03T09:49:31Z</dcterms:modified>
  <cp:revision>3</cp:revision>
  <dc:subject/>
  <dc:title>Слайд 1</dc:title>
</cp:coreProperties>
</file>