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300-A254-4739-BDD7-7C526C5D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1B8-3B07-4E02-80E4-A4399BB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7B4-FF21-4208-A459-2F574A1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AB9-D9DA-4FAB-B426-2AFE32A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E8B-4A49-40DA-BD74-3645BF3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10E-3E23-4F78-A345-10F4C31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264-DF18-4386-86DE-AF3FDAC4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0B7-AE75-4A3C-A6DE-11FB39D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F54-EEF7-4520-89B9-3CB08E48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F54-1CF8-4023-A7D7-EB97C5A5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382-9729-4288-98EE-8264C3D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E9A-B0CC-4192-A03A-31B7337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B65-84AA-46FD-9DA7-7FDD54F1D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f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58680" cy="186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84720" y="263700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050920" y="2349360"/>
            <a:ext cx="1598760" cy="208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5240" y="2421000"/>
            <a:ext cx="1598760" cy="20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532160" cy="1893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132000" y="476280"/>
            <a:ext cx="333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 ЧИСЕ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1736640" y="3789360"/>
            <a:ext cx="173664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76720" y="3716280"/>
            <a:ext cx="122400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06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5084640"/>
            <a:ext cx="6476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0" y="3860640"/>
            <a:ext cx="1079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2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020000" y="4437000"/>
            <a:ext cx="1081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7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7037E-007 L 0.2757 -3.7037E-007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1f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708280"/>
            <a:ext cx="2521080" cy="2521080"/>
          </a:xfrm>
          <a:prstGeom prst="ellipse">
            <a:avLst/>
          </a:prstGeom>
          <a:solidFill>
            <a:srgbClr val="ee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836640"/>
            <a:ext cx="2354400" cy="2160720"/>
          </a:xfrm>
          <a:prstGeom prst="ellipse">
            <a:avLst/>
          </a:prstGeom>
          <a:solidFill>
            <a:srgbClr val="ed9c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3645000"/>
            <a:ext cx="10285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 40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2421000"/>
            <a:ext cx="8175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03640" y="249228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92360" y="4653000"/>
            <a:ext cx="77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76360" y="537372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22100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6000" y="1700280"/>
            <a:ext cx="100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80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0" y="620640"/>
            <a:ext cx="74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00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48360" y="33336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24720" y="227664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8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51640" y="306864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0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56000" y="1844640"/>
            <a:ext cx="72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60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227640" y="3357720"/>
            <a:ext cx="2257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bf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940360" y="2852640"/>
            <a:ext cx="1008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12000" y="3645000"/>
            <a:ext cx="9190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80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4437000"/>
            <a:ext cx="115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32720" y="4581360"/>
            <a:ext cx="228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72360" y="4581360"/>
            <a:ext cx="258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12000" y="458136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1:46:02Z</dcterms:created>
  <dc:creator>Добрынина</dc:creator>
  <dc:description/>
  <dc:language>en-US</dc:language>
  <cp:lastModifiedBy>Добрынина</cp:lastModifiedBy>
  <dcterms:modified xsi:type="dcterms:W3CDTF">2013-03-03T09:49:31Z</dcterms:modified>
  <cp:revision>3</cp:revision>
  <dc:subject/>
  <dc:title>Слайд 1</dc:title>
</cp:coreProperties>
</file>