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CE3-5F6B-409C-BA4C-2FC1AE9A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B5E-CB92-47EA-89D6-EE6D5735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BB9-8FA5-4BD4-A20C-B8FDE5B7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B8E-C683-46ED-8695-BD47C4A3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20D-D029-4681-90F0-2247A64D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44A-AC17-4B18-BA11-26C0C5C7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28B-82B0-441C-9388-7631E78F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C38-D930-48C9-9DAD-B3B657FE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F4A-6555-414B-A22D-72F49F5C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F99-BD0B-44B6-BE46-A44EEBBF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E43-F1C7-42FE-874A-DB659E33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128-4589-407A-8F23-41D2090B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7DDF-18BD-43CD-AB54-998086E5C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классное мероприят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тлый праздник Рождеств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1128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: учитель лит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овьева Марина Ивано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О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Ш № 2 с.Александровское Т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234253649  marina.solovova@rambler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шишка"/>
          <p:cNvPicPr/>
          <p:nvPr/>
        </p:nvPicPr>
        <p:blipFill>
          <a:blip r:embed="rId2"/>
          <a:stretch/>
        </p:blipFill>
        <p:spPr>
          <a:xfrm>
            <a:off x="395280" y="333360"/>
            <a:ext cx="1114560" cy="1114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открытка.jpg"/>
          <p:cNvPicPr/>
          <p:nvPr/>
        </p:nvPicPr>
        <p:blipFill>
          <a:blip r:embed="rId3"/>
          <a:stretch/>
        </p:blipFill>
        <p:spPr>
          <a:xfrm>
            <a:off x="2166840" y="1844640"/>
            <a:ext cx="47055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2 дней после праздника Рождества Христова называют Святками, то есть святыми днями, так как эти двенадцать дней освящены великими событиями Рождества Христова. Праздник Крещен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 (Богоявления)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мыкает двенадцать святочных дней. На Богоявление Церковь празднует вхождение Иисуса Христа на путь служения людям, начало его проповеди. В этот день повсеместно в храмах, на реках, озерах, совершается водосвятие, обряд освящения воды в проруби, сделанной в виде православного креста.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точные веч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вятки  отмечаются с 7 по 19 января. В это время на Руси проводились разные обряды, самым известным из которых было колядование. Колядования, гадания, ряженья, игрища и костры соседствуют с христианским обрядом купания в иордани-проруби в виде креста, который олицетворяет крещение Иисуса, а в духовном плане – очищение от гр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ак правило, на него ходили дети и подростки или отдельно одни девушк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ебята собирались небольшими группами и, как стемнеет, обходили дома деревни с корзинкой, в которую складывали угощение. Подойдя к дому, колядники стучали палкой по углу избы. Ритуал совершался у дверей, внутрь избы не заходили. Даже если кто-то пускал их к себе, то ребята колядовали у порога, дальше не шли. Чтобы получить угощение, колядники пели разные песенки-частушки, например, такую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тушка-матушк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й пирожк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и заговешка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не дашь пирожк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к корову за рожка —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лоличеньку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углоличеньку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шишка"/>
          <p:cNvPicPr/>
          <p:nvPr/>
        </p:nvPicPr>
        <p:blipFill>
          <a:blip r:embed="rId1"/>
          <a:stretch/>
        </p:blipFill>
        <p:spPr>
          <a:xfrm>
            <a:off x="971640" y="6206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лядовать  ходили с бумажными звездами и фонариками, пели рождественские песни, славящие Христа, шутили, разыгрывали целые спектакли, плясали. А хозяева были рады пригласить певцов в дом, к столу, или щедро наградить их рождественскими лакомствами. Каждая семья ожидала колядовщиков, приготавливала для них угощение и с неподдельным удовольствием выслушивала колядки. Не принять христославов считалось грехом для хозяев. Подобные обходы или колядки в течение святок проводились трижды: в рождественский сочельник, под Новый год накануне Васильева дня  (по старому стилю) и в крещенский сочельник. У русских один из главных ряженых героев - старый страшный дед. В руках обязательно была рождественская восьмилучевая звезда, к которой прикрепляли бахр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52000" y="69120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я  святочных веч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к сожалению, многие воспринимают святочные дни как дни необузданного веселья, праздности. К изначальному смыслу Святок это не имеет никакого отнош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тки - дни радости о том, что родился для нашего спасения Господь Иисус Христос. Принято ходить в гости, навещать больных, стариков, заключенных, бедняков, дарить подарки, чтобы и они могли разделить с нами счастье Рождества Христова. Специально к этим дням с детьми разучивают духовные стихи, песнопения, рождественские сцен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 По неведению святость этих дней часто нарушается "народными обычаями", в частности гад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шишка"/>
          <p:cNvPicPr/>
          <p:nvPr/>
        </p:nvPicPr>
        <p:blipFill>
          <a:blip r:embed="rId1"/>
          <a:stretch/>
        </p:blipFill>
        <p:spPr>
          <a:xfrm>
            <a:off x="468360" y="404640"/>
            <a:ext cx="115092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игия и г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авославная церковь вовсе не одобряет проведения в эти дни гаданий. Подобные суеверия всегда запрещались. В правилах VI Вселенского Собора говорится: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"Прибегающие к волшебникам или другим подобным, чтобы узнать от них что-либо сокровенное, … да подлежат правилу шестилетней епитимии. Той же епитимии надлежит подвергать и тех, которые производят гадания о счастье, судьбе, родословии и множество других подобных толков, равно и так именуемых облакогонителей, обаятелей, делателей предохранительных талисманов и колдунов. Закосневающих же в этом и не отвращающихся от этих пагубных и языческих вымыслов определяем совсем извергать из Церкви, как священные правила повелевают».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ое по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5400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бряд зажигания костров, который существовал у православных, назывался «Греть покойников»; католики зажигают огонь в домашнем очаге – «рождественское полено», которое горело весь цикл. Оно представляло собой деревянную колоду, предварительно обмазанную медом и посыпанную хлебными зернами. Угли таких поленьев считались способными излечивать болезни, защищать от грозы, дарить плодородие. Сейчас в каждом доме католиков на Рождество готовят специальный бисквит «Рождественское полено», рецепт которого придумали во Фр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полено"/>
          <p:cNvPicPr/>
          <p:nvPr/>
        </p:nvPicPr>
        <p:blipFill>
          <a:blip r:embed="rId2"/>
          <a:stretch/>
        </p:blipFill>
        <p:spPr>
          <a:xfrm>
            <a:off x="4859280" y="2349360"/>
            <a:ext cx="3814920" cy="2695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ий 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2360" y="1773360"/>
            <a:ext cx="374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 само Рождество Христово (7 января) готовили уже большой праздничный стол. Пост окончился, поэтому можно было отведать мясо в самых разнообразных вариациях: домашнюю колбасу, жареного поросенка, фаршированного гречневой кашей, гуся или утку с антоновскими яблоками, студень, окорок, буженину, бараний бок с кашей, а заливную рыбу и многое другое. Важно, что на столе всегда стояло нечетное количество блю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рождественский-стол1"/>
          <p:cNvPicPr/>
          <p:nvPr/>
        </p:nvPicPr>
        <p:blipFill>
          <a:blip r:embed="rId2"/>
          <a:stretch/>
        </p:blipFill>
        <p:spPr>
          <a:xfrm>
            <a:off x="250920" y="1844640"/>
            <a:ext cx="44863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нощное б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амое главное, конечно, происходит не за семейным  столом, а в церкви, где ночью и утром совершаются службы: в канун Рождества в три, шесть и девять часов утра и в три часа дня, во время которых исполняются псалмы. В этот же день служится Литургия св.Василия Великого, соединенная с Вечерней. Великое Повечерие накануне Рождества соединяется с рождественской утреней, образуя всенощное б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всенощная"/>
          <p:cNvPicPr/>
          <p:nvPr/>
        </p:nvPicPr>
        <p:blipFill>
          <a:blip r:embed="rId1"/>
          <a:stretch/>
        </p:blipFill>
        <p:spPr>
          <a:xfrm>
            <a:off x="468360" y="1557360"/>
            <a:ext cx="3963960" cy="475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шишка"/>
          <p:cNvPicPr/>
          <p:nvPr/>
        </p:nvPicPr>
        <p:blipFill>
          <a:blip r:embed="rId2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ие песноп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95280" y="46530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спространенная традиция у католиков – рождественские песнопения. Старейший из дошедших до нас гимнов называется «Иисус озарил нас». Написал его Иларий Пиктавийский. Поначалу песнопения были строго религиозные, затем в Италии появились более легкие, живые, неформальные гим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рожд гимны"/>
          <p:cNvPicPr/>
          <p:nvPr/>
        </p:nvPicPr>
        <p:blipFill>
          <a:blip r:embed="rId2"/>
          <a:stretch/>
        </p:blipFill>
        <p:spPr>
          <a:xfrm>
            <a:off x="1979640" y="1413000"/>
            <a:ext cx="460836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ий ги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Одна из многочисленных русских версий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рождественская колядка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"Ночь тиха":</a:t>
            </a:r>
            <a:br>
              <a:rPr sz="1600"/>
            </a:br>
            <a:br>
              <a:rPr sz="12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Ночь тиха, ночь свята,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 небе свет, красота.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Божий Сын пеленами повит,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 Вифлеемском вертепе лежит.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пи, Младенец Святой,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пи, Младенец Свят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Ночь тиха, ночь свята,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И светла и чиста.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лавит радостный Ангелов хор,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Далеко оглашая простор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Над уснувшей землёй.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Над уснувшей землё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Ночь тиха, ночь свята,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Мы поём Христа.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И с улыбкой Младенец глядит,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згляд Его о любви говорит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И сияет красой.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И сияет крас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ilent night"/>
          <p:cNvPicPr/>
          <p:nvPr/>
        </p:nvPicPr>
        <p:blipFill>
          <a:blip r:embed="rId2"/>
          <a:stretch/>
        </p:blipFill>
        <p:spPr>
          <a:xfrm>
            <a:off x="3995640" y="2205000"/>
            <a:ext cx="4334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внеклассного 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75596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ировать  у подростков желание знать культуру и обычаи своего народа и народов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и уважение к  культурным ценностям и традициям, пришедшим из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нравственную и духовную культуру личности подрос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шишка"/>
          <p:cNvPicPr/>
          <p:nvPr/>
        </p:nvPicPr>
        <p:blipFill>
          <a:blip r:embed="rId2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ождественского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920" y="1483920"/>
            <a:ext cx="638496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ждественское дерево было городским и общественным обычаем. По окончании праздника детям и беднякам позволялось отрясать с дерева плоды и сладости. Несколько позднее появляются сообщения и об установлении елочек в домах. Первое письменное свидетельство о том, что на рождественском деревце зажигают свечи, относится к 1708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ая 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История превращения ели в рождественское дерево до сих пор точно не восстановлена, Наверняка известно лишь то, что случилось это на территории Германии, где ель во времена язычества была особо почитаемой и отождествлялась с мировым дере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реди германских народов издавна существовал обычай идти на Новый год в лес, где выбранное для обрядовой роли еловое дерево освещали свечами и украшали цветными тряпочками, после чего вблизи или вокруг него совершались соответствующие обряды. Со временем еловые деревца стали срубать и приносить в дом, где они устанавливались на столе. К деревцу прикрепляли зажженные свечки, на него вешали яблоки и сахарные изделия. Именно здесь, у древних германцев, она и стала сначала новогодним, а позже — рождественским растительным символ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5" descr="елка.jpg"/>
          <p:cNvPicPr/>
          <p:nvPr/>
        </p:nvPicPr>
        <p:blipFill>
          <a:blip r:embed="rId2"/>
          <a:stretch/>
        </p:blipFill>
        <p:spPr>
          <a:xfrm>
            <a:off x="5580000" y="1484280"/>
            <a:ext cx="31496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рибуты Рожд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 католических странах важнейшим атрибутом Рождества и символом праздника являются рождественские ясли. Они представляют собой уменьшенную копию пещеры, в которой родился Христос, с фигурками Марии, Иосифа, пастухов, волхвов, животных. Автором этого обычая считается св.Франциск Ассизский. В России традиция рождественского вертепа переросла в рождественский кукольный театр, в котором давали представления на тему Рожд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1"/>
          <p:cNvPicPr/>
          <p:nvPr/>
        </p:nvPicPr>
        <p:blipFill>
          <a:blip r:embed="rId2"/>
          <a:stretch/>
        </p:blipFill>
        <p:spPr>
          <a:xfrm>
            <a:off x="1908000" y="1341360"/>
            <a:ext cx="5651640" cy="3178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шишка"/>
          <p:cNvPicPr/>
          <p:nvPr/>
        </p:nvPicPr>
        <p:blipFill>
          <a:blip r:embed="rId3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шишка"/>
          <p:cNvPicPr/>
          <p:nvPr/>
        </p:nvPicPr>
        <p:blipFill>
          <a:blip r:embed="rId4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шишка"/>
          <p:cNvPicPr/>
          <p:nvPr/>
        </p:nvPicPr>
        <p:blipFill>
          <a:blip r:embed="rId5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и Рожд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кануне Рождества детям читали евангелие или рассказывали о рождении Христа. В Сочельник и рождественскую ночь зажигали и ставили на окна свечи. А на улицах жгли костры, чтобы согреть в морозную зимнюю ночь новорожденного Иисуса Христа. Вокруг этого праздника существует немало и других замечательных тради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лавр венок"/>
          <p:cNvPicPr/>
          <p:nvPr/>
        </p:nvPicPr>
        <p:blipFill>
          <a:blip r:embed="rId2"/>
          <a:stretch/>
        </p:blipFill>
        <p:spPr>
          <a:xfrm>
            <a:off x="3924360" y="2637000"/>
            <a:ext cx="5219640" cy="37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о сего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ле отмены празднования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ождества советской власть, оно таки не заняло, к сожалению, прежнее достойное место в календаре светских праздников. В настоящее время праздник Рождества, в основном, связывается с дарением подарков, елкой, загадываем желаний и, возможно, гаданием. К сожалению, маркетинг и реклама нашли место и здесь: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пуляризация этого праздника проходит через магазины подарков и американские фильмы, которые совершенно не связаны с русской традицией празднования Рождества Христова. Дело каждого решать, что и как  ему отмечать, но, когда в стране есть традиции, отражающие ее суть и заключающие ее дух, не стоит гнаться за новизной, а лучше вспомнить, в какой замечательной стране мы живем и гордиться эти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лавр венок"/>
          <p:cNvPicPr/>
          <p:nvPr/>
        </p:nvPicPr>
        <p:blipFill>
          <a:blip r:embed="rId2"/>
          <a:stretch/>
        </p:blipFill>
        <p:spPr>
          <a:xfrm>
            <a:off x="5940360" y="4564080"/>
            <a:ext cx="3203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празднования Рождества Хрис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7559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Историческая справка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икто не может назвать точную дату рождения Христа. Дата 25 декабря, день Рождества, была установлена формально на Эфесском (Третьем Вселенском) церковном соборе в 431 году. Но уже в 3 веке многие христианские церкви праздновали Рождество  6 января, в день Богоявления. Считалось, что Иисус – второй Адам, а Бог создал человека на шестой д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епенно под влиянием христиан-греков идея дня рождения получила широкое распространение, и даже появилась дата – 25 декабря – время римских праздников, посвященных рождению бога-солнцы Митры, божества индо-иранского мифологического цикла. Христиане понимали, что этот грандиозный праздник и всеобщее веселье им вряд ли удастся искоренить, но можно отвлечь – так и появилась дата 25 декабря, позднее официально закрепленная отцами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Христиане отмечают Рождество Христово 7 янв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шишка"/>
          <p:cNvPicPr/>
          <p:nvPr/>
        </p:nvPicPr>
        <p:blipFill>
          <a:blip r:embed="rId2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о Христ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koleda-col_jpg_ikonka"/>
          <p:cNvPicPr/>
          <p:nvPr/>
        </p:nvPicPr>
        <p:blipFill>
          <a:blip r:embed="rId1"/>
          <a:stretch/>
        </p:blipFill>
        <p:spPr>
          <a:xfrm>
            <a:off x="1079640" y="1628640"/>
            <a:ext cx="3313080" cy="4537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2400" spc="-1" strike="noStrike">
                <a:solidFill>
                  <a:srgbClr val="0000ff"/>
                </a:solidFill>
                <a:latin typeface="Malgun Gothic"/>
              </a:rPr>
              <a:t> </a:t>
            </a:r>
            <a:r>
              <a:rPr b="1" lang="ru-RU" sz="2400" spc="-1" strike="noStrike">
                <a:solidFill>
                  <a:srgbClr val="0000ff"/>
                </a:solidFill>
                <a:latin typeface="Malgun Gothic"/>
              </a:rPr>
              <a:t>День Рождества Христова издревле причислен Церковью к великим двунадесятым праздникам, согласно с Божественным свидетельством Евангелия, изображающего это событие величайшим, всерадостнейшим и чудес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раз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Я возвещаю вам,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 говорит Ангел вифлеемским пастухам, -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еликую радость, которая будет всем людям: ибо ныне родился вам в городе Давидовом Спаситель, Который есть Христос Господь; и вот вам знак: вы найдете Младенца в пеленах, лежащего в яслях»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внезапно явилось с Ангелом многочисленное воинство небесное, славящее Бога и взывающее: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Слава в вышних Богу, и на земле мир, в человеках благоволение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шишка"/>
          <p:cNvPicPr/>
          <p:nvPr/>
        </p:nvPicPr>
        <p:blipFill>
          <a:blip r:embed="rId2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111.jpg"/>
          <p:cNvPicPr/>
          <p:nvPr/>
        </p:nvPicPr>
        <p:blipFill>
          <a:blip r:embed="rId3"/>
          <a:stretch/>
        </p:blipFill>
        <p:spPr>
          <a:xfrm>
            <a:off x="755640" y="1413000"/>
            <a:ext cx="40323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флеемская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 итогам расследований можно предположить, что исторический Христос родился между 12 веком до н. э. и 7 веком н.э.. В 12 веке до н.э., например, над Землей проходила комета Галлея, которую можно было принять за яркую звезду (Вифлеемская звезда, по которой волхвы нашли место рождения мессии), к тому же она, как говорится в источнике, шла перд волхвами, указывая путь, а затем остановилась над  нужным местом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6"/>
          <p:cNvPicPr/>
          <p:nvPr/>
        </p:nvPicPr>
        <p:blipFill>
          <a:blip r:embed="rId2"/>
          <a:stretch/>
        </p:blipFill>
        <p:spPr>
          <a:xfrm>
            <a:off x="250920" y="2133720"/>
            <a:ext cx="4248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ты и обычаи на Рожд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РОЖДЕСТВО нельзя девушкам гадать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молод, и стар ступай на базар, покупай веселей, рублей не жале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 РОЖДЕСТВУ в горнице стелют праздничные половинки: на белом поле - голубые цветы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тель в канун РОЖДЕСТВА - будет ранняя листва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РОЖДЕСТВО нельзя заниматься хозяйственными делами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в первые дни рождественских праздников иней на деревьях - будет хороший урожай хлеба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РОЖДЕСТВО теплое - весна холодная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о время обеда на РОЖДЕСТВО нельзя воду пить, кто не пьет, тому не захочется воды, когда ее негде взять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Рождественского сочельника солнце идет на лето, а зима — на мороз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а СВЯТКИ много звезд на небе или часто идет снег и на деревьях много инея, - год будет урожайным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нег 7 января - к хорошему году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нь теплый - хлеб будет темный, густо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тель - пчелы хорошо роиться будут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бо звездисто - урожай на горо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е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8000" y="119664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Канун праздника и последний день Рождественского поста называется сочельником, от названия главного блюда, которое употребляется в этот день - сочи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ообще ужин в этот вечер сопровождался многими традициями и обрядами. Современным хозяйкам не следует путать скромный ужин, приготовленный на Святой вечер, и праздничный семейный ужин на Рождество Христово. Накануне Рождества церковь предписывала строгий пост – целый предрождественский день верующим нельзя было есть и пить. За стол можно было садиться с появлением на небе первой звезды, в память о Вифлеемской звезде, возвестившей пастухам о рождении Христа. (Учитывая, во сколько начинает темнеть в наших широтах, первые звезды появляются на небе в 16-17 часов). Кроме сочива к столу подавались и другие постные блю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сочельник"/>
          <p:cNvPicPr/>
          <p:nvPr/>
        </p:nvPicPr>
        <p:blipFill>
          <a:blip r:embed="rId2"/>
          <a:stretch/>
        </p:blipFill>
        <p:spPr>
          <a:xfrm>
            <a:off x="250920" y="1916280"/>
            <a:ext cx="468144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цепт рождественского блюда - соч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стакан зерен пшеницы, 100 г мака, 100 г ядер грецких орехов, 1 - 3 столовые ложки меда, сахар по вку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 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оде из чистых зерен пшеницы варят обычную рассыпчатую постную жидкую кашу, охлаждают, подслащивают по вку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 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о растирают мак до получения макового молочка, добавляют мед, все перемешивают и добавляют к пшенице. Если каша густая, ее можно разбавить охлажденной кипяченой водой. В конце добавляют толченые ядра грецких орех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огда сочиво готовят из риса, но рис не должен быть «размазней». Соотношение всех компонентов для сочива сохраняется. Иногда добавляют изюм, но это не обязательно. Для подслащивания лучше использовать только м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сочиво"/>
          <p:cNvPicPr/>
          <p:nvPr/>
        </p:nvPicPr>
        <p:blipFill>
          <a:blip r:embed="rId2"/>
          <a:stretch/>
        </p:blipFill>
        <p:spPr>
          <a:xfrm>
            <a:off x="4437000" y="1557360"/>
            <a:ext cx="4206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4:08:09Z</dcterms:created>
  <dc:creator>Soil</dc:creator>
  <dc:description/>
  <dc:language>en-US</dc:language>
  <cp:lastModifiedBy>Андрей</cp:lastModifiedBy>
  <dcterms:modified xsi:type="dcterms:W3CDTF">2012-12-15T10:37:52Z</dcterms:modified>
  <cp:revision>12</cp:revision>
  <dc:subject/>
  <dc:title>Внеклассное мероприятие «Светлый праздник Рождества»</dc:title>
</cp:coreProperties>
</file>