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8A0-6C05-4687-9584-F152F224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3DA-B30A-4289-8963-23637A50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27F-F5D9-42E8-87B4-0F8A06C8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466-7276-47E2-B0A3-B35DA868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6BC-C0F7-42AF-91F6-3D2F20D3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D84-7D9E-4335-B9D7-C3B28BDA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87D-190E-4942-A425-B06AB6E9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447-6923-4EF3-9E64-D333C43A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5CB-97D4-442C-BD16-ED2DC682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BDC-2182-4A65-91B4-8D44A33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9DF-35C0-426F-81A9-3A7F256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E36-B262-40ED-AAC1-1EF0B668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4CA42-274E-43A0-B55C-96C157E895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Начало </a:t>
            </a:r>
            <a:br>
              <a:rPr sz="5400"/>
            </a:b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Великой Отечественной Вой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28600"/>
            <a:ext cx="83059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Военно-технический потенциал германии выше, чем у ССС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Германия имела опыт военных 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Реп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едооценка 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Просчеты советского коман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4120" y="533520"/>
            <a:ext cx="3338280" cy="480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317808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5562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А. Головачев                          Н. Гастел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183" t="0" r="2291" b="0"/>
          <a:stretch/>
        </p:blipFill>
        <p:spPr>
          <a:xfrm>
            <a:off x="685800" y="4572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5181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Панфилов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2485" t="0" r="0" b="0"/>
          <a:stretch/>
        </p:blipFill>
        <p:spPr>
          <a:xfrm>
            <a:off x="5243400" y="457200"/>
            <a:ext cx="30816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76920" y="518148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Оборона Брестской креп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Могли бы эти люди поступ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по-другом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25011" t="0" r="25011" b="0"/>
          <a:stretch/>
        </p:blipFill>
        <p:spPr>
          <a:xfrm>
            <a:off x="6248520" y="53352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760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4200" y="228600"/>
            <a:ext cx="31784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