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AB3-523F-4F82-8850-0A8CC9F4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FEF-3C8F-410B-B6E4-A280F9C0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844A-F81F-4CEB-82EA-C94A7806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0144-EE66-4A0D-AFDB-A3F55C43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48E-2F59-4C2D-971C-5B1C70D4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1299-D9AE-4979-868E-5D349BF0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EAED-A6D4-4C62-9379-2A13E0E8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6785-F7E1-40C8-A5E3-9DE64D3A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29D-8BEC-4CF9-AE26-D3E3EB4E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5B2-AC03-44D6-AA4C-ACAA92AF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5984-1383-49E6-8CCA-798D2E78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451-EDDD-44CB-A2B2-1A743079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ECBEE-EF4A-41AB-A61F-D9064BC71A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Начало </a:t>
            </a:r>
            <a:br>
              <a:rPr sz="5400"/>
            </a:b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Великой Отечественной Вой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28600"/>
            <a:ext cx="83059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Военно-технический потенциал германии выше, чем у ССС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Германия имела опыт военных 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Репре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Недооценка 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Просчеты советского коман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4120" y="533520"/>
            <a:ext cx="3338280" cy="4800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3178080" cy="480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5562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А. Головачев                          Н. Гастел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183" t="0" r="2291" b="0"/>
          <a:stretch/>
        </p:blipFill>
        <p:spPr>
          <a:xfrm>
            <a:off x="685800" y="457200"/>
            <a:ext cx="3352680" cy="4495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5181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Панфилов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2485" t="0" r="0" b="0"/>
          <a:stretch/>
        </p:blipFill>
        <p:spPr>
          <a:xfrm>
            <a:off x="5243400" y="457200"/>
            <a:ext cx="308160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76920" y="518148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Оборона Брестской креп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Могли бы эти люди поступи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по-другому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rcRect l="25011" t="0" r="25011" b="0"/>
          <a:stretch/>
        </p:blipFill>
        <p:spPr>
          <a:xfrm>
            <a:off x="6248520" y="53352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7608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94200" y="228600"/>
            <a:ext cx="317844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