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59D-B304-41B6-9711-ED54746F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71A-1CB2-441D-9450-A9695C1A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D4B-0DEA-471A-B373-3DA4834C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AAC-9599-4094-A851-641DBCD3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D14-1C02-4183-B7DE-56AC8C83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E68-DC5C-44FD-9BEE-05FA8364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6D8-0956-4B72-865F-BEAA19D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F66-5706-4D00-A28E-7B317A8F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F92-143B-4199-8287-859A41D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D86-6BE2-4EF5-9F8D-4533688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A9A-A516-4C69-B606-B7BC4E0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C8C-4B83-4769-9C26-66D265E4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B5307-AFF3-4937-B819-93E27C1614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Начало </a:t>
            </a:r>
            <a:br>
              <a:rPr sz="5400"/>
            </a:b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Великой Отечественной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83059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Военно-технический потенциал германии выше, чем у ССС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Германия имела опыт военн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едооценка 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Просчеты советского коман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338280" cy="480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317808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5562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. Головачев                          Н. Гастел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183" t="0" r="2291" b="0"/>
          <a:stretch/>
        </p:blipFill>
        <p:spPr>
          <a:xfrm>
            <a:off x="685800" y="4572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181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Панфи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2485" t="0" r="0" b="0"/>
          <a:stretch/>
        </p:blipFill>
        <p:spPr>
          <a:xfrm>
            <a:off x="5243400" y="457200"/>
            <a:ext cx="30816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76920" y="518148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Оборона Брестской креп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Могли бы эти люди поступ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по-друго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25011" t="0" r="25011" b="0"/>
          <a:stretch/>
        </p:blipFill>
        <p:spPr>
          <a:xfrm>
            <a:off x="6248520" y="53352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760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4200" y="228600"/>
            <a:ext cx="31784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