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71D-F65B-45DB-9E91-37EFFEA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2AA-DC5D-486C-B25C-FA658EBF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BFA-6A57-4303-AA9D-DF78A4F8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62C-1945-4350-B168-A4EA1C63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72A7-35D0-4183-8644-E4435D93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486D-FCDD-4634-962B-7028A84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F412-9E76-419F-B40F-B451262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425-37FC-40FF-80FE-E24F497D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C90-0B89-4F8D-B523-0021C1DA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4E89-71EB-4D12-95B3-5C9FA25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3A9B-AC24-47F9-BDD1-A3F3DBC9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2A3-76CA-450A-9BBB-4D5955E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C023-0DA9-4881-BEFC-647090E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EC6-57E3-45C8-A5CF-486864B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61C5-90CA-4E61-B5E3-6096E35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E334-EE77-47FF-B340-A05DC49F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12FE-1763-4B1F-98E5-F3838690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225AF-4E4E-43D6-A07F-39392DFF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F652B-E494-4C44-AF6D-EAD1E18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83DF9-F3CC-492B-A1C5-94C2234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3D558-9C58-4334-A190-DF3E3EA8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6243F-0648-41A3-A007-D82103F4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6D4-4DF1-4E73-818C-93C3FCF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FED9F-7FE2-409F-BF1C-ADB1B50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F1D2E-E660-4F64-9223-DDD4A58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0BDC6-E3F9-4391-B6D6-6AF0326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BF1E3-C3A9-4955-A95B-7CA1FF5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EAB54-D40C-4811-9543-6EA9590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AB22-AB70-4AB9-9B45-77A8259E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BA78F-5971-4EBD-AAA7-63B11E43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EF9B-978F-4E86-9A47-4C76D272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ED4C-9819-4904-A687-08807E8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E698-8997-4D6C-A561-031BB7F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666-7020-4E6F-A645-05718919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9D5A-D65C-4F87-8195-B0C2B15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8B1A-1B00-47F2-9B13-A24088C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F20C-A4B3-41C0-B559-2E1B8209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9655-8B34-43F3-B527-44E4E00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1179-7376-4FB0-992A-A6208FB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4727-3F17-44F1-AE2C-C93BE20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6509D-C4A0-4009-98E0-E55C35C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53F0-63C0-47D2-9941-AF1F5FE4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DF60-B919-45EF-8AAE-C865F076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02C97-817B-4F18-ADC5-B261EE3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55C-C40C-463C-9A4C-D3CC545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DC325-76E7-44A1-8F3A-58DD8680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32E25-726D-48FF-96E4-A4AE1DD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B861D-F7EA-42CC-8F89-5C8BEDC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20172-4D81-4A01-80B8-9A8CBA4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3C46F-9829-4C5D-B5B7-2B4E784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4CC59-51D0-4B66-8151-68CCCB2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A3FB5-D62D-4C4A-B2E9-9124236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F959C-4158-4F35-84C1-98B2AE1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121D-E807-4265-96C8-0BB7297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1DEAF-CBF9-417A-AD5B-7B2409B2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4C8-C1E4-4A15-B93F-027899F3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553CC-C2CE-4218-A658-E4DDB5C8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4E175-EB62-4267-94B8-EC2C1CB7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6EB46-2C89-4E45-A390-D9412F0D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FEF25-E7CB-45C3-B8A2-6483444F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02B7D-F62B-4DBC-85F9-80C73DBE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E056E-11CC-4E46-A4C5-8A98EA6D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0665F-13E9-42B6-869D-3AF000A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C1AEB-8E64-4422-8916-1D9090E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909C6-A2D3-4096-BA24-6084550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28037-A586-44CF-8BBB-F3246A1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979-3645-4DD8-ADB6-37B2825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BE9DE-C8F3-4786-9298-DCC4E2F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04B8D-A1E7-4676-B33E-B982D068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DC07F-8A04-4A79-AB10-8EC1B873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E74B7-DC33-40A4-BED6-1DAFFBEB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65709-FB56-470E-A8CF-D4BA7C00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00942-5063-4258-8D60-4D7D423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E11AE-BDEC-4B1B-AAE5-6864454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2F628-0F73-40EB-9AFB-CC08E668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F1668-E9FB-4E47-88AA-9B8A608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9A99F-520F-4C44-85C6-C59B6E8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749-2580-483E-8A50-C0BCBCBA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C2D42-EF30-48D6-9E15-3870729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C4EBF-6F5A-47D4-AD3D-386A5C3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DC6C4-5487-4CC8-953C-8379C34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BB5B8-1455-449A-A6DB-AAA3E8F6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B2827-52F3-48BD-8F18-DAEA4DA1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712-701A-41D4-80ED-48BAB76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3CA-9DD7-4EE4-9EF8-17F93150D2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8856-7993-4797-8886-CC2F337C7D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1823-6470-42C6-992E-1F4B9DAEAC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8F16-E747-436A-9906-F47BC0698F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1E3C-C9D5-4765-B763-3400D29BBC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601-C774-4537-8C5A-69B4166B0C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128-84D2-4E83-8EC2-20A3F8F994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Century Schoolbook"/>
              </a:rPr>
              <a:t>WRITING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Letter of advice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AR …,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 1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Introductio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(showing sympath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aving read your problem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was sorry to read about your problem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understand how you feel and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was in the same situation a few years ago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s 2&amp;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Main body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giving adv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 would/might be a good idea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strongly advise you to/not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think you should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best thing for you to do is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you thought about…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I were you, I would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e/another suggestion is to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ragraph 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giving reassuran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hope these ideas will help yo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none of these ideas work, then you might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’t worry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sum up/summing 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ours/best wishes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on’t forget to count the number of words in your letter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ke sure the paragraphs are clearly organis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yle should be appropriate for the target reader (we usually write informal letters to friends and relatives we know well, or to people of our own age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RACTERISTICS OF AN INFORMAL LET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hort for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mple/colloquial vocabula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of the active, rather than the passive voi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formal beginnings and ending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4:17:38Z</dcterms:created>
  <dc:creator>1</dc:creator>
  <dc:description/>
  <dc:language>en-US</dc:language>
  <cp:lastModifiedBy>1</cp:lastModifiedBy>
  <dcterms:modified xsi:type="dcterms:W3CDTF">2013-03-03T14:41:24Z</dcterms:modified>
  <cp:revision>3</cp:revision>
  <dc:subject/>
  <dc:title>writing</dc:title>
</cp:coreProperties>
</file>