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D568-F972-4E0B-A069-447FA311C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33F5-8C66-4FCA-84B2-88E4205C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1396-5DFF-40FF-85FF-8DF82EC4B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D128-5ACD-4ADC-9599-5D433FE1B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7AD0-41B5-4E69-9F2C-593873C7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FD81-9CF5-4192-8480-3CE6F411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62BF-86E7-4FCB-8070-FEB6C3A3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226B-C245-46F5-BAFF-0F51FBBE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A408-6E04-426B-9287-3A75399D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4740-40A7-4BC4-A9AC-E9CB9B8D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23A8-E6F6-4F72-873E-42D57C42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BC93-1A0A-47D1-A5F6-E2F2A23D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1829-0BEE-42F6-B831-FD81141B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7EB7-A143-49AB-9BDB-7BCC6628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54BB-147E-4DA1-9684-51548787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4DBF-E139-4EDB-BC80-219919D59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86F0-23DE-4E9A-B826-65B90D258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2A0967-F9AF-4009-AABA-754A33465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F6666D-5B03-4983-B593-129CFC7B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D8A5DC-B35C-4B2F-8458-413E5F99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F6C9C1-B1C0-4C0A-A28E-7E92C9E0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9F9037-2A35-4F99-82A9-D3871FC7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B609-AB02-4099-92C7-9ED8FCF2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1365F1-128D-4E56-A646-DFC76179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5328A3-22F6-41D8-8216-0F88E503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A952E3-67E0-4FA6-92FE-17C03F7D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D39141-CA1F-45DB-87BF-882C2ED0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7D0CCE-74DF-4568-A05F-1F90CABB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E89999-7C3F-4D78-B080-143CE5563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F06028-ED7E-4D75-896D-86FDA6285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A8907-5238-45BD-A0FF-2B0049E65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A322A-D9B4-4CC9-926A-D2F1838B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8A9B3-86AF-45A3-A2C9-665C7F50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AB10-FC19-49B3-BC4E-18656673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DAD37-C081-47AD-8CE1-EA00C1CE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6167F-AE7E-469C-B837-1D9F9620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9B669-3050-4559-8054-C20AB686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FD64D-B967-46EE-A1FE-858FF1EB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4EF9A-D31A-4A91-90C4-E134B2FC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E0F73-852F-4F64-95B7-25BF5094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F1D11-33CA-4786-A50C-6E102B4F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AD5D4-218B-4C88-9B2B-B9C8FEB86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82A9A-8C61-42E9-93CA-9AFCF82C8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5CCEFC-4D23-4CC8-9861-1D2F81148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763E-52C5-4CCC-9A88-3E0A4AF5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764744-15B5-46A9-B51C-6B15BAF4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9C203B-390B-4B10-9BAD-A9BCF3C1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4BFD69-5E70-420A-B247-56F386AD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9087D3-B534-448B-8987-62CF5D50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153C8D-C45E-4258-A633-043851FE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76B489-C4CF-461F-96B6-DAAF9C75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FE1203-7046-42B4-B634-D904E051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B1F258-52EB-4C3D-9FCE-1A07DF7B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B5DFBD-BAF8-4F95-ADF4-D7041585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726674-341C-4DEF-95AF-196F5169D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4955-94A3-4366-AE32-4A8558E5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E631B5-2737-4259-8B8D-CA38E95C8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1AF422-A336-4982-A549-444D8C3C7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182730-7655-4A38-8A6C-AC639171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F30E72-DC8F-4C08-93F9-DDB859D3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EA9D67-BE33-4FAD-B0AF-17C85028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D59F8D-EFE8-46EA-96F7-3D50F747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C31CF9-C56A-4018-AFBB-3AE133C7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E995CC-AD3A-415F-B9DD-194DD1E5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852B77-3C60-4A55-B7CB-D07B9782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3BDB23-DED0-4CB6-9829-33D5D5DD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9A4D-1AC2-4DB8-85B2-B85F7159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F50639-9EAE-4D6B-96C0-1107B331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5BD196-8B05-42F5-A0FD-67537C97B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10C016-5EE6-45FC-B812-C17A445E4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3A8CB3-4483-4B22-B908-DC74176E7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70663D-A683-418B-8F2E-04BF979A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8CBAAE-80E7-4D3C-9A32-8091449C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B0B7D7-6100-40A0-BE65-23709889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5F2D0C-D268-407E-8B87-520ACBC4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497514-DD3B-48FB-9BD6-38DD0DDD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7C3269-A15D-47D8-BF7F-F93A024C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7E79-43D5-4BBB-8BF3-E8CB57CB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C72091-61E0-4771-8711-5CCE561A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9E4094-DA7B-4CFA-AB52-D1B0245E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8A6F74-6714-46B8-8C8A-B62AC77F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23FC12-6CC5-40F8-9128-D90E4B5D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968E34-0182-411C-9245-640B591AC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75EC-4FE1-4822-A01C-F7D4DCAE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8D45-52C4-488E-B0AE-7E8E0504B93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228A-8B2C-42BB-88E3-2054499B323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7D1D-6B77-4D6E-8800-4E0D9B30C01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B47D-CD8E-4DBF-B3CB-7F7CB1B5A3F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FF61-18D5-4793-8AA8-6A156048359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617D-33DB-4EFC-946B-133089B2B4B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A4FE-5FB5-45EC-A62A-A00DBAC8F5B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75f6d"/>
                </a:solidFill>
                <a:latin typeface="Century Schoolbook"/>
              </a:rPr>
              <a:t>WRITING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75f6d"/>
                </a:solidFill>
                <a:latin typeface="Century Schoolbook"/>
              </a:rPr>
              <a:t>Letter of advice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EAR …,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Paragraph 1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Century Schoolbook"/>
              </a:rPr>
              <a:t>Introduction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(showing sympath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Having read your problem…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 was sorry to read about your problem…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 understand how you feel and…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 was in the same situation a few years ago…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Paragraphs 2&amp;3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Main body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(giving advice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t would/might be a good idea to…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strongly advise you to/not to…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think you should…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e best thing for you to do is…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ave you thought about…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f I were you, I would…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ne/another suggestion is to…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Paragraph 4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Conclusion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(giving reassurance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hope these ideas will help you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f none of these ideas work, then you might…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on’t worry…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o sum up/summing up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Yours/best wishes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IP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Don’t forget to count the number of words in your letter!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ake sure the paragraphs are clearly organised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e style should be appropriate for the target reader (we usually write informal letters to friends and relatives we know well, or to people of our own age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HARACTERISTICS OF AN INFORMAL LETT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hort form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mple/colloquial vocabular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Use of the active, rather than the passive voic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nformal beginnings and ending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3T14:17:38Z</dcterms:created>
  <dc:creator>1</dc:creator>
  <dc:description/>
  <dc:language>en-US</dc:language>
  <cp:lastModifiedBy>1</cp:lastModifiedBy>
  <dcterms:modified xsi:type="dcterms:W3CDTF">2013-03-03T14:41:24Z</dcterms:modified>
  <cp:revision>3</cp:revision>
  <dc:subject/>
  <dc:title>writing</dc:title>
</cp:coreProperties>
</file>