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7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A6E-D4F4-4D63-88DE-F1E06A59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38C-52B6-4674-9DBE-1BF452E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793-0633-495D-B3FA-587B7C39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937-8796-49E3-8C1C-013A9CA8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CD2A-DB2D-421A-8F2A-411415E4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6D7D-96BE-4C1E-A586-776D119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7FF-5B99-4784-81A7-BB3AC192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DA33-3FB7-456C-892F-24111B3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948C-148C-4D1D-87EF-94C8D20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F136-D4B1-4871-99E7-A0E9E7C4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0CA0-1F2C-42D3-B9C0-F73D26E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E5B-A243-4DE1-8C1D-ACF1DA7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1D18-C91F-42E0-ACFA-652DC23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EBA-679C-4BA1-97C9-4C97F7F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BEF8-3C03-4790-BEDB-FC59A21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DFF2-B0F2-4851-85D2-09B8B25F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1B15-F2C0-488F-A29B-87273BA6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0019-5C39-426F-AC76-E491661B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E607-3AB1-4D19-B343-39C85D84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8786-4E1D-4CAF-BF2D-9B3798D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7976-81AE-4A4F-8CCC-8A4E0CDA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C4411-1DF4-4081-9A1B-A933D789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3F0-E678-4BF6-87EB-79DD368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D03D-2D61-4D18-970D-8FC5A1A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0078-DA18-4243-B0B5-6E1A194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AB47-5D97-474A-BA98-9DB5529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4458-D279-4448-9D0E-C62E630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0F7C-A5EB-4202-B094-4E208C3C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DC3B-EEF8-4151-AAEE-4BD5BED9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8D20-09C7-402B-8676-A971935A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E2F6-623E-4465-92DF-FCEA100E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823E-AACF-4ED9-BE28-24FBF81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F211-F37A-480D-B43A-A5F81F2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45C-9F21-496B-8887-64AB47C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4432-97C4-422D-8894-97152D5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A451-5E6E-4973-9C7E-6FEFEAA4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8CDD-0F77-47CB-8613-A419B4C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CAD0-2653-49DB-80C4-2DA6E40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9FEE-B53C-4C77-9849-A753800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6D2C-85EA-4407-B0FF-940B0A84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4E0F-6303-45B8-8908-7131F23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D903-EE11-4200-B28D-0BA93F79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A905-5EA1-419C-BD42-FD5D561F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8039-48ED-47F8-857E-3633C970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A9D-FD6B-4763-BCF0-194CB09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BB7D-06EF-4788-B435-1A9D261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7CBC-AB8F-4727-9399-966DB38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3C55-98F4-4A00-8176-FE39C96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D3CB4-1378-4790-8018-618E5946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857C-03BE-4600-95F1-7DEDB93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DFCE-4D46-4AAB-934E-D7159D2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F33B1-0DFF-429C-9F4B-06F83CF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9744-12DA-4028-98DC-1CD2994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65D0-8ACE-4F79-B39E-C7388D4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2012-8112-4BAF-BD80-93E9A50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9FF-D970-4E40-B7C9-3D177CD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9CC8-B896-4341-849F-326D5E03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A5FB-0A10-4770-995A-BB8FBC8B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616AF-A853-4DF4-8244-9B30C7D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63E8-0770-4A02-BA94-A1C45760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A05E-3C1A-4092-8CF7-3E37DE3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A62B-368A-473D-9091-16C4724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40F1-5BA8-4234-8804-DB0F9175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53D8-6BDB-4B9A-8946-ABEA8C8A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A4E8-FDEB-4285-804B-FB29754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4C9C-1BC2-4DDA-9BA9-F556757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44E-7E90-404F-94FD-07F3FFF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1166-DDFE-4C89-813B-14DE327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416A-7B02-478C-86B0-8F999DD9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BBF7-9C5F-418F-B99F-2D76A11B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E340-E808-4A8C-A8D9-1B6B7BF3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C9BF2-50E3-4209-A067-44F7FCEB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6D77-C762-4A25-926B-D84D7DD7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4E59-342C-4355-8D4E-9E1B87B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4A3F-94D9-42E3-BD48-6345AECF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EFE0-6C55-4977-A031-0B5F257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68BE-8757-4975-B794-8FED373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064-F4E9-4DBB-9E3E-F18D56E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CC99-F96F-4563-8714-52A6808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40140-0021-4B0D-98E5-77F5859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0778-EACD-4CC0-AC29-4C68C66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0BE2-CDE5-4BFD-8E83-60162E46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379E-1CB8-4048-AE51-A80845A9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0F6B-2FD4-4B31-8AB3-233FFA71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0EC1-C8E8-41DA-9B11-F8525D3C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76C1-28D9-410E-8874-00664C4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8C54-3633-4B31-ACF1-C8D664A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708D-A624-4CD8-92D2-9B8F191F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CE3-2D9A-44CD-AA22-86B3914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B6D0-7B3F-4028-B0A4-F5825657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8056B-628C-40DC-8EC4-4752B6B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20969-EA35-4B68-B2B0-50C8F24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5E89-0BB3-4926-B3EE-9BD65E1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B5B2-D5CE-49A8-A744-E238F07A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876A-D959-4CEE-96D2-547D50A3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2C50-5C64-49A9-9CD0-D3AB358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1A98-FE1C-49FB-83F8-2B4154A85E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838-71E1-4665-8407-3D484039F4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B7A4-D725-465B-87CF-DCF973D070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FD35-FA2E-4007-88CF-0652F5AB94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7CC-8AE6-4FF3-8121-AB1E9D5C94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50D2-141D-4DAE-9A64-AB48951161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38F-CC03-44E4-B405-8E799C2767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F05C-0E43-42CD-8C42-3BF66F0494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749160" y="182520"/>
            <a:ext cx="4322880" cy="3614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4" descr="А.С. Пушкин"/>
          <p:cNvPicPr/>
          <p:nvPr/>
        </p:nvPicPr>
        <p:blipFill>
          <a:blip r:embed="rId2"/>
          <a:stretch/>
        </p:blipFill>
        <p:spPr>
          <a:xfrm>
            <a:off x="4894200" y="981000"/>
            <a:ext cx="3429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3" descr="http://f.kinozon.tv/frames/1688-2/Film_shot00011.jpg"/>
          <p:cNvPicPr/>
          <p:nvPr/>
        </p:nvPicPr>
        <p:blipFill>
          <a:blip r:embed="rId2"/>
          <a:stretch/>
        </p:blipFill>
        <p:spPr>
          <a:xfrm>
            <a:off x="1643040" y="1643040"/>
            <a:ext cx="578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.137, ст. и вопрос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. «Повествование, описание, рассуждение» –стр.139, вопрос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i-main-pic" descr="Картинка 6 из 531"/>
          <p:cNvPicPr/>
          <p:nvPr/>
        </p:nvPicPr>
        <p:blipFill>
          <a:blip r:embed="rId2"/>
          <a:stretch/>
        </p:blipFill>
        <p:spPr>
          <a:xfrm>
            <a:off x="2571840" y="3429000"/>
            <a:ext cx="272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-main-pic" descr="Картинка 8 из 1198"/>
          <p:cNvPicPr/>
          <p:nvPr/>
        </p:nvPicPr>
        <p:blipFill>
          <a:blip r:embed="rId1"/>
          <a:stretch/>
        </p:blipFill>
        <p:spPr>
          <a:xfrm>
            <a:off x="2071800" y="2000160"/>
            <a:ext cx="5072040" cy="414360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У лукоморья дуб зелёный…» - пролог к поэме « Руслан и Людмил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http://photoshop.avalon.ru/images/exam/Verkhovikh-dub.jpg"/>
          <p:cNvPicPr/>
          <p:nvPr/>
        </p:nvPicPr>
        <p:blipFill>
          <a:blip r:embed="rId2"/>
          <a:stretch/>
        </p:blipFill>
        <p:spPr>
          <a:xfrm>
            <a:off x="2286000" y="2428920"/>
            <a:ext cx="4214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i-main-pic" descr="Картинка 1 из 531"/>
          <p:cNvPicPr/>
          <p:nvPr/>
        </p:nvPicPr>
        <p:blipFill>
          <a:blip r:embed="rId2"/>
          <a:stretch/>
        </p:blipFill>
        <p:spPr>
          <a:xfrm>
            <a:off x="1643040" y="2000160"/>
            <a:ext cx="57866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http://i019.radikal.ru/0802/e9/1ea8e0e4df54.jpg"/>
          <p:cNvPicPr/>
          <p:nvPr/>
        </p:nvPicPr>
        <p:blipFill>
          <a:blip r:embed="rId1"/>
          <a:stretch/>
        </p:blipFill>
        <p:spPr>
          <a:xfrm>
            <a:off x="1143000" y="1857240"/>
            <a:ext cx="5843520" cy="3240360"/>
          </a:xfrm>
          <a:prstGeom prst="rect">
            <a:avLst/>
          </a:prstGeom>
          <a:ln w="0">
            <a:noFill/>
          </a:ln>
        </p:spPr>
      </p:pic>
      <p:pic>
        <p:nvPicPr>
          <p:cNvPr id="382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4" descr="http://www.planetaskazok.ru/images/stories/pushkin/ruslan_i_ludmila/img_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394080" cy="2954160"/>
          </a:xfrm>
          <a:prstGeom prst="rect">
            <a:avLst/>
          </a:prstGeom>
          <a:ln w="0">
            <a:noFill/>
          </a:ln>
        </p:spPr>
      </p:pic>
      <p:pic>
        <p:nvPicPr>
          <p:cNvPr id="384" name="Заголовок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564760" cy="134136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2 из 531"/>
          <p:cNvPicPr/>
          <p:nvPr/>
        </p:nvPicPr>
        <p:blipFill>
          <a:blip r:embed="rId3"/>
          <a:stretch/>
        </p:blipFill>
        <p:spPr>
          <a:xfrm>
            <a:off x="4500720" y="207180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-main-pic" descr="Картинка 49 из 1206"/>
          <p:cNvPicPr/>
          <p:nvPr/>
        </p:nvPicPr>
        <p:blipFill>
          <a:blip r:embed="rId1"/>
          <a:stretch/>
        </p:blipFill>
        <p:spPr>
          <a:xfrm>
            <a:off x="2428920" y="178596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http://f.kinozon.tv/frames/1688-2/Film_shot00003.jpg"/>
          <p:cNvPicPr/>
          <p:nvPr/>
        </p:nvPicPr>
        <p:blipFill>
          <a:blip r:embed="rId2"/>
          <a:stretch/>
        </p:blipFill>
        <p:spPr>
          <a:xfrm>
            <a:off x="2428920" y="2143080"/>
            <a:ext cx="5000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93" name="i-main-pic" descr="Картинка 12 из 531"/>
          <p:cNvPicPr/>
          <p:nvPr/>
        </p:nvPicPr>
        <p:blipFill>
          <a:blip r:embed="rId2"/>
          <a:stretch/>
        </p:blipFill>
        <p:spPr>
          <a:xfrm>
            <a:off x="2214720" y="1857240"/>
            <a:ext cx="4147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36:45Z</dcterms:created>
  <dc:creator>user</dc:creator>
  <dc:description/>
  <dc:language>en-US</dc:language>
  <cp:lastModifiedBy>Пользователь</cp:lastModifiedBy>
  <dcterms:modified xsi:type="dcterms:W3CDTF">2013-03-03T15:24:39Z</dcterms:modified>
  <cp:revision>34</cp:revision>
  <dc:subject/>
  <dc:title>Биография  Александра Сергеевича Пушкина</dc:title>
</cp:coreProperties>
</file>