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7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6BC-5AB1-4C6A-A485-C779D327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399-AF8C-4600-9E52-DC39F92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89C-053F-47FB-BDD8-F8A776FD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F49-0538-413F-B1CB-F080309C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924-A9D8-408C-AF3B-7AB3AC1E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B719-17A4-4B61-980C-72DF2F0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3212-8E3E-4B98-B28F-785FB43A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A93-D81C-4681-9295-B5093849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42D-D16B-4D7D-A7D1-5EE4C33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56D-16E1-415A-ACDB-6A0E54B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1638-2029-4913-AB7F-C77E36A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FE9-29B6-4BC8-9D60-07327DE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392-FCC0-4EFE-B8B5-E706CC7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875-EE1E-4552-9072-2AD158D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5B0-02D8-47FD-9881-955D34C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19A4-8D5D-4FDC-8541-791F1A38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600F-124A-4D9F-8188-FE12CC80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DB8D-75DC-4F05-9F64-1C7BD556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DD22-1C15-48FF-9FA4-CAB65344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82CA-5F58-4B4B-B7FF-E6F352E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6EF1-FA5D-4B08-AB7F-B43DE16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AE91-A6D8-4E42-A146-F36C03E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E63-7975-4830-A414-B0184A9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42A0-B52C-408E-85AB-32D5B2D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3E19-FF14-4BEF-979F-4CE77D9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6C66-E15A-46B7-B220-48C4339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0B3F-7D2D-4B4B-AA82-A37B949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3B6C-9EE2-46B1-96DB-878FE4D9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696A-1751-4B9E-B853-6F3ACB60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8707-5778-4FCB-B59A-3B7B1B2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AA0F-5D76-4189-B2FA-00E8ACF8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7330-BFAE-4CD5-9487-366C6EE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AFEC-542A-46F4-9979-2F4EAA6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D7F-C7C3-46BB-BB6D-FCD9A6D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C914-B45C-4AC5-9535-E91CF65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999C-BAE5-495C-A395-D530626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CF3A-854B-4DC8-BE4A-C160BB01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4A4B-A5C7-4E54-846E-412BDDA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2EF3-815F-4A4D-942A-C35BA1D8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C02B-1AE8-4C99-89D6-2EC6540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E77F-2D69-4285-9DF4-DE6C474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451B-DC6D-4071-AB8D-67970E8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8A1F-A26B-4751-B0BF-475636A0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44C7-0072-49CE-9F3F-BA608AA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265-8B8A-4D2D-B592-3CA801C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36A0-2C14-4C12-A11F-C566C51D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B4AD-2B1D-4CD0-813D-45849B0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6760-70F1-44D0-90A2-A60685E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55A6-5371-4B86-A7B3-4D89AD6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CB05-018A-40A5-A6AC-3A10532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45D4-CBF6-4A2F-B6D7-B82B0F3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9915-EA6E-4D8F-9B2C-9B868CB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F3C1-6948-46B4-A2B4-DA3A98A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A864-C809-42A9-93F8-95D778F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BDCF-BBE1-4F3D-9499-CBDFE5B2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603-2BE2-4384-9DE8-81959917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6CE9-17F1-4194-B318-FA13A724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AE40-9C68-4131-860A-31126440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7FCE-916D-4C07-8898-246A259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4F48-74B3-4C88-BDE0-E9D14422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121B-B805-4E18-8F69-ACAF42B3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9437-EC1B-4BEF-A97D-ACFA124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C272-F881-44CE-9B70-ADF18D03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152E-2163-4D52-88E9-2F76E86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2F11-F4EA-4F48-94BA-239A000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CC266-4396-43B3-B014-ED308BB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070-4E94-48F2-9F82-A90989E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927D-EBB8-41D5-B9EA-E0156F56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3659-498E-42EE-8C79-1788C573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4BF7-0E2D-4913-874F-1C955EBF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9998A-55B2-46DC-A46D-9C838761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D9466-724F-42D3-9843-ED68EB6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268AF-CF72-4A7B-90AF-6A400E93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5B9B-A526-45DA-8500-118D3ED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5876-2F33-409A-80CA-18BC1240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2E1D-ED83-4212-A714-0820C8B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0827D-5D08-4657-90C0-DEA59E4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246-A4E8-49C3-BBA5-3110B03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FA87-F314-49C9-8D83-328952A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5369-2F54-4F83-B533-8E0FDF5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C7F36-E2EC-4664-8B2D-3B0434BC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98928-8E27-48A5-8AFB-A79EB2B4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4556-9863-49BE-98C5-ACED1BCC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4234-2B22-4E0C-AEF9-DF257AAA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5B77-4034-4965-908C-A5DFB01F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211E-AFC2-48BA-A99A-C948276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8FCE8-4C13-4777-95CB-D8B65981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6690-715A-4069-AC75-1A58F22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357-23AC-4A95-A921-76988AE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6E23-5E26-4430-9344-4061B43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D8DCB-1E8A-4A06-80CE-32D48EE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7A73-9A67-402F-ABD4-27CFC58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C688A-949A-43CB-BE0E-88FD916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CAB5-667A-4291-8DFE-930847B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95DDF-4F04-4C0D-9FE2-B42FC2C9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E8E3F-451D-40DD-8E77-EEEA0FB6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D119-D98D-4447-8249-A16740D676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6E7-5FDA-41ED-9638-7C508EBBEA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0AD-F03C-4B00-9E35-B8784A9183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AC50-43E6-492F-BAA2-C85C20614B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07B9-CED4-4FF1-B468-D305C16170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5AA-DB61-45CF-AA69-5661651B76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4CDF-A271-4D44-87B6-1D8AD6B466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0E4-ED36-42F2-869F-7D9B2CFFF4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749160" y="182520"/>
            <a:ext cx="4322880" cy="3614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А.С. Пушкин"/>
          <p:cNvPicPr/>
          <p:nvPr/>
        </p:nvPicPr>
        <p:blipFill>
          <a:blip r:embed="rId2"/>
          <a:stretch/>
        </p:blipFill>
        <p:spPr>
          <a:xfrm>
            <a:off x="4894200" y="981000"/>
            <a:ext cx="3429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3" descr="http://f.kinozon.tv/frames/1688-2/Film_shot00011.jpg"/>
          <p:cNvPicPr/>
          <p:nvPr/>
        </p:nvPicPr>
        <p:blipFill>
          <a:blip r:embed="rId2"/>
          <a:stretch/>
        </p:blipFill>
        <p:spPr>
          <a:xfrm>
            <a:off x="1643040" y="1643040"/>
            <a:ext cx="578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.137, ст. и вопрос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. «Повествование, описание, рассуждение» –стр.139, вопрос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i-main-pic" descr="Картинка 6 из 531"/>
          <p:cNvPicPr/>
          <p:nvPr/>
        </p:nvPicPr>
        <p:blipFill>
          <a:blip r:embed="rId2"/>
          <a:stretch/>
        </p:blipFill>
        <p:spPr>
          <a:xfrm>
            <a:off x="2571840" y="3429000"/>
            <a:ext cx="272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-main-pic" descr="Картинка 8 из 1198"/>
          <p:cNvPicPr/>
          <p:nvPr/>
        </p:nvPicPr>
        <p:blipFill>
          <a:blip r:embed="rId1"/>
          <a:stretch/>
        </p:blipFill>
        <p:spPr>
          <a:xfrm>
            <a:off x="2071800" y="2000160"/>
            <a:ext cx="5072040" cy="414360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У лукоморья дуб зелёный…» - пролог к поэме « Руслан и Людмил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http://photoshop.avalon.ru/images/exam/Verkhovikh-dub.jpg"/>
          <p:cNvPicPr/>
          <p:nvPr/>
        </p:nvPicPr>
        <p:blipFill>
          <a:blip r:embed="rId2"/>
          <a:stretch/>
        </p:blipFill>
        <p:spPr>
          <a:xfrm>
            <a:off x="2286000" y="2428920"/>
            <a:ext cx="4214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i-main-pic" descr="Картинка 1 из 531"/>
          <p:cNvPicPr/>
          <p:nvPr/>
        </p:nvPicPr>
        <p:blipFill>
          <a:blip r:embed="rId2"/>
          <a:stretch/>
        </p:blipFill>
        <p:spPr>
          <a:xfrm>
            <a:off x="1643040" y="2000160"/>
            <a:ext cx="57866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http://i019.radikal.ru/0802/e9/1ea8e0e4df54.jpg"/>
          <p:cNvPicPr/>
          <p:nvPr/>
        </p:nvPicPr>
        <p:blipFill>
          <a:blip r:embed="rId1"/>
          <a:stretch/>
        </p:blipFill>
        <p:spPr>
          <a:xfrm>
            <a:off x="1143000" y="1857240"/>
            <a:ext cx="5843520" cy="3240360"/>
          </a:xfrm>
          <a:prstGeom prst="rect">
            <a:avLst/>
          </a:prstGeom>
          <a:ln w="0">
            <a:noFill/>
          </a:ln>
        </p:spPr>
      </p:pic>
      <p:pic>
        <p:nvPicPr>
          <p:cNvPr id="382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4" descr="http://www.planetaskazok.ru/images/stories/pushkin/ruslan_i_ludmila/img_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394080" cy="2954160"/>
          </a:xfrm>
          <a:prstGeom prst="rect">
            <a:avLst/>
          </a:prstGeom>
          <a:ln w="0">
            <a:noFill/>
          </a:ln>
        </p:spPr>
      </p:pic>
      <p:pic>
        <p:nvPicPr>
          <p:cNvPr id="384" name="Заголовок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564760" cy="134136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2 из 531"/>
          <p:cNvPicPr/>
          <p:nvPr/>
        </p:nvPicPr>
        <p:blipFill>
          <a:blip r:embed="rId3"/>
          <a:stretch/>
        </p:blipFill>
        <p:spPr>
          <a:xfrm>
            <a:off x="4500720" y="207180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-main-pic" descr="Картинка 49 из 1206"/>
          <p:cNvPicPr/>
          <p:nvPr/>
        </p:nvPicPr>
        <p:blipFill>
          <a:blip r:embed="rId1"/>
          <a:stretch/>
        </p:blipFill>
        <p:spPr>
          <a:xfrm>
            <a:off x="2428920" y="178596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http://f.kinozon.tv/frames/1688-2/Film_shot00003.jpg"/>
          <p:cNvPicPr/>
          <p:nvPr/>
        </p:nvPicPr>
        <p:blipFill>
          <a:blip r:embed="rId2"/>
          <a:stretch/>
        </p:blipFill>
        <p:spPr>
          <a:xfrm>
            <a:off x="2428920" y="2143080"/>
            <a:ext cx="5000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12 из 531"/>
          <p:cNvPicPr/>
          <p:nvPr/>
        </p:nvPicPr>
        <p:blipFill>
          <a:blip r:embed="rId2"/>
          <a:stretch/>
        </p:blipFill>
        <p:spPr>
          <a:xfrm>
            <a:off x="2214720" y="1857240"/>
            <a:ext cx="4147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36:45Z</dcterms:created>
  <dc:creator>user</dc:creator>
  <dc:description/>
  <dc:language>en-US</dc:language>
  <cp:lastModifiedBy>Пользователь</cp:lastModifiedBy>
  <dcterms:modified xsi:type="dcterms:W3CDTF">2013-03-03T15:24:39Z</dcterms:modified>
  <cp:revision>34</cp:revision>
  <dc:subject/>
  <dc:title>Биография  Александра Сергеевича Пушкина</dc:title>
</cp:coreProperties>
</file>