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74F-4E89-4892-9407-B381299F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804-4E25-4B08-AB72-7AE0383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7FA-C850-47A3-90F5-B922B394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A8E-900A-449A-B6AC-8D053153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902-E384-4D87-B254-569B7362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727-1FF3-45FD-A591-F5AEA027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3A0-67DE-43A3-A283-8FB960D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5C68-52AF-4AC2-BB34-498EB280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457-610D-40A2-A7BC-C7A0EBF0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A94-6286-4588-AD6A-EA2773A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3E12-5499-45A8-B863-B7A1DD9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E60-33CE-4E46-85C2-81036F33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8418-4A26-42B2-991D-C8065B9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7290-502C-4866-8199-407F0BD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0969-1FF2-48C8-87D5-6339DF0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78E-C574-4A68-9CB0-88703CA0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09AF-CA2E-4553-AD99-C117E387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ADE5-1BAD-4709-8D8D-2BF6B311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2C05-18BF-416C-8B99-99A6922D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575E-2904-4B3A-9680-AA46B17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E51E-1904-4CF3-921F-C4324BF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0F83-D488-4CAC-9B19-B6753B1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6F1-AF10-42AA-9504-3181ABEC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E6BF-B27A-4324-9915-87E5B02F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DF3C-4839-4FB2-B4B3-D36FBEC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F830-1390-42CD-BC2B-96A11932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CB42-41FA-4E7B-84BD-042EA0B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D13A-EA2D-4FAA-859E-F1161E20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83A9-853F-4E09-A980-4F33326F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916D-243A-40A5-A069-7303ECB2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B68E-13F3-4BB1-8950-BDED6C5D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827E-8181-40C6-87E1-0DB99F93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93ED-2E22-4E80-A1B0-B3044286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F81-7424-497F-B4DA-E1F45C2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3F01-2301-4810-95B8-D3887CFC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E863-6AF9-4FD9-8E6B-12CEEB1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54D0-644C-4C95-B743-BD887B1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0D4B-FA35-4770-8FD3-547B150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4FB1-05C4-491C-AD9C-E93877D0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0193-9251-4A09-AE3C-271BEE9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B052-7520-4126-9194-A54F99C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6C64-671B-49A0-A0F2-0B296D95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E2BD2-5825-428A-A5E1-5A4D8C19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1ECA-3E6A-4E5D-8183-43652381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BA5-01F8-4178-B612-EAB67F4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936C-680A-4FBC-89CC-DF2B5B8C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EA5D-72ED-4F73-A277-323E6541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B741-2972-40E2-A15B-F899F0D1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FBF7C-0528-4744-B460-FD49D650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9DF5-53E1-444D-8DB1-9B2F5675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2EE2-36C2-4E21-B148-A46A50A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3A213-5AD0-4120-AE5D-55CCBCE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1B5B1-FE08-468A-AF5F-B7BA72A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9212-AE3C-4C59-8B65-5AE817D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68F1-C65F-4812-847E-6CBE146B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C0D-494B-4A0E-863A-4187A958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72F7-CC5D-45EC-A911-B6450AF4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39661-FD4E-44C9-9102-80FC1B65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F6CDE-29F6-4B58-8140-F8C4558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7A8F-5B00-4229-B48C-E8B715A7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D14F-277F-49F4-86D0-96791511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2468-13AC-4684-95BB-709B237F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337A3-FF59-4D6C-91D8-8092E2E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2982-5B5F-4987-97EC-DC2A612D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AACEC-5DEE-4383-BFB5-3AF5529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E23B-B64C-4C95-BA55-5023963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760-07EB-4D27-9686-C45AD93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9623-0302-4E06-BDD6-559F16D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E8077-9C5F-4438-9BAB-D854E482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37A1C-524D-4436-B910-50C56E15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2A5DB-4D2B-4457-8823-8D5B09C5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17B08-F766-40B1-AE35-1665CA3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663E-20D7-4938-8B17-A1F2223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F55C-346A-4E31-82E5-BF7C9E2D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158F-B672-4A41-AA38-B0E78F0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1C30-6804-41B0-9142-4AA153E1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F175C-256B-4EC9-811D-FF95090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642-9E33-40DE-90BD-14C5232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7E2D-F6F0-4CF9-BCEA-4C845AD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FE09D-0658-4009-8721-0B8879B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15FD-90AF-4087-9CFD-2D382C62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7D2E-051A-48AF-B6D5-0D657FCA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F5B9-CB20-49E6-89D9-66E14854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EA030-7C9C-4311-A244-2038A56C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3383-9328-4BF1-923F-ADCF8707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675E8-8801-42CE-A70A-57B62B3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16FEA-EF2C-49CC-95AC-0464F614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53731-BD6C-47BA-999A-7E0D1E1C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DD3-C40C-4455-94A7-413E690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1B0E9-3724-4AE1-8E51-AAE4B8C4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57AA-C8C4-4EF1-834C-33425E2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0B8DC-521A-4F76-8958-F923B34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EE53-709F-44E9-B243-C1A5037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A440-26CE-4A1A-81BC-28D2D31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59928-5037-4AC2-BF1A-D8D93306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13192-1108-45EC-8950-E9FBC426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141-F49C-4FB5-BAA8-D5AE5D7D80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0B59-FF91-466F-9429-D5FE6C1793E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38C-0849-4947-9848-35B809B828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410E-699F-42D4-8691-BA2F319C60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CD2-4046-4B38-9B7B-EB7A402388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DBCF-78AB-467E-A311-14B66F8966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828-9942-45E5-9533-A54109C9CA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454A-A140-4810-81FB-6F9FFFA54FC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b0f0"/>
                </a:solidFill>
                <a:latin typeface="Lucida Sans Unicode"/>
              </a:rPr>
              <a:t>СТИХИ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b0f0"/>
                </a:solidFill>
                <a:latin typeface="Lucida Sans Unicode"/>
              </a:rPr>
              <a:t>А.С. ПУШКИНА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6" descr="Пушкин 001"/>
          <p:cNvPicPr/>
          <p:nvPr/>
        </p:nvPicPr>
        <p:blipFill>
          <a:blip r:embed="rId1"/>
          <a:stretch/>
        </p:blipFill>
        <p:spPr>
          <a:xfrm>
            <a:off x="5857920" y="1571760"/>
            <a:ext cx="242892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Мороз и солнце; день чудесный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Еще ты дремлешь, друг прелестный 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Пора, красавица, проснись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Открой сомкнуты негой взоры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Навстречу северной Авроры,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Звездою севера явись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Мороз и солнце; день чудесный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      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         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3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           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Lucida Sans Unicode"/>
              </a:rPr>
              <a:t>Размер</a:t>
            </a:r>
            <a:r>
              <a:rPr b="1" lang="ru-RU" sz="4400" spc="-1" strike="noStrike">
                <a:solidFill>
                  <a:srgbClr val="00b050"/>
                </a:solidFill>
                <a:latin typeface="Lucida Sans Unicode"/>
              </a:rPr>
              <a:t> – четырёхстопный ямб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Прямая соединительная линия 4"/>
          <p:cNvSpPr/>
          <p:nvPr/>
        </p:nvSpPr>
        <p:spPr>
          <a:xfrm flipH="1">
            <a:off x="1355760" y="1571760"/>
            <a:ext cx="14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6"/>
          <p:cNvSpPr/>
          <p:nvPr/>
        </p:nvSpPr>
        <p:spPr>
          <a:xfrm flipH="1">
            <a:off x="2141640" y="1571760"/>
            <a:ext cx="144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8"/>
          <p:cNvSpPr/>
          <p:nvPr/>
        </p:nvSpPr>
        <p:spPr>
          <a:xfrm flipH="1">
            <a:off x="2498760" y="1571760"/>
            <a:ext cx="144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10"/>
          <p:cNvSpPr/>
          <p:nvPr/>
        </p:nvSpPr>
        <p:spPr>
          <a:xfrm flipH="1">
            <a:off x="3785760" y="1500120"/>
            <a:ext cx="1800" cy="6429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2"/>
          <p:cNvSpPr/>
          <p:nvPr/>
        </p:nvSpPr>
        <p:spPr>
          <a:xfrm>
            <a:off x="4357800" y="1571760"/>
            <a:ext cx="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16"/>
          <p:cNvSpPr/>
          <p:nvPr/>
        </p:nvSpPr>
        <p:spPr>
          <a:xfrm flipH="1">
            <a:off x="5715000" y="1571760"/>
            <a:ext cx="144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8"/>
          <p:cNvSpPr/>
          <p:nvPr/>
        </p:nvSpPr>
        <p:spPr>
          <a:xfrm flipH="1">
            <a:off x="6286680" y="1500120"/>
            <a:ext cx="1440" cy="5716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20"/>
          <p:cNvSpPr/>
          <p:nvPr/>
        </p:nvSpPr>
        <p:spPr>
          <a:xfrm flipV="1">
            <a:off x="7143840" y="1500120"/>
            <a:ext cx="1440" cy="5716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24"/>
          <p:cNvSpPr/>
          <p:nvPr/>
        </p:nvSpPr>
        <p:spPr>
          <a:xfrm>
            <a:off x="642960" y="2714760"/>
            <a:ext cx="5713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26"/>
          <p:cNvSpPr/>
          <p:nvPr/>
        </p:nvSpPr>
        <p:spPr>
          <a:xfrm>
            <a:off x="1357200" y="2714760"/>
            <a:ext cx="6429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28"/>
          <p:cNvSpPr/>
          <p:nvPr/>
        </p:nvSpPr>
        <p:spPr>
          <a:xfrm>
            <a:off x="2214720" y="2714760"/>
            <a:ext cx="3571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30"/>
          <p:cNvSpPr/>
          <p:nvPr/>
        </p:nvSpPr>
        <p:spPr>
          <a:xfrm>
            <a:off x="2786040" y="2714760"/>
            <a:ext cx="8571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32"/>
          <p:cNvSpPr/>
          <p:nvPr/>
        </p:nvSpPr>
        <p:spPr>
          <a:xfrm>
            <a:off x="3929040" y="2714760"/>
            <a:ext cx="4287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4"/>
          <p:cNvSpPr/>
          <p:nvPr/>
        </p:nvSpPr>
        <p:spPr>
          <a:xfrm>
            <a:off x="4714920" y="2714760"/>
            <a:ext cx="9288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36"/>
          <p:cNvSpPr/>
          <p:nvPr/>
        </p:nvSpPr>
        <p:spPr>
          <a:xfrm>
            <a:off x="6000840" y="2714760"/>
            <a:ext cx="3571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38"/>
          <p:cNvSpPr/>
          <p:nvPr/>
        </p:nvSpPr>
        <p:spPr>
          <a:xfrm>
            <a:off x="6500880" y="2714760"/>
            <a:ext cx="5000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40"/>
          <p:cNvSpPr/>
          <p:nvPr/>
        </p:nvSpPr>
        <p:spPr>
          <a:xfrm>
            <a:off x="7286760" y="2643120"/>
            <a:ext cx="7855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42"/>
          <p:cNvSpPr/>
          <p:nvPr/>
        </p:nvSpPr>
        <p:spPr>
          <a:xfrm flipH="1">
            <a:off x="1714680" y="2357280"/>
            <a:ext cx="14256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44"/>
          <p:cNvSpPr/>
          <p:nvPr/>
        </p:nvSpPr>
        <p:spPr>
          <a:xfrm flipH="1">
            <a:off x="3214440" y="2499480"/>
            <a:ext cx="21420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46"/>
          <p:cNvSpPr/>
          <p:nvPr/>
        </p:nvSpPr>
        <p:spPr>
          <a:xfrm flipH="1">
            <a:off x="5000400" y="2428920"/>
            <a:ext cx="1429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48"/>
          <p:cNvSpPr/>
          <p:nvPr/>
        </p:nvSpPr>
        <p:spPr>
          <a:xfrm flipH="1">
            <a:off x="6714720" y="2428920"/>
            <a:ext cx="1429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50"/>
          <p:cNvSpPr/>
          <p:nvPr/>
        </p:nvSpPr>
        <p:spPr>
          <a:xfrm flipH="1">
            <a:off x="2069640" y="1928880"/>
            <a:ext cx="1800" cy="928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52"/>
          <p:cNvSpPr/>
          <p:nvPr/>
        </p:nvSpPr>
        <p:spPr>
          <a:xfrm flipH="1">
            <a:off x="3712680" y="2000160"/>
            <a:ext cx="1800" cy="714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54"/>
          <p:cNvSpPr/>
          <p:nvPr/>
        </p:nvSpPr>
        <p:spPr>
          <a:xfrm flipH="1">
            <a:off x="5715000" y="2000160"/>
            <a:ext cx="1440" cy="714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57"/>
          <p:cNvSpPr/>
          <p:nvPr/>
        </p:nvSpPr>
        <p:spPr>
          <a:xfrm flipH="1">
            <a:off x="7143840" y="2143080"/>
            <a:ext cx="1440" cy="6429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Lucida Sans Unicode"/>
              </a:rPr>
              <a:t>Стих. «Зимнее утро» наизусть, стр.213-215, записи в тетради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.14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«Нян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сканирование0002"/>
          <p:cNvPicPr/>
          <p:nvPr/>
        </p:nvPicPr>
        <p:blipFill>
          <a:blip r:embed="rId2"/>
          <a:srcRect l="0" t="0" r="0" b="-255"/>
          <a:stretch/>
        </p:blipFill>
        <p:spPr>
          <a:xfrm>
            <a:off x="3786120" y="2143080"/>
            <a:ext cx="3643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Lucida Sans Unicode"/>
              </a:rPr>
              <a:t>« Зимний вечер»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" descr=""/>
          <p:cNvPicPr/>
          <p:nvPr/>
        </p:nvPicPr>
        <p:blipFill>
          <a:blip r:embed="rId2"/>
          <a:stretch/>
        </p:blipFill>
        <p:spPr>
          <a:xfrm>
            <a:off x="1785960" y="2714760"/>
            <a:ext cx="4327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«Зимнее утро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" descr=""/>
          <p:cNvPicPr/>
          <p:nvPr/>
        </p:nvPicPr>
        <p:blipFill>
          <a:blip r:embed="rId2"/>
          <a:stretch/>
        </p:blipFill>
        <p:spPr>
          <a:xfrm>
            <a:off x="2357280" y="2571840"/>
            <a:ext cx="435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Ритм-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 смена интонации, логического ударения, повторов, рифм 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Рифма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- звуковое совпадение, созвучие последних слогов слов в конце строки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Стих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3700" spc="-1" strike="noStrike">
                <a:solidFill>
                  <a:srgbClr val="00b050"/>
                </a:solidFill>
                <a:latin typeface="Lucida Sans Unicode"/>
              </a:rPr>
              <a:t>одна </a:t>
            </a:r>
            <a:r>
              <a:rPr b="1" lang="ru-RU" sz="3700" spc="-1" strike="noStrike">
                <a:solidFill>
                  <a:srgbClr val="002060"/>
                </a:solidFill>
                <a:latin typeface="Lucida Sans Unicode"/>
              </a:rPr>
              <a:t>стихотворная строка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Lucida Sans Unicode"/>
              </a:rPr>
              <a:t>Мужская рифма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 – ударение на </a:t>
            </a:r>
            <a:r>
              <a:rPr b="0" lang="ru-RU" sz="3700" spc="-1" strike="noStrike">
                <a:solidFill>
                  <a:srgbClr val="002060"/>
                </a:solidFill>
                <a:latin typeface="Lucida Sans Unicode"/>
              </a:rPr>
              <a:t>последнем слоге 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последнего слова в строке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70c0"/>
                </a:solidFill>
                <a:latin typeface="Lucida Sans Unicode"/>
              </a:rPr>
              <a:t>«Пора, красавица, прос</a:t>
            </a: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нись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…»-м.рифма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«Мороз и солнце; день чу</a:t>
            </a:r>
            <a:r>
              <a:rPr b="0" lang="ru-RU" sz="3700" spc="-1" strike="noStrike">
                <a:solidFill>
                  <a:srgbClr val="c00000"/>
                </a:solidFill>
                <a:latin typeface="Lucida Sans Unicode"/>
              </a:rPr>
              <a:t>дес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ный!»- ж.рифма, т.к. 2-й слог от конца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Lucida Sans Unicode"/>
              </a:rPr>
              <a:t>Женская  рифма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– ударение на </a:t>
            </a: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предпоследнем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 слоге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следнего слова в строке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«Мороз и солнце; день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чу</a:t>
            </a: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дес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ный!»- ж.рифма, т.к. </a:t>
            </a: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2-й слог от конц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Lucida Sans Unicode"/>
              </a:rPr>
              <a:t>Строфа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-группа стихов, связанных общей системой рифмовки, единой интонацией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Сквозь волнистые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туманы</a:t>
            </a: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Пробирается </a:t>
            </a:r>
            <a:r>
              <a:rPr b="1" lang="ru-RU" sz="4000" spc="-1" strike="noStrike">
                <a:solidFill>
                  <a:srgbClr val="00b050"/>
                </a:solidFill>
                <a:latin typeface="Lucida Sans Unicode"/>
              </a:rPr>
              <a:t>луна</a:t>
            </a: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На печальные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поляны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Льёт печальный свет </a:t>
            </a:r>
            <a:r>
              <a:rPr b="1" lang="ru-RU" sz="4000" spc="-1" strike="noStrike">
                <a:solidFill>
                  <a:srgbClr val="00b050"/>
                </a:solidFill>
                <a:latin typeface="Lucida Sans Unicode"/>
              </a:rPr>
              <a:t>он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"/>
          <p:cNvPicPr/>
          <p:nvPr/>
        </p:nvPicPr>
        <p:blipFill>
          <a:blip r:embed="rId2"/>
          <a:stretch/>
        </p:blipFill>
        <p:spPr>
          <a:xfrm>
            <a:off x="7286760" y="285840"/>
            <a:ext cx="1428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Lucida Sans Unicode"/>
              </a:rPr>
              <a:t>Стопа </a:t>
            </a: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–сочетание ударных и безударных слогов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Стихотворные размеры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дв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у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слож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ные     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тр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ёх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слож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ны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ямб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             ___ дактил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хорей         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_ - амфи-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брахий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_-анапес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ая соединительная линия 4"/>
          <p:cNvSpPr/>
          <p:nvPr/>
        </p:nvSpPr>
        <p:spPr>
          <a:xfrm flipH="1">
            <a:off x="4572000" y="3429000"/>
            <a:ext cx="1440" cy="25779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7"/>
          <p:cNvSpPr/>
          <p:nvPr/>
        </p:nvSpPr>
        <p:spPr>
          <a:xfrm flipH="1">
            <a:off x="1213920" y="3571920"/>
            <a:ext cx="1429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 flipH="1">
            <a:off x="5000400" y="3500280"/>
            <a:ext cx="142920" cy="2858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1"/>
          <p:cNvSpPr/>
          <p:nvPr/>
        </p:nvSpPr>
        <p:spPr>
          <a:xfrm flipH="1">
            <a:off x="785520" y="421488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3"/>
          <p:cNvSpPr/>
          <p:nvPr/>
        </p:nvSpPr>
        <p:spPr>
          <a:xfrm flipH="1">
            <a:off x="2642760" y="4357800"/>
            <a:ext cx="7164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5"/>
          <p:cNvSpPr/>
          <p:nvPr/>
        </p:nvSpPr>
        <p:spPr>
          <a:xfrm flipH="1">
            <a:off x="5143680" y="4143240"/>
            <a:ext cx="142560" cy="21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7"/>
          <p:cNvSpPr/>
          <p:nvPr/>
        </p:nvSpPr>
        <p:spPr>
          <a:xfrm flipH="1">
            <a:off x="6928920" y="4500720"/>
            <a:ext cx="142920" cy="142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 flipH="1">
            <a:off x="6071760" y="5286240"/>
            <a:ext cx="7164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22"/>
          <p:cNvSpPr/>
          <p:nvPr/>
        </p:nvSpPr>
        <p:spPr>
          <a:xfrm flipH="1">
            <a:off x="7357680" y="5143680"/>
            <a:ext cx="71640" cy="71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36:45Z</dcterms:created>
  <dc:creator>user</dc:creator>
  <dc:description/>
  <dc:language>en-US</dc:language>
  <cp:lastModifiedBy>Пользователь</cp:lastModifiedBy>
  <dcterms:modified xsi:type="dcterms:W3CDTF">2013-03-03T15:34:36Z</dcterms:modified>
  <cp:revision>30</cp:revision>
  <dc:subject/>
  <dc:title>Биография  Александра Сергеевича Пушкина</dc:title>
</cp:coreProperties>
</file>