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0DE-4BD6-46BE-9BFF-C681FE73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954-B97B-46B6-9E0A-8AA11A30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441-0CA0-4F1E-94AB-CB0F3BA3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4A0-F61E-416F-AE1A-AABDC70A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9DF5-A5DF-43B7-A0F9-41082790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417E-2ED4-49C3-A989-118444CD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DE11-E2F3-4EDE-A8DD-204C4E43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4790-E76D-4EE0-BE97-2BF8CA7C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A721-B56B-46C8-92B5-D3ED2BC2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EC7A-F002-4689-9A3F-0E269118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3FBD-D9F1-4F98-B967-2744179B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785-5060-44CD-BE55-EAFB5450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29DF-14ED-4CB6-8AFE-858443EB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F0D4-31A5-4E5E-912D-8E5F3694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BEAD-4CC6-4B1A-9363-3C1D08F2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17FB-05B7-445C-B5AF-D1328650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AB45-7571-4E9E-ABE0-22ADE2F3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6F2C-4CDD-4C93-B0FE-54450125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B396-4A72-4D60-9F1F-D78133CA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B051-EFCB-4144-A384-6A98E4AB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CDEC-CB9E-477F-BB57-8DC64FC8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F1C6D-F483-4DC3-96CE-4AD34B5E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257-5954-4BE9-8576-A616715B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E574-2C5A-4408-B22D-06297040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5FB4-7F83-4598-A6B6-06F22361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DFE1D-240B-4467-A841-0F3A3C63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B860-B2DA-48DC-A15E-5AAB1A91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9C61F-5C87-4CE8-A398-BB434621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F34C-054B-4AF8-B574-C5C6B95A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F324-C54C-4FA9-A4C2-B1623B51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6881E-6578-48B7-AA11-4D638974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7502-B48F-4BF5-932D-5964117D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E9EDD-A0C4-4AD5-99CB-D8143F16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53A-5DB4-4B88-BBE5-A92130E2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6705-7522-4183-9006-690FFC52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64848-FA3F-4709-986B-17DBF30D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D2D2-DAF3-4B27-985B-2F3F2487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FD51-8942-4AFE-831F-F89A53A8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9021-E59C-4717-A73D-7209803F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94C29-7A3A-4194-8B4F-69AEA4C2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FF0BE-D9CB-441D-8120-974EF31E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8A9AE-B8B7-4B77-9C0E-BF2B4772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87283-B703-4656-8328-9D69A593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BD03-6ECB-41ED-BC8E-F9B1BD6D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553-0C99-403C-999F-FD29EEF4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CCFCF-47A4-4919-8D65-4D80462E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0E8AF-80B1-4D28-806D-69F133DD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9C15C-D022-4EEF-BFB2-28921F48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62AC7-7E76-4B30-BE80-24ABE4D5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A028-05BB-4798-8624-7F158723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73944-7BBF-4058-8048-9B6AD7B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1DE2F-0D37-453D-A3F8-7706CD69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18853-E721-4208-9349-A62206E5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39F6-9946-49F9-B2DE-8CCF1DA5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43F51-F061-43F5-853D-62F9C57E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7CE-DEAA-4DBE-B0D2-C0266A2A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BDB1-CEA6-4537-90B7-0171B9BD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B3B48-9409-43A3-BDFA-A6DEA65A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1DD3D-AB44-4F1D-9ABE-A7473B85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E65F-9A41-408F-AF7A-247B786C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D4563-65AE-42BE-89BA-87CBC715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1EF64-AAAC-4DDA-9A9C-8958B089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5565D-8834-4CFE-95F9-B9EB6D66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8A81-8D00-4A6E-AC94-AE30DB3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2D1EF-C613-4955-95A8-8657E538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48E9C-6CFA-4BCB-B155-19D56A1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B5C-90C0-456C-BDD5-43E4991E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EEE88-A177-4E6B-B87C-61EDFD09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44485-30CF-47D0-9D2B-447252CE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816B3-8C1D-4D93-B682-E2C4D5D3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CF273-14E1-4CEE-AF18-32B5A696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9129C-0D14-460A-8C0B-F0EF7DE9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19F98-39A9-421B-B42B-1D38ACD9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349E6-FE2F-4DFE-B35D-76C646FE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E02F7-4F0D-4B66-ACB9-49DEB3CF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CE58B-6751-46F5-9F20-2E183EEB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BAC9F-3092-4DCD-B683-4882C9AE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9E8-E148-48FD-9DF8-39237781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1E6B3-3C85-4F5E-9C7F-2219AD57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7657D-82C5-45C9-934D-E9DCAC3F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3AB42-A224-4009-A80B-5DD63802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D4FE7-D0A1-4C0E-9892-42884492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D1771-D8ED-44C1-8BBC-DA44F7D4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91DC9-16B8-456B-95C3-D22D7BC5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C6FC3-836E-46F4-A295-C4E689C9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48A1A-980D-4843-9F37-676B91B4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ED274-F599-4834-B600-0D2C9535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2C4CA-5C12-41B2-AC86-97E21E03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B62-D59D-4E43-B9A6-C4A2B1D3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C5B95-26A6-44B5-8E31-54074D0D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F1C0B-E325-4184-9C6C-2076ED8D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50DF5-1FF6-483E-A228-25690B03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82B4C-583E-40D9-8F95-28325FD1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96EF1-B70F-463F-BCF3-EACACBEB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641E3-480A-43E3-AD14-92528FB2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6EAC2-7AB2-4AF3-A547-AE3F018B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91FC-59C0-4F52-9E97-67D9AC69A0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DFA7-CFA2-492F-BFEA-51BCA383203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C85E-90E4-4122-B18B-3131FF22FD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234B-FA9A-4DE2-870D-FEB2425F9F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4117-BBFA-49E0-8BFC-8A717E6EC1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57F9-2E03-4C32-8F7E-62E3162CE9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A5F3-E602-45C7-847B-9F65AA1D6A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6B31-8C80-4E0C-9570-C7252FC39A7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b0f0"/>
                </a:solidFill>
                <a:latin typeface="Lucida Sans Unicode"/>
              </a:rPr>
              <a:t>СТИХИ 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b0f0"/>
                </a:solidFill>
                <a:latin typeface="Lucida Sans Unicode"/>
              </a:rPr>
              <a:t>А.С. ПУШКИНА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6" descr="Пушкин 001"/>
          <p:cNvPicPr/>
          <p:nvPr/>
        </p:nvPicPr>
        <p:blipFill>
          <a:blip r:embed="rId1"/>
          <a:stretch/>
        </p:blipFill>
        <p:spPr>
          <a:xfrm>
            <a:off x="5857920" y="1571760"/>
            <a:ext cx="242892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Мороз и солнце; день чудесный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Еще ты дремлешь, друг прелестный 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Пора, красавица, проснись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Открой сомкнуты негой взоры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Навстречу северной Авроры,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Звездою севера явись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Sans Unicode"/>
              </a:rPr>
              <a:t>Мороз и солнце; день чудесный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1</a:t>
            </a:r>
            <a:r>
              <a:rPr b="1" lang="ru-RU" sz="2000" spc="-1" strike="noStrike">
                <a:solidFill>
                  <a:srgbClr val="00b050"/>
                </a:solidFill>
                <a:latin typeface="Lucida Sans Unicode"/>
              </a:rPr>
              <a:t> стопа       </a:t>
            </a: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2</a:t>
            </a:r>
            <a:r>
              <a:rPr b="1" lang="ru-RU" sz="2000" spc="-1" strike="noStrike">
                <a:solidFill>
                  <a:srgbClr val="00b050"/>
                </a:solidFill>
                <a:latin typeface="Lucida Sans Unicode"/>
              </a:rPr>
              <a:t> стопа          </a:t>
            </a: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3</a:t>
            </a:r>
            <a:r>
              <a:rPr b="1" lang="ru-RU" sz="2000" spc="-1" strike="noStrike">
                <a:solidFill>
                  <a:srgbClr val="00b050"/>
                </a:solidFill>
                <a:latin typeface="Lucida Sans Unicode"/>
              </a:rPr>
              <a:t> стопа            </a:t>
            </a: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4</a:t>
            </a:r>
            <a:r>
              <a:rPr b="1" lang="ru-RU" sz="2000" spc="-1" strike="noStrike">
                <a:solidFill>
                  <a:srgbClr val="00b050"/>
                </a:solidFill>
                <a:latin typeface="Lucida Sans Unicode"/>
              </a:rPr>
              <a:t> стоп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Lucida Sans Unicode"/>
              </a:rPr>
              <a:t>Размер</a:t>
            </a:r>
            <a:r>
              <a:rPr b="1" lang="ru-RU" sz="4400" spc="-1" strike="noStrike">
                <a:solidFill>
                  <a:srgbClr val="00b050"/>
                </a:solidFill>
                <a:latin typeface="Lucida Sans Unicode"/>
              </a:rPr>
              <a:t> – четырёхстопный ямб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Прямая соединительная линия 4"/>
          <p:cNvSpPr/>
          <p:nvPr/>
        </p:nvSpPr>
        <p:spPr>
          <a:xfrm flipH="1">
            <a:off x="1355760" y="1571760"/>
            <a:ext cx="14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6"/>
          <p:cNvSpPr/>
          <p:nvPr/>
        </p:nvSpPr>
        <p:spPr>
          <a:xfrm flipH="1">
            <a:off x="2141640" y="1571760"/>
            <a:ext cx="1440" cy="4284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8"/>
          <p:cNvSpPr/>
          <p:nvPr/>
        </p:nvSpPr>
        <p:spPr>
          <a:xfrm flipH="1">
            <a:off x="2498760" y="1571760"/>
            <a:ext cx="1440" cy="4284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10"/>
          <p:cNvSpPr/>
          <p:nvPr/>
        </p:nvSpPr>
        <p:spPr>
          <a:xfrm flipH="1">
            <a:off x="3785760" y="1500120"/>
            <a:ext cx="1800" cy="6429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12"/>
          <p:cNvSpPr/>
          <p:nvPr/>
        </p:nvSpPr>
        <p:spPr>
          <a:xfrm>
            <a:off x="4357800" y="1571760"/>
            <a:ext cx="0" cy="4284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16"/>
          <p:cNvSpPr/>
          <p:nvPr/>
        </p:nvSpPr>
        <p:spPr>
          <a:xfrm flipH="1">
            <a:off x="5715000" y="1571760"/>
            <a:ext cx="1440" cy="4284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8"/>
          <p:cNvSpPr/>
          <p:nvPr/>
        </p:nvSpPr>
        <p:spPr>
          <a:xfrm flipH="1">
            <a:off x="6286680" y="1500120"/>
            <a:ext cx="1440" cy="5716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20"/>
          <p:cNvSpPr/>
          <p:nvPr/>
        </p:nvSpPr>
        <p:spPr>
          <a:xfrm flipV="1">
            <a:off x="7143840" y="1500120"/>
            <a:ext cx="1440" cy="5716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24"/>
          <p:cNvSpPr/>
          <p:nvPr/>
        </p:nvSpPr>
        <p:spPr>
          <a:xfrm>
            <a:off x="642960" y="2714760"/>
            <a:ext cx="5713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26"/>
          <p:cNvSpPr/>
          <p:nvPr/>
        </p:nvSpPr>
        <p:spPr>
          <a:xfrm>
            <a:off x="1357200" y="2714760"/>
            <a:ext cx="64296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28"/>
          <p:cNvSpPr/>
          <p:nvPr/>
        </p:nvSpPr>
        <p:spPr>
          <a:xfrm>
            <a:off x="2214720" y="2714760"/>
            <a:ext cx="3571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30"/>
          <p:cNvSpPr/>
          <p:nvPr/>
        </p:nvSpPr>
        <p:spPr>
          <a:xfrm>
            <a:off x="2786040" y="2714760"/>
            <a:ext cx="85716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32"/>
          <p:cNvSpPr/>
          <p:nvPr/>
        </p:nvSpPr>
        <p:spPr>
          <a:xfrm>
            <a:off x="3929040" y="2714760"/>
            <a:ext cx="42876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34"/>
          <p:cNvSpPr/>
          <p:nvPr/>
        </p:nvSpPr>
        <p:spPr>
          <a:xfrm>
            <a:off x="4714920" y="2714760"/>
            <a:ext cx="92880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36"/>
          <p:cNvSpPr/>
          <p:nvPr/>
        </p:nvSpPr>
        <p:spPr>
          <a:xfrm>
            <a:off x="6000840" y="2714760"/>
            <a:ext cx="3571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38"/>
          <p:cNvSpPr/>
          <p:nvPr/>
        </p:nvSpPr>
        <p:spPr>
          <a:xfrm>
            <a:off x="6500880" y="2714760"/>
            <a:ext cx="5000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40"/>
          <p:cNvSpPr/>
          <p:nvPr/>
        </p:nvSpPr>
        <p:spPr>
          <a:xfrm>
            <a:off x="7286760" y="2643120"/>
            <a:ext cx="78552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42"/>
          <p:cNvSpPr/>
          <p:nvPr/>
        </p:nvSpPr>
        <p:spPr>
          <a:xfrm flipH="1">
            <a:off x="1714680" y="2357280"/>
            <a:ext cx="14256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44"/>
          <p:cNvSpPr/>
          <p:nvPr/>
        </p:nvSpPr>
        <p:spPr>
          <a:xfrm flipH="1">
            <a:off x="3214440" y="2499480"/>
            <a:ext cx="21420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46"/>
          <p:cNvSpPr/>
          <p:nvPr/>
        </p:nvSpPr>
        <p:spPr>
          <a:xfrm flipH="1">
            <a:off x="5000400" y="2428920"/>
            <a:ext cx="1429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48"/>
          <p:cNvSpPr/>
          <p:nvPr/>
        </p:nvSpPr>
        <p:spPr>
          <a:xfrm flipH="1">
            <a:off x="6714720" y="2428920"/>
            <a:ext cx="1429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50"/>
          <p:cNvSpPr/>
          <p:nvPr/>
        </p:nvSpPr>
        <p:spPr>
          <a:xfrm flipH="1">
            <a:off x="2069640" y="1928880"/>
            <a:ext cx="1800" cy="928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52"/>
          <p:cNvSpPr/>
          <p:nvPr/>
        </p:nvSpPr>
        <p:spPr>
          <a:xfrm flipH="1">
            <a:off x="3712680" y="2000160"/>
            <a:ext cx="1800" cy="714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54"/>
          <p:cNvSpPr/>
          <p:nvPr/>
        </p:nvSpPr>
        <p:spPr>
          <a:xfrm flipH="1">
            <a:off x="5715000" y="2000160"/>
            <a:ext cx="1440" cy="714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57"/>
          <p:cNvSpPr/>
          <p:nvPr/>
        </p:nvSpPr>
        <p:spPr>
          <a:xfrm flipH="1">
            <a:off x="7143840" y="2143080"/>
            <a:ext cx="1440" cy="6429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Lucida Sans Unicode"/>
              </a:rPr>
              <a:t>Стих. «Зимнее утро» наизусть, стр.213-215, записи в тетради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р.14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«Няне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сканирование0002"/>
          <p:cNvPicPr/>
          <p:nvPr/>
        </p:nvPicPr>
        <p:blipFill>
          <a:blip r:embed="rId2"/>
          <a:srcRect l="0" t="0" r="0" b="-255"/>
          <a:stretch/>
        </p:blipFill>
        <p:spPr>
          <a:xfrm>
            <a:off x="3786120" y="2143080"/>
            <a:ext cx="3643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Lucida Sans Unicode"/>
              </a:rPr>
              <a:t>« Зимний вечер»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3" descr=""/>
          <p:cNvPicPr/>
          <p:nvPr/>
        </p:nvPicPr>
        <p:blipFill>
          <a:blip r:embed="rId2"/>
          <a:stretch/>
        </p:blipFill>
        <p:spPr>
          <a:xfrm>
            <a:off x="1785960" y="2714760"/>
            <a:ext cx="43275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Lucida Sans Unicode"/>
              </a:rPr>
              <a:t>«Зимнее утро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3" descr=""/>
          <p:cNvPicPr/>
          <p:nvPr/>
        </p:nvPicPr>
        <p:blipFill>
          <a:blip r:embed="rId2"/>
          <a:stretch/>
        </p:blipFill>
        <p:spPr>
          <a:xfrm>
            <a:off x="2357280" y="2571840"/>
            <a:ext cx="4357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Lucida Sans Unicode"/>
              </a:rPr>
              <a:t>Ритм-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 смена интонации, логического ударения, повторов, рифм 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Lucida Sans Unicode"/>
              </a:rPr>
              <a:t>Рифма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- звуковое совпадение, созвучие последних слогов слов в конце строки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Lucida Sans Unicode"/>
              </a:rPr>
              <a:t>Стих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ru-RU" sz="3700" spc="-1" strike="noStrike">
                <a:solidFill>
                  <a:srgbClr val="00b050"/>
                </a:solidFill>
                <a:latin typeface="Lucida Sans Unicode"/>
              </a:rPr>
              <a:t>одна </a:t>
            </a:r>
            <a:r>
              <a:rPr b="1" lang="ru-RU" sz="3700" spc="-1" strike="noStrike">
                <a:solidFill>
                  <a:srgbClr val="002060"/>
                </a:solidFill>
                <a:latin typeface="Lucida Sans Unicode"/>
              </a:rPr>
              <a:t>стихотворная строка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Lucida Sans Unicode"/>
              </a:rPr>
              <a:t>Мужская рифма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 – ударение на </a:t>
            </a:r>
            <a:r>
              <a:rPr b="0" lang="ru-RU" sz="3700" spc="-1" strike="noStrike">
                <a:solidFill>
                  <a:srgbClr val="002060"/>
                </a:solidFill>
                <a:latin typeface="Lucida Sans Unicode"/>
              </a:rPr>
              <a:t>последнем слоге 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последнего слова в строке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70c0"/>
                </a:solidFill>
                <a:latin typeface="Lucida Sans Unicode"/>
              </a:rPr>
              <a:t>«Пора, красавица, прос</a:t>
            </a:r>
            <a:r>
              <a:rPr b="0" lang="ru-RU" sz="3700" spc="-1" strike="noStrike">
                <a:solidFill>
                  <a:srgbClr val="ff0000"/>
                </a:solidFill>
                <a:latin typeface="Lucida Sans Unicode"/>
              </a:rPr>
              <a:t>нись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…»-м.рифма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«Мороз и солнце; день чу</a:t>
            </a:r>
            <a:r>
              <a:rPr b="0" lang="ru-RU" sz="3700" spc="-1" strike="noStrike">
                <a:solidFill>
                  <a:srgbClr val="c00000"/>
                </a:solidFill>
                <a:latin typeface="Lucida Sans Unicode"/>
              </a:rPr>
              <a:t>дес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ный!»- ж.рифма, т.к. 2-й слог от конца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Lucida Sans Unicode"/>
              </a:rPr>
              <a:t>Женская  рифма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– ударение на </a:t>
            </a:r>
            <a:r>
              <a:rPr b="0" lang="ru-RU" sz="4000" spc="-1" strike="noStrike">
                <a:solidFill>
                  <a:srgbClr val="c00000"/>
                </a:solidFill>
                <a:latin typeface="Lucida Sans Unicode"/>
              </a:rPr>
              <a:t>предпоследнем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 слоге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оследнего слова в строке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«Мороз и солнце; день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чу</a:t>
            </a:r>
            <a:r>
              <a:rPr b="0" lang="ru-RU" sz="4000" spc="-1" strike="noStrike">
                <a:solidFill>
                  <a:srgbClr val="c00000"/>
                </a:solidFill>
                <a:latin typeface="Lucida Sans Unicode"/>
              </a:rPr>
              <a:t>дес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ный!»- ж.рифма, т.к. </a:t>
            </a:r>
            <a:r>
              <a:rPr b="0" lang="ru-RU" sz="4000" spc="-1" strike="noStrike">
                <a:solidFill>
                  <a:srgbClr val="c00000"/>
                </a:solidFill>
                <a:latin typeface="Lucida Sans Unicode"/>
              </a:rPr>
              <a:t>2-й слог от конца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Lucida Sans Unicode"/>
              </a:rPr>
              <a:t>Строфа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-группа стихов, связанных общей системой рифмовки, единой интонацией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Сквозь волнистые 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туманы</a:t>
            </a: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Пробирается </a:t>
            </a:r>
            <a:r>
              <a:rPr b="1" lang="ru-RU" sz="4000" spc="-1" strike="noStrike">
                <a:solidFill>
                  <a:srgbClr val="00b050"/>
                </a:solidFill>
                <a:latin typeface="Lucida Sans Unicode"/>
              </a:rPr>
              <a:t>луна</a:t>
            </a: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На печальные 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поляны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Льёт печальный свет </a:t>
            </a:r>
            <a:r>
              <a:rPr b="1" lang="ru-RU" sz="4000" spc="-1" strike="noStrike">
                <a:solidFill>
                  <a:srgbClr val="00b050"/>
                </a:solidFill>
                <a:latin typeface="Lucida Sans Unicode"/>
              </a:rPr>
              <a:t>он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3" descr=""/>
          <p:cNvPicPr/>
          <p:nvPr/>
        </p:nvPicPr>
        <p:blipFill>
          <a:blip r:embed="rId2"/>
          <a:stretch/>
        </p:blipFill>
        <p:spPr>
          <a:xfrm>
            <a:off x="7286760" y="285840"/>
            <a:ext cx="1428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Lucida Sans Unicode"/>
              </a:rPr>
              <a:t>Стопа </a:t>
            </a:r>
            <a:r>
              <a:rPr b="1" lang="ru-RU" sz="4000" spc="-1" strike="noStrike">
                <a:solidFill>
                  <a:srgbClr val="0070c0"/>
                </a:solidFill>
                <a:latin typeface="Lucida Sans Unicode"/>
              </a:rPr>
              <a:t>–сочетание ударных и безударных слогов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Стихотворные размеры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дв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у</a:t>
            </a: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слож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ные      </a:t>
            </a: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тр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ёх</a:t>
            </a: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слож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ные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_ _  </a:t>
            </a: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ямб 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             ___ дактиль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_ _ </a:t>
            </a: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хорей          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_ _ _ - амфи-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брахий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Lucida Sans Unicode"/>
              </a:rPr>
              <a:t>_ _ _-анапес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ая соединительная линия 4"/>
          <p:cNvSpPr/>
          <p:nvPr/>
        </p:nvSpPr>
        <p:spPr>
          <a:xfrm flipH="1">
            <a:off x="4572000" y="3429000"/>
            <a:ext cx="1440" cy="25779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7"/>
          <p:cNvSpPr/>
          <p:nvPr/>
        </p:nvSpPr>
        <p:spPr>
          <a:xfrm flipH="1">
            <a:off x="1213920" y="3571920"/>
            <a:ext cx="1429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9"/>
          <p:cNvSpPr/>
          <p:nvPr/>
        </p:nvSpPr>
        <p:spPr>
          <a:xfrm flipH="1">
            <a:off x="5000400" y="3500280"/>
            <a:ext cx="142920" cy="2858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11"/>
          <p:cNvSpPr/>
          <p:nvPr/>
        </p:nvSpPr>
        <p:spPr>
          <a:xfrm flipH="1">
            <a:off x="785520" y="4214880"/>
            <a:ext cx="142920" cy="214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3"/>
          <p:cNvSpPr/>
          <p:nvPr/>
        </p:nvSpPr>
        <p:spPr>
          <a:xfrm flipH="1">
            <a:off x="2642760" y="4357800"/>
            <a:ext cx="7164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15"/>
          <p:cNvSpPr/>
          <p:nvPr/>
        </p:nvSpPr>
        <p:spPr>
          <a:xfrm flipH="1">
            <a:off x="5143680" y="4143240"/>
            <a:ext cx="142560" cy="21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17"/>
          <p:cNvSpPr/>
          <p:nvPr/>
        </p:nvSpPr>
        <p:spPr>
          <a:xfrm flipH="1">
            <a:off x="6928920" y="4500720"/>
            <a:ext cx="142920" cy="142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20"/>
          <p:cNvSpPr/>
          <p:nvPr/>
        </p:nvSpPr>
        <p:spPr>
          <a:xfrm flipH="1">
            <a:off x="6071760" y="5286240"/>
            <a:ext cx="7164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22"/>
          <p:cNvSpPr/>
          <p:nvPr/>
        </p:nvSpPr>
        <p:spPr>
          <a:xfrm flipH="1">
            <a:off x="7357680" y="5143680"/>
            <a:ext cx="71640" cy="71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5:36:45Z</dcterms:created>
  <dc:creator>user</dc:creator>
  <dc:description/>
  <dc:language>en-US</dc:language>
  <cp:lastModifiedBy>Пользователь</cp:lastModifiedBy>
  <dcterms:modified xsi:type="dcterms:W3CDTF">2013-03-03T15:34:36Z</dcterms:modified>
  <cp:revision>30</cp:revision>
  <dc:subject/>
  <dc:title>Биография  Александра Сергеевича Пушкина</dc:title>
</cp:coreProperties>
</file>