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0EC-3EA2-448E-A808-29154D44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F0B-DE08-4949-A143-1439E7F8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4BD-9108-4A1E-B3E0-AC1FA2DC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1D3-9AAF-490E-B4B6-895CCAA1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9B3-3382-4DE0-8F74-6666BE82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6C51-E1B8-44AA-9C6D-D7CF74F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ACCE-5844-4AF6-9C26-12DB6AEA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C1C-8ED1-4E78-93C1-0A94712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48BD-83A7-4391-B04C-51A2F2E9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5D86-C810-4E72-B95B-DEEDDD2C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1F4-3E14-4000-9CB5-3DE3A96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83F-2BCA-4554-8E4F-95E7EE1B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286B-23E6-4977-AC4A-A6EBBA1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E61-BA8C-4F1F-BF5D-73033ED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24F3-38F4-494E-9936-431E2B4E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D47-5852-464A-BE72-0478889E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B31-740A-4FB5-8D6B-22E4F147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5C66A-08E7-4AB5-A845-4C51AC57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A8E24-FE41-4817-B997-974C34A7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8C6FA-8F1D-4B60-8101-B601F39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9FF20-1937-459C-B0EB-0FEE4D9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8695F-2428-4BEC-B5A7-A3E93EEE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8D5-C660-47B5-BE22-E0048FB5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0940E-FCA4-44AC-BAE7-F52699FA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D34C4-5A27-4138-9027-20F80B44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609DB-D9F1-482A-9FDB-6BEBBE6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5B50B-B615-4433-9E04-228F320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0B3F7-8B6F-4F38-A8BC-D5909A28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50B81-D4B5-4A38-931E-AB4853E0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DE049-2F87-4FBD-A62D-4D28C8F3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9A05-1592-425F-8B63-35C1D6D8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57CA-ABF7-4E57-978B-30D9CB36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B80C0-8297-42CC-9760-9F10556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FB0-0063-420B-A324-FBAC6737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1657-82C1-45A4-9F7E-0CBD174B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DB07-0240-4B7F-82D7-9B38F6A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6082-233F-4722-AA9F-81E3A618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AC54-D620-48A5-886E-A228357C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B513-39E7-4615-9267-17A829D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BD6A-A096-4617-B362-5ED5C0D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44FA-A4B3-484B-A8A3-0EB78346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6119-E754-4327-9347-053BA46C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F39D-FE2A-4ECB-AD08-843061D5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DB0-A5DE-4202-9321-66796F47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95C-153D-422E-ADF2-55E53993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101-D4E5-4AE3-B312-5D916E7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E85-7006-4D6F-BC5D-74730EC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9AF-3A3D-4F0F-A9C0-7BC2FD38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89C-95A9-4CD4-8B96-7392083C357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9442-E052-42A1-950C-B1337BCEFE8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D27-AF38-40A8-9F42-14BB5266EC8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5163-1A7D-4559-8A04-386CA93B4D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oipkro.kostroma.ru/BuyR/ChBor/ych/13/ucheniki_w450_h468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Литература 20-го ве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А. Платон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В.Шергин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Содержимое 3" descr=""/>
          <p:cNvPicPr/>
          <p:nvPr/>
        </p:nvPicPr>
        <p:blipFill>
          <a:blip r:embed="rId1"/>
          <a:stretch/>
        </p:blipFill>
        <p:spPr>
          <a:xfrm>
            <a:off x="2286000" y="4000680"/>
            <a:ext cx="2643120" cy="2681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"/>
          <p:cNvPicPr/>
          <p:nvPr/>
        </p:nvPicPr>
        <p:blipFill>
          <a:blip r:embed="rId2"/>
          <a:stretch/>
        </p:blipFill>
        <p:spPr>
          <a:xfrm>
            <a:off x="0" y="4714920"/>
            <a:ext cx="2187720" cy="18064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"/>
          <p:cNvPicPr/>
          <p:nvPr/>
        </p:nvPicPr>
        <p:blipFill>
          <a:blip r:embed="rId3"/>
          <a:stretch/>
        </p:blipFill>
        <p:spPr>
          <a:xfrm>
            <a:off x="7072200" y="2143080"/>
            <a:ext cx="207180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4"/>
          <a:stretch/>
        </p:blipFill>
        <p:spPr>
          <a:xfrm>
            <a:off x="5214960" y="3500280"/>
            <a:ext cx="1928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5. С кем      Аспид  жених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сбегает 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ИЗ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царевна?                  Париж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Где живёт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царевна 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онце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ая соединительная линия 4"/>
          <p:cNvSpPr/>
          <p:nvPr/>
        </p:nvSpPr>
        <p:spPr>
          <a:xfrm>
            <a:off x="3785400" y="2214720"/>
            <a:ext cx="71640" cy="42145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"/>
          <p:cNvSpPr/>
          <p:nvPr/>
        </p:nvSpPr>
        <p:spPr>
          <a:xfrm flipH="1" flipV="1">
            <a:off x="5857920" y="2285640"/>
            <a:ext cx="71280" cy="4143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шер"/>
          <p:cNvPicPr/>
          <p:nvPr/>
        </p:nvPicPr>
        <p:blipFill>
          <a:blip r:embed="rId1"/>
          <a:stretch/>
        </p:blipFill>
        <p:spPr>
          <a:xfrm>
            <a:off x="6500880" y="4714920"/>
            <a:ext cx="1789200" cy="2000160"/>
          </a:xfrm>
          <a:prstGeom prst="rect">
            <a:avLst/>
          </a:prstGeom>
          <a:ln w="22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2286000"/>
            <a:ext cx="8929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7. Клички           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без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      Бела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обаки и          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имени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Маш-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кошки?         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8.На ко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женится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герой в конце?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ирота   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крест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ая соединительная линия 4"/>
          <p:cNvSpPr/>
          <p:nvPr/>
        </p:nvSpPr>
        <p:spPr>
          <a:xfrm>
            <a:off x="4642560" y="2357280"/>
            <a:ext cx="71640" cy="42148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6"/>
          <p:cNvSpPr/>
          <p:nvPr/>
        </p:nvSpPr>
        <p:spPr>
          <a:xfrm flipH="1" flipV="1">
            <a:off x="6928920" y="2285640"/>
            <a:ext cx="71640" cy="4143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шер"/>
          <p:cNvPicPr/>
          <p:nvPr/>
        </p:nvPicPr>
        <p:blipFill>
          <a:blip r:embed="rId1"/>
          <a:stretch/>
        </p:blipFill>
        <p:spPr>
          <a:xfrm>
            <a:off x="571680" y="928800"/>
            <a:ext cx="1288800" cy="1285920"/>
          </a:xfrm>
          <a:prstGeom prst="rect">
            <a:avLst/>
          </a:prstGeom>
          <a:ln w="22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Times New Roman"/>
              </a:rPr>
              <a:t>Выводы: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13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все волшебные сказки строятся одинаково;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в сказке воплощена мечта о справедливости, вера в победу добра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герои вознаграждены за их верность, бескорыстие, доброту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6094" t="0" r="0" b="-562"/>
          <a:stretch/>
        </p:blipFill>
        <p:spPr>
          <a:xfrm>
            <a:off x="4572000" y="928800"/>
            <a:ext cx="1797120" cy="1263600"/>
          </a:xfrm>
          <a:prstGeom prst="rect">
            <a:avLst/>
          </a:prstGeom>
          <a:ln w="158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b0f0"/>
                </a:solidFill>
                <a:latin typeface="Trebuchet MS"/>
              </a:rPr>
              <a:t>Выполни до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СТР.31-41,пересказ, чтение,вопросы1-1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i-main-pic" descr="Картинка 156 из 121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3714840"/>
            <a:ext cx="5572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Платонов  Андрей 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Платонович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Georgia"/>
              </a:rPr>
              <a:t>Сын слесаря ж.-д. мастерских, рабочий-изобретатель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63960" indent="-1663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a04da3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Звезда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, горящая </a:t>
            </a:r>
            <a:endParaRPr b="0" lang="en-US" sz="4000" spc="-1" strike="noStrike">
              <a:solidFill>
                <a:srgbClr val="a04da3"/>
              </a:solidFill>
              <a:latin typeface="Georgia"/>
            </a:endParaRPr>
          </a:p>
          <a:p>
            <a:pPr lvl="4" marL="1263960" indent="-1663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долго и дающая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добрый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вет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».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(В.Распутин)</a:t>
            </a:r>
            <a:endParaRPr b="0" lang="en-US" sz="2800" spc="-1" strike="noStrike">
              <a:solidFill>
                <a:srgbClr val="a04da3"/>
              </a:solidFill>
              <a:latin typeface="Georgia"/>
            </a:endParaRPr>
          </a:p>
        </p:txBody>
      </p:sp>
      <p:pic>
        <p:nvPicPr>
          <p:cNvPr id="222" name="Picture 5" descr="platonovgif"/>
          <p:cNvPicPr/>
          <p:nvPr/>
        </p:nvPicPr>
        <p:blipFill>
          <a:blip r:embed="rId1">
            <a:alphaModFix amt="23000"/>
          </a:blip>
          <a:stretch/>
        </p:blipFill>
        <p:spPr>
          <a:xfrm>
            <a:off x="928800" y="4286160"/>
            <a:ext cx="1928880" cy="2143080"/>
          </a:xfrm>
          <a:prstGeom prst="rect">
            <a:avLst/>
          </a:prstGeom>
          <a:ln w="1908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920" y="2249640"/>
            <a:ext cx="8858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« Быть человеком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(…) – редкость и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праздник!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Georgia"/>
              </a:rPr>
              <a:t>1950г. - сборник русских народных сказок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eorgia"/>
              </a:rPr>
              <a:t>« Волшебное кольцо»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9" descr="b222714"/>
          <p:cNvPicPr/>
          <p:nvPr/>
        </p:nvPicPr>
        <p:blipFill>
          <a:blip r:embed="rId1"/>
          <a:stretch/>
        </p:blipFill>
        <p:spPr>
          <a:xfrm>
            <a:off x="5929200" y="714240"/>
            <a:ext cx="2928960" cy="364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928800" y="857160"/>
            <a:ext cx="2307960" cy="1411200"/>
          </a:xfrm>
          <a:prstGeom prst="rect">
            <a:avLst/>
          </a:prstGeom>
          <a:ln w="126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rebuchet MS"/>
              </a:rPr>
              <a:t>Борис Викторович Шергин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4400" spc="-1" strike="noStrike">
                <a:solidFill>
                  <a:srgbClr val="0070c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1893 -1973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Ещё в школьные годы стал собирать и записывать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северные народные сказки, былины, песни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1"/>
          <a:stretch/>
        </p:blipFill>
        <p:spPr>
          <a:xfrm>
            <a:off x="571680" y="3857760"/>
            <a:ext cx="257328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7" descr=""/>
          <p:cNvPicPr/>
          <p:nvPr/>
        </p:nvPicPr>
        <p:blipFill>
          <a:blip r:embed="rId2"/>
          <a:stretch/>
        </p:blipFill>
        <p:spPr>
          <a:xfrm>
            <a:off x="6143760" y="3714840"/>
            <a:ext cx="2786040" cy="28573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ая соединительная линия 9"/>
          <p:cNvSpPr/>
          <p:nvPr/>
        </p:nvSpPr>
        <p:spPr>
          <a:xfrm flipH="1">
            <a:off x="7429320" y="857160"/>
            <a:ext cx="214200" cy="3571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ДЕТСТВО ПИСАТЕ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680" y="2071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Отец Шергина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, потомственный мореход и корабельный мастер, передал сыну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дар рассказчика и страсть ко всякому «художеству»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ать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познакомила сына с народной поэзией Русского Сев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2786040" y="4929120"/>
            <a:ext cx="31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Толковый словарь живого великорусского языка В.И.Д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СПИД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,м. -  греч. ядовитая змея;  сказ. -баснословный змей, аспик. |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Злой человек, скряга, лукавы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02200" cy="2313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tretch/>
        </p:blipFill>
        <p:spPr>
          <a:xfrm>
            <a:off x="5143680" y="4000680"/>
            <a:ext cx="261612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i="1" lang="ru-RU" sz="4400" spc="-1" strike="noStrike">
                <a:solidFill>
                  <a:srgbClr val="0070c0"/>
                </a:solidFill>
                <a:latin typeface="Trebuchet MS"/>
              </a:rPr>
              <a:t>СКАРАПЕ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Змея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, обитающая в лесу, в поле, наделенная </a:t>
            </a:r>
            <a:r>
              <a:rPr b="1" i="1" lang="ru-RU" sz="3200" spc="-1" strike="noStrike">
                <a:solidFill>
                  <a:srgbClr val="00b0f0"/>
                </a:solidFill>
                <a:latin typeface="Georgia"/>
              </a:rPr>
              <a:t>сверхъестественными свойствами;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 властвующая над другими змея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«Вот и стали жить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собака белая да кош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серая, Семен с матерь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да змея Скарапея, 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всего пятеро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357880" y="3786120"/>
            <a:ext cx="3119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Имя       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емён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Вань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главного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героя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2. Сколько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12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           </a:t>
            </a: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молодце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Прямая соединительная линия 4"/>
          <p:cNvSpPr/>
          <p:nvPr/>
        </p:nvSpPr>
        <p:spPr>
          <a:xfrm>
            <a:off x="4071960" y="2214720"/>
            <a:ext cx="71280" cy="42861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6"/>
          <p:cNvSpPr/>
          <p:nvPr/>
        </p:nvSpPr>
        <p:spPr>
          <a:xfrm flipH="1" flipV="1">
            <a:off x="6214680" y="2214360"/>
            <a:ext cx="71640" cy="4143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25"/>
          <p:cNvPicPr/>
          <p:nvPr/>
        </p:nvPicPr>
        <p:blipFill>
          <a:blip r:embed="rId1"/>
          <a:stretch/>
        </p:blipFill>
        <p:spPr>
          <a:xfrm>
            <a:off x="7786800" y="642960"/>
            <a:ext cx="11048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1" lang="ru-RU" sz="4000" spc="-1" strike="noStrike">
                <a:solidFill>
                  <a:srgbClr val="0070c0"/>
                </a:solidFill>
                <a:latin typeface="Trebuchet MS"/>
              </a:rPr>
              <a:t>В ЧЁМ ОТЛИЧИЕ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2920" y="2286000"/>
            <a:ext cx="8858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3.Причина  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виде-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жела-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ватовства        </a:t>
            </a: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ние   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                                             </a:t>
            </a: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жен-с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4.Строитель-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до сват- по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ство хором      </a:t>
            </a:r>
            <a:r>
              <a:rPr b="1" lang="ru-RU" sz="4400" spc="-1" strike="noStrike">
                <a:solidFill>
                  <a:srgbClr val="00b0f0"/>
                </a:solidFill>
                <a:latin typeface="Georgia"/>
              </a:rPr>
              <a:t>ва           прик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(когда?)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Прямая соединительная линия 4"/>
          <p:cNvSpPr/>
          <p:nvPr/>
        </p:nvSpPr>
        <p:spPr>
          <a:xfrm>
            <a:off x="4142520" y="2286000"/>
            <a:ext cx="71640" cy="42861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"/>
          <p:cNvSpPr/>
          <p:nvPr/>
        </p:nvSpPr>
        <p:spPr>
          <a:xfrm flipH="1" flipV="1">
            <a:off x="6571800" y="2357280"/>
            <a:ext cx="71640" cy="4143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5" descr="1000376812"/>
          <p:cNvPicPr/>
          <p:nvPr/>
        </p:nvPicPr>
        <p:blipFill>
          <a:blip r:embed="rId1"/>
          <a:stretch/>
        </p:blipFill>
        <p:spPr>
          <a:xfrm rot="549600">
            <a:off x="598320" y="789120"/>
            <a:ext cx="1051200" cy="1312560"/>
          </a:xfrm>
          <a:prstGeom prst="rect">
            <a:avLst/>
          </a:prstGeom>
          <a:ln w="158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5:33:24Z</dcterms:created>
  <dc:creator>Пользователь</dc:creator>
  <dc:description/>
  <dc:language>en-US</dc:language>
  <cp:lastModifiedBy>Пользователь</cp:lastModifiedBy>
  <dcterms:modified xsi:type="dcterms:W3CDTF">2013-03-03T16:06:09Z</dcterms:modified>
  <cp:revision>54</cp:revision>
  <dc:subject/>
  <dc:title>Герой художественного     произведения</dc:title>
</cp:coreProperties>
</file>