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ABB-DA00-4200-8F38-4607D7B7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5DC-1CF5-4D79-8AE0-060ED1A2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9F4-BBDC-48EC-8025-58A28DC8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2C7-F3F4-4249-BDD3-7206A548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FC4A-8058-42DA-AC5D-13F63B1C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AB5D-6137-42C4-82A1-F13F5A90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9B6-E6B3-4CB6-8ADC-163EB448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FC72-FDE6-4B02-8224-B93AB157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7D2E-9E7C-404A-B7E1-884F7193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858-1F75-4751-BD32-F296D9BF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7BA6-9CDB-42BD-B372-A15DE8D7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853-6A12-4DE6-BF7A-D027A5BA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AF33-12B1-428E-9878-8655F046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E65A-3F63-464A-8C12-98520284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CDD4-84C6-4E6B-8DD7-B2414102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4BD7-F24A-4483-B08D-8F8DADC9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D855-8D27-4B36-AB09-4B37F82C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48C71-2679-4B11-BCB6-21D339C1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A39AB-925D-4397-85BB-E205D427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73748-1E70-4213-B3E9-770922C8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B247A-DB80-4292-8295-9219D80F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876C9-0B7C-4426-A506-7AC1C73F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965-CC55-4B0B-9E1B-3780DC76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3BF03-A26D-4885-AD02-3EC62B69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DBEF9-9A53-41E4-8BC8-2C5A72A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B9E35-A771-4402-A4DB-AC562BB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C2F0A-65A6-4DDC-9190-25D1CADC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2A14F-0DB1-4FF7-A232-F322DC08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49F91-0EFE-4F18-9A58-33CA3962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195D2-0C8B-49D5-88D3-F01C5410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5A539-DB07-4256-A885-7A7D35AC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9D90-F696-4281-BB40-DE50BA13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E668-DED4-45FE-BCBB-D0E3CE84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2D5-4C43-4D73-84A2-508A6A40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E367-73D3-4574-87FD-CA6C88B7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28D5-7BBA-4B46-B57E-1EE9C560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DB20-FF08-44FA-A708-CC8BBB78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5244-169D-435D-9A1F-F0AC9F9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3FEB-E3A7-4B86-BDA7-A707E08E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F8146-A317-48FD-9C23-5D92745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F78F8-DD1B-4A60-8F11-914C4E1C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422A-946B-4C30-AF28-D74C852E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7170-2448-4CCC-AD9E-F5E39A0A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3BA-51E4-427B-9EFF-BCA89C9E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01B-6BD2-4E14-AEF7-5DFDF5FD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860-DF5D-4B79-8645-CE498B80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265-268D-4FED-8B16-E798267F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96B-E85E-45F7-8A32-6C528F32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7FF-2177-4BF0-AD11-E2F42654616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66F5-4E0E-44A2-904F-D25D567EBE0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4009-13D9-44E8-975C-6E89A595E3F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12EC-B1B2-4A90-B670-23CE62803F0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oipkro.kostroma.ru/BuyR/ChBor/ych/13/ucheniki_w450_h468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Литература 20-го ве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А. Платон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В.Шергин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Содержимое 3" descr=""/>
          <p:cNvPicPr/>
          <p:nvPr/>
        </p:nvPicPr>
        <p:blipFill>
          <a:blip r:embed="rId1"/>
          <a:stretch/>
        </p:blipFill>
        <p:spPr>
          <a:xfrm>
            <a:off x="2286000" y="4000680"/>
            <a:ext cx="2643120" cy="26812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6" descr=""/>
          <p:cNvPicPr/>
          <p:nvPr/>
        </p:nvPicPr>
        <p:blipFill>
          <a:blip r:embed="rId2"/>
          <a:stretch/>
        </p:blipFill>
        <p:spPr>
          <a:xfrm>
            <a:off x="0" y="4714920"/>
            <a:ext cx="2187720" cy="18064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3" descr=""/>
          <p:cNvPicPr/>
          <p:nvPr/>
        </p:nvPicPr>
        <p:blipFill>
          <a:blip r:embed="rId3"/>
          <a:stretch/>
        </p:blipFill>
        <p:spPr>
          <a:xfrm>
            <a:off x="7072200" y="2143080"/>
            <a:ext cx="2071800" cy="27432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"/>
          <p:cNvPicPr/>
          <p:nvPr/>
        </p:nvPicPr>
        <p:blipFill>
          <a:blip r:embed="rId4"/>
          <a:stretch/>
        </p:blipFill>
        <p:spPr>
          <a:xfrm>
            <a:off x="5214960" y="3500280"/>
            <a:ext cx="1928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В ЧЁМ ОТЛИЧИЕ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2249640"/>
            <a:ext cx="8472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5. С кем      Аспид  жених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сбегает 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ИЗ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царевна?                  Париж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6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Где живёт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царевна в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конце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ая соединительная линия 4"/>
          <p:cNvSpPr/>
          <p:nvPr/>
        </p:nvSpPr>
        <p:spPr>
          <a:xfrm>
            <a:off x="3785400" y="2214720"/>
            <a:ext cx="71640" cy="42145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6"/>
          <p:cNvSpPr/>
          <p:nvPr/>
        </p:nvSpPr>
        <p:spPr>
          <a:xfrm flipH="1" flipV="1">
            <a:off x="5857920" y="2285640"/>
            <a:ext cx="71280" cy="4143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шер"/>
          <p:cNvPicPr/>
          <p:nvPr/>
        </p:nvPicPr>
        <p:blipFill>
          <a:blip r:embed="rId1"/>
          <a:stretch/>
        </p:blipFill>
        <p:spPr>
          <a:xfrm>
            <a:off x="6500880" y="4714920"/>
            <a:ext cx="1789200" cy="2000160"/>
          </a:xfrm>
          <a:prstGeom prst="rect">
            <a:avLst/>
          </a:prstGeom>
          <a:ln w="22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В ЧЁМ ОТЛИЧИЕ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2286000"/>
            <a:ext cx="8929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7. Клички            </a:t>
            </a:r>
            <a:r>
              <a:rPr b="1" lang="ru-RU" sz="4400" spc="-1" strike="noStrike">
                <a:solidFill>
                  <a:srgbClr val="00b0f0"/>
                </a:solidFill>
                <a:latin typeface="Georgia"/>
              </a:rPr>
              <a:t>без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      Белая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собаки и             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b0f0"/>
                </a:solidFill>
                <a:latin typeface="Georgia"/>
              </a:rPr>
              <a:t>имени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Маш-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кошки?                                 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к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8.На ко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женится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герой в конце?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сирота   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крест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ая соединительная линия 4"/>
          <p:cNvSpPr/>
          <p:nvPr/>
        </p:nvSpPr>
        <p:spPr>
          <a:xfrm>
            <a:off x="4642560" y="2357280"/>
            <a:ext cx="71640" cy="42148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6"/>
          <p:cNvSpPr/>
          <p:nvPr/>
        </p:nvSpPr>
        <p:spPr>
          <a:xfrm flipH="1" flipV="1">
            <a:off x="6928920" y="2285640"/>
            <a:ext cx="71640" cy="4143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шер"/>
          <p:cNvPicPr/>
          <p:nvPr/>
        </p:nvPicPr>
        <p:blipFill>
          <a:blip r:embed="rId1"/>
          <a:stretch/>
        </p:blipFill>
        <p:spPr>
          <a:xfrm>
            <a:off x="571680" y="928800"/>
            <a:ext cx="1288800" cy="1285920"/>
          </a:xfrm>
          <a:prstGeom prst="rect">
            <a:avLst/>
          </a:prstGeom>
          <a:ln w="22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Times New Roman"/>
              </a:rPr>
              <a:t>Выводы: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13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все волшебные сказки строятся одинаково;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в сказке воплощена мечта о справедливости, вера в победу добра;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герои вознаграждены за их верность, бескорыстие, доброту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rcRect l="6094" t="0" r="0" b="-562"/>
          <a:stretch/>
        </p:blipFill>
        <p:spPr>
          <a:xfrm>
            <a:off x="4572000" y="928800"/>
            <a:ext cx="1797120" cy="1263600"/>
          </a:xfrm>
          <a:prstGeom prst="rect">
            <a:avLst/>
          </a:prstGeom>
          <a:ln w="158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b0f0"/>
                </a:solidFill>
                <a:latin typeface="Trebuchet MS"/>
              </a:rPr>
              <a:t>Выполни до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СТР.31-41,пересказ, чтение,вопросы1-1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i-main-pic" descr="Картинка 156 из 121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3714840"/>
            <a:ext cx="5572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4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Платонов  Андрей 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Платонович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Georgia"/>
              </a:rPr>
              <a:t>Сын слесаря ж.-д. мастерских, рабочий-изобретатель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63960" indent="-1663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a04da3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Звезда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, горящая </a:t>
            </a:r>
            <a:endParaRPr b="0" lang="en-US" sz="4000" spc="-1" strike="noStrike">
              <a:solidFill>
                <a:srgbClr val="a04da3"/>
              </a:solidFill>
              <a:latin typeface="Georgia"/>
            </a:endParaRPr>
          </a:p>
          <a:p>
            <a:pPr lvl="4" marL="1263960" indent="-1663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долго и дающая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добрый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вет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».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(В.Распутин)</a:t>
            </a:r>
            <a:endParaRPr b="0" lang="en-US" sz="2800" spc="-1" strike="noStrike">
              <a:solidFill>
                <a:srgbClr val="a04da3"/>
              </a:solidFill>
              <a:latin typeface="Georgia"/>
            </a:endParaRPr>
          </a:p>
        </p:txBody>
      </p:sp>
      <p:pic>
        <p:nvPicPr>
          <p:cNvPr id="222" name="Picture 5" descr="platonovgif"/>
          <p:cNvPicPr/>
          <p:nvPr/>
        </p:nvPicPr>
        <p:blipFill>
          <a:blip r:embed="rId1">
            <a:alphaModFix amt="23000"/>
          </a:blip>
          <a:stretch/>
        </p:blipFill>
        <p:spPr>
          <a:xfrm>
            <a:off x="928800" y="4286160"/>
            <a:ext cx="1928880" cy="2143080"/>
          </a:xfrm>
          <a:prstGeom prst="rect">
            <a:avLst/>
          </a:prstGeom>
          <a:ln w="1908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2920" y="2249640"/>
            <a:ext cx="8858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« Быть человеком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(…) – редкость и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праздник!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Georgia"/>
              </a:rPr>
              <a:t>1950г. - сборник русских народных сказок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Georgia"/>
              </a:rPr>
              <a:t>« Волшебное кольцо»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9" descr="b222714"/>
          <p:cNvPicPr/>
          <p:nvPr/>
        </p:nvPicPr>
        <p:blipFill>
          <a:blip r:embed="rId1"/>
          <a:stretch/>
        </p:blipFill>
        <p:spPr>
          <a:xfrm>
            <a:off x="5929200" y="714240"/>
            <a:ext cx="2928960" cy="364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928800" y="857160"/>
            <a:ext cx="2307960" cy="1411200"/>
          </a:xfrm>
          <a:prstGeom prst="rect">
            <a:avLst/>
          </a:prstGeom>
          <a:ln w="1260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rebuchet MS"/>
              </a:rPr>
              <a:t>Борис Викторович Шергин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1893 -1973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Ещё в школьные годы стал собирать и записывать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северные народные сказки, былины, песни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3" descr=""/>
          <p:cNvPicPr/>
          <p:nvPr/>
        </p:nvPicPr>
        <p:blipFill>
          <a:blip r:embed="rId1"/>
          <a:stretch/>
        </p:blipFill>
        <p:spPr>
          <a:xfrm>
            <a:off x="571680" y="3857760"/>
            <a:ext cx="257328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7" descr=""/>
          <p:cNvPicPr/>
          <p:nvPr/>
        </p:nvPicPr>
        <p:blipFill>
          <a:blip r:embed="rId2"/>
          <a:stretch/>
        </p:blipFill>
        <p:spPr>
          <a:xfrm>
            <a:off x="6143760" y="3714840"/>
            <a:ext cx="2786040" cy="28573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ая соединительная линия 9"/>
          <p:cNvSpPr/>
          <p:nvPr/>
        </p:nvSpPr>
        <p:spPr>
          <a:xfrm flipH="1">
            <a:off x="7429320" y="857160"/>
            <a:ext cx="214200" cy="3571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ДЕТСТВО ПИСАТЕ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680" y="20718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Отец Шергина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, потомственный мореход и корабельный мастер, передал сыну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дар рассказчика и страсть ко всякому «художеству»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мать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 познакомила сына с народной поэзией Русского Севе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Рисунок 4" descr=""/>
          <p:cNvPicPr/>
          <p:nvPr/>
        </p:nvPicPr>
        <p:blipFill>
          <a:blip r:embed="rId1"/>
          <a:stretch/>
        </p:blipFill>
        <p:spPr>
          <a:xfrm>
            <a:off x="2786040" y="4929120"/>
            <a:ext cx="31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Толковый словарь живого великорусского языка В.И.Д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СПИД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,м. -  греч. ядовитая змея;  сказ. -баснословный змей, аспик. |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Злой человек, скряга, лукавый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02200" cy="23130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"/>
          <p:cNvPicPr/>
          <p:nvPr/>
        </p:nvPicPr>
        <p:blipFill>
          <a:blip r:embed="rId2"/>
          <a:stretch/>
        </p:blipFill>
        <p:spPr>
          <a:xfrm>
            <a:off x="5143680" y="4000680"/>
            <a:ext cx="261612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i="1" lang="ru-RU" sz="4400" spc="-1" strike="noStrike">
                <a:solidFill>
                  <a:srgbClr val="0070c0"/>
                </a:solidFill>
                <a:latin typeface="Trebuchet MS"/>
              </a:rPr>
              <a:t>СКАРАПЕ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3840" y="2249640"/>
            <a:ext cx="8472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Змея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, обитающая в лесу, в поле, наделенная </a:t>
            </a:r>
            <a:r>
              <a:rPr b="1" i="1" lang="ru-RU" sz="3200" spc="-1" strike="noStrike">
                <a:solidFill>
                  <a:srgbClr val="00b0f0"/>
                </a:solidFill>
                <a:latin typeface="Georgia"/>
              </a:rPr>
              <a:t>сверхъестественными свойствами;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властвующая над другими змея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«Вот и стали жить 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собака белая да кошк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серая, Семен с матерь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да змея Скарапея, 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всего пятеро»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5357880" y="3786120"/>
            <a:ext cx="3119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В ЧЁМ ОТЛИЧИЕ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Имя           </a:t>
            </a: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Семён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Ваньк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главного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героя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2. Сколько   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12 </a:t>
            </a: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           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молодцев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Прямая соединительная линия 4"/>
          <p:cNvSpPr/>
          <p:nvPr/>
        </p:nvSpPr>
        <p:spPr>
          <a:xfrm>
            <a:off x="4071960" y="2214720"/>
            <a:ext cx="71280" cy="42861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6"/>
          <p:cNvSpPr/>
          <p:nvPr/>
        </p:nvSpPr>
        <p:spPr>
          <a:xfrm flipH="1" flipV="1">
            <a:off x="6214680" y="2214360"/>
            <a:ext cx="71640" cy="4143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25"/>
          <p:cNvPicPr/>
          <p:nvPr/>
        </p:nvPicPr>
        <p:blipFill>
          <a:blip r:embed="rId1"/>
          <a:stretch/>
        </p:blipFill>
        <p:spPr>
          <a:xfrm>
            <a:off x="7786800" y="642960"/>
            <a:ext cx="11048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В ЧЁМ ОТЛИЧИЕ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2920" y="2286000"/>
            <a:ext cx="8858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3.Причина   </a:t>
            </a: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виде-    </a:t>
            </a: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жела-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сватовства       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ние       </a:t>
            </a: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ние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                                             </a:t>
            </a: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жен-ся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4.Строитель- </a:t>
            </a:r>
            <a:r>
              <a:rPr b="1" lang="ru-RU" sz="4400" spc="-1" strike="noStrike">
                <a:solidFill>
                  <a:srgbClr val="00b0f0"/>
                </a:solidFill>
                <a:latin typeface="Georgia"/>
              </a:rPr>
              <a:t>до сват- по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ство хором      </a:t>
            </a:r>
            <a:r>
              <a:rPr b="1" lang="ru-RU" sz="4400" spc="-1" strike="noStrike">
                <a:solidFill>
                  <a:srgbClr val="00b0f0"/>
                </a:solidFill>
                <a:latin typeface="Georgia"/>
              </a:rPr>
              <a:t>ва           прик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(когда?)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Прямая соединительная линия 4"/>
          <p:cNvSpPr/>
          <p:nvPr/>
        </p:nvSpPr>
        <p:spPr>
          <a:xfrm>
            <a:off x="4142520" y="2286000"/>
            <a:ext cx="71640" cy="42861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6"/>
          <p:cNvSpPr/>
          <p:nvPr/>
        </p:nvSpPr>
        <p:spPr>
          <a:xfrm flipH="1" flipV="1">
            <a:off x="6571800" y="2357280"/>
            <a:ext cx="71640" cy="41436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5" descr="1000376812"/>
          <p:cNvPicPr/>
          <p:nvPr/>
        </p:nvPicPr>
        <p:blipFill>
          <a:blip r:embed="rId1"/>
          <a:stretch/>
        </p:blipFill>
        <p:spPr>
          <a:xfrm rot="549600">
            <a:off x="598320" y="789120"/>
            <a:ext cx="1051200" cy="1312560"/>
          </a:xfrm>
          <a:prstGeom prst="rect">
            <a:avLst/>
          </a:prstGeom>
          <a:ln w="158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5:33:24Z</dcterms:created>
  <dc:creator>Пользователь</dc:creator>
  <dc:description/>
  <dc:language>en-US</dc:language>
  <cp:lastModifiedBy>Пользователь</cp:lastModifiedBy>
  <dcterms:modified xsi:type="dcterms:W3CDTF">2013-03-03T16:06:09Z</dcterms:modified>
  <cp:revision>54</cp:revision>
  <dc:subject/>
  <dc:title>Герой художественного     произведения</dc:title>
</cp:coreProperties>
</file>