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FD8-90EF-49B9-9978-124AD6C4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971-49FB-44CE-ADF6-C890E440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79B-A34F-4F4B-BBB5-AFDB8D4C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CD5-3990-4ED1-A7E4-3DDEE8CC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BD25-10D0-42B6-9AF8-4769935A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4020-7607-4DC1-B1EF-E75D7552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4D3A-40D9-4F0F-9E67-8CEA048E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210D-99BE-48B7-B659-6696F4E4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D7B0-C2F1-4C82-BAE8-4A9EBCDC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B4D8-AE23-4090-8594-F4BCA8E3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B796-3D76-4BAA-A098-C096A78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E6C-0B43-4A90-BD03-515E0352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C9B0-8232-4B13-A509-5A9156C0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685D-0036-4B3F-B704-7CCBF375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E7C5-DE18-4278-BF63-9547A866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570D-DBDF-4F02-AABE-DC3065E8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2DF5-7561-45AC-9312-6792D58A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AAB18-1621-4950-8329-89D2F7B0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81E82-B2EB-43DF-BEFF-C56E1A6F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3F6FC-3383-4E08-9E24-71892012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F861B-0178-48E8-9E7A-F9D37866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76705-9753-4FF5-A113-844AC59F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93B-D866-4D96-B480-80BF0851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B2233-9868-43BB-98F6-88197199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E6C6F-4FA4-4AF3-986D-9AC51ED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13CD0-D28F-4B5C-8E57-7D73D563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AB63A-BE07-4BBB-A5D3-69EFC80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E7DD3-5D51-406C-B9EF-4574387F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00F3B-BAFF-4661-B871-96C13344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22D4B-5B7B-4ECA-A82E-24B0D4EB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07C9-2250-47FD-949D-B08C7C0C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56A9E-D8AD-4657-ACB4-B6D7C4A3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2590-16A8-4B33-80E3-DD30396F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224-9D31-4E23-AC98-92E55031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70EB6-48F1-4317-968C-5CE26D34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0930-F93C-4D46-AD4E-7060FFB7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E4C18-E877-411F-B545-BD94E846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6F421-CA2F-49B1-A8BB-38ECC605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A2E2E-6FF5-4C37-8EC4-A773AA99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9BDD-D3DF-46CF-AE3C-E81E1627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901B-D3E2-4CFE-9927-47D3E1A0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CCE0F-49A5-43D1-8FC6-85318C71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43608-92EC-46F3-8E41-7BD44A3C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D89-91D9-4DED-A4BF-8EFF5808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F4D-3FC3-4569-8F87-ECF03211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311-116F-405D-8F62-9843BBE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C18-5472-461B-B174-0F81AE44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050-3760-4FCA-ACF8-FBB03271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D3EC-56F2-403D-9765-6448B1C52CE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E756-1F25-412E-B36F-08FF2245095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406A-AAAA-4D47-84D1-52E984FA87C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4E51-2D84-450E-B55F-FA6139E6C3C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rebuchet MS"/>
              </a:rPr>
              <a:t>Цветаева Марина Ивановна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Trebuchet MS"/>
              </a:rPr>
              <a:t>26.09.1892 – 31.09.1941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Рисунок 4" descr=""/>
          <p:cNvPicPr/>
          <p:nvPr/>
        </p:nvPicPr>
        <p:blipFill>
          <a:blip r:embed="rId1"/>
          <a:stretch/>
        </p:blipFill>
        <p:spPr>
          <a:xfrm>
            <a:off x="428760" y="3857760"/>
            <a:ext cx="2428920" cy="27860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5" descr=""/>
          <p:cNvPicPr/>
          <p:nvPr/>
        </p:nvPicPr>
        <p:blipFill>
          <a:blip r:embed="rId2"/>
          <a:stretch/>
        </p:blipFill>
        <p:spPr>
          <a:xfrm>
            <a:off x="6429240" y="3357720"/>
            <a:ext cx="2571840" cy="31575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6" descr=""/>
          <p:cNvPicPr/>
          <p:nvPr/>
        </p:nvPicPr>
        <p:blipFill>
          <a:blip r:embed="rId3"/>
          <a:stretch/>
        </p:blipFill>
        <p:spPr>
          <a:xfrm>
            <a:off x="3000240" y="2857680"/>
            <a:ext cx="30481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Родилась в московской профессорской семье: отец - И. В. Цветаев, мать - М. А. Мейн (умерла в 1906), пианистка, ученица А. Г. Рубинштейна, дед сводных сестры и брата - историк Д. И. Иловайски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2000160"/>
            <a:ext cx="91440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В детстве из-за болезни матери (чахотка)  подолгу жила в Италии, Швейцарии, Германии; перерывы в гимназическом образовании восполнялись учебой в пансионах в Лозанне и Фрейбурге. Свободно владела французским и немецким языками</a:t>
            </a:r>
            <a:r>
              <a:rPr b="1" lang="ru-RU" sz="3600" spc="-1" strike="noStrike">
                <a:solidFill>
                  <a:srgbClr val="0070c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1"/>
          <a:stretch/>
        </p:blipFill>
        <p:spPr>
          <a:xfrm>
            <a:off x="7215120" y="571680"/>
            <a:ext cx="14288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4" name="Содержимое 3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3772080" cy="36288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4286160" y="642960"/>
            <a:ext cx="4714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з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я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детского жи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ы мне привет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щальный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шлет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изменившие друз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 потертом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асном пререплете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rebuchet MS"/>
              </a:rPr>
              <a:t>НАЙДИ КЛЮЧЕВЫЕ СЛОВ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Чуть легкий выучен урок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Бегу тот час же к вам, бывало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- Уж поздно!- Мама, десять строк!...-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о, к счастью, мам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забывал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Рисунок 3" descr=""/>
          <p:cNvPicPr/>
          <p:nvPr/>
        </p:nvPicPr>
        <p:blipFill>
          <a:blip r:embed="rId1"/>
          <a:stretch/>
        </p:blipFill>
        <p:spPr>
          <a:xfrm>
            <a:off x="6643800" y="4357800"/>
            <a:ext cx="15714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rebuchet MS"/>
              </a:rPr>
              <a:t>Назови автора герое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Дрожат на люстрах огоньки..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Как хорошо за книгой дома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Под Грига, Шумана и Кю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Я узнавала судьбы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Том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Темнеет, в воздухе свежо..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Том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в счастье с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Бэкки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полон вер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Рисунок 3" descr=""/>
          <p:cNvPicPr/>
          <p:nvPr/>
        </p:nvPicPr>
        <p:blipFill>
          <a:blip r:embed="rId1"/>
          <a:stretch/>
        </p:blipFill>
        <p:spPr>
          <a:xfrm>
            <a:off x="7358040" y="500040"/>
            <a:ext cx="15717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928520"/>
            <a:ext cx="885816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Вот с факелом </a:t>
            </a:r>
            <a:r>
              <a:rPr b="1" lang="ru-RU" sz="3600" spc="-1" strike="noStrike">
                <a:solidFill>
                  <a:srgbClr val="00b0f0"/>
                </a:solidFill>
                <a:latin typeface="Georgia"/>
              </a:rPr>
              <a:t>Индеец Джо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Блуждает в сумраке пещеры.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Кладбище... Вещий крик совы..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(Мне страшно!) Вот летит чрез кочк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b0f0"/>
                </a:solidFill>
                <a:latin typeface="Georgia"/>
              </a:rPr>
              <a:t>Приемыш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чопорной вдовы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Как Диоген, живущий в бочк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Рисунок 4" descr=""/>
          <p:cNvPicPr/>
          <p:nvPr/>
        </p:nvPicPr>
        <p:blipFill>
          <a:blip r:embed="rId1"/>
          <a:stretch/>
        </p:blipFill>
        <p:spPr>
          <a:xfrm>
            <a:off x="7358040" y="500040"/>
            <a:ext cx="15717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42920" y="2249640"/>
            <a:ext cx="8786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Светлее солнца тронный зал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ад стройным мальчиком - корона.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Вдруг - нищий! Боже! Он сказал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"Позвольте, я наследник трона!"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Ушел во тьму, кто в ней возник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Рисунок 3" descr=""/>
          <p:cNvPicPr/>
          <p:nvPr/>
        </p:nvPicPr>
        <p:blipFill>
          <a:blip r:embed="rId1"/>
          <a:stretch/>
        </p:blipFill>
        <p:spPr>
          <a:xfrm>
            <a:off x="7286760" y="428760"/>
            <a:ext cx="15714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 чём идея стихотворения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Британии печальны судьбы..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О, почему средь красных кни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Опять за лампой не уснуть бы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Georgia"/>
              </a:rPr>
              <a:t>О золотые времена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Где </a:t>
            </a:r>
            <a:r>
              <a:rPr b="1" i="1" lang="ru-RU" sz="3200" spc="-1" strike="noStrike">
                <a:solidFill>
                  <a:srgbClr val="00b050"/>
                </a:solidFill>
                <a:latin typeface="Georgia"/>
              </a:rPr>
              <a:t>взор смелей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и </a:t>
            </a:r>
            <a:r>
              <a:rPr b="1" i="1" lang="ru-RU" sz="3200" spc="-1" strike="noStrike">
                <a:solidFill>
                  <a:srgbClr val="00b050"/>
                </a:solidFill>
                <a:latin typeface="Georgia"/>
              </a:rPr>
              <a:t>сердце чище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b0f0"/>
                </a:solidFill>
                <a:latin typeface="Georgia"/>
              </a:rPr>
              <a:t>О золотые имена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b0f0"/>
                </a:solidFill>
                <a:latin typeface="Georgia"/>
              </a:rPr>
              <a:t>Гекк Финн, Том Сойер, Принц и Нищий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Рисунок 3" descr=""/>
          <p:cNvPicPr/>
          <p:nvPr/>
        </p:nvPicPr>
        <p:blipFill>
          <a:blip r:embed="rId1"/>
          <a:stretch/>
        </p:blipFill>
        <p:spPr>
          <a:xfrm>
            <a:off x="7429680" y="500040"/>
            <a:ext cx="15714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5:33:24Z</dcterms:created>
  <dc:creator>Пользователь</dc:creator>
  <dc:description/>
  <dc:language>en-US</dc:language>
  <cp:lastModifiedBy>Пользователь</cp:lastModifiedBy>
  <dcterms:modified xsi:type="dcterms:W3CDTF">2013-02-03T18:54:48Z</dcterms:modified>
  <cp:revision>77</cp:revision>
  <dc:subject/>
  <dc:title>Герой художественного     произведения</dc:title>
</cp:coreProperties>
</file>