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2A0C-32D7-4C3D-8D03-651FCEC1D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922B-417D-4B3F-A6DE-6D4EFE893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CC73-EF4F-4AF8-9422-9C37B2686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6343-ABAD-4D26-8620-46A51F806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9354C-15E6-436E-A51E-C6B376D38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F163F-6546-4FA4-985E-B3E9669D6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C687F-AD7C-43E2-961E-0D3037AFC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05A27-EBC2-4B02-9028-AAF332BC3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2F798-F013-4867-9EBA-BE72791D0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E3A38-70C5-44CC-BEA3-10BF37580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D677C-9FBE-459E-A3A7-FC35917D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268C-43AB-409A-A9B1-C3130D75A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C26C2-EF24-4DC5-8682-E856DF04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9050B-E0BE-4613-8A53-278FC453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F272C-9A31-4A78-B16E-CF141D602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7CC50-75C7-4782-9F55-1EDA5421F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EC099-4CAE-4C81-8873-0E0E15DF7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915936-1411-4465-AD50-B9647DCA2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4427AF-DAEF-4048-B066-36293AE49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685BF3-E1B1-44B4-81B8-CCDC58D71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3C9038-8D2F-4D0F-AA57-DDC726BD6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345FB0-AE7C-47C3-95EB-0F57CA83D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DECD-6E11-4D86-B574-0DC0721DE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727ADA-A68D-40FF-9D74-CAA1C6907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DE2D92-07B7-4D8C-9550-DE271A3E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F68E1E-9FB0-4A5F-9ADE-067F5675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7BD2D3-CAC5-4C4C-AF78-CD2282F4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143D43-E94C-45BA-9866-52EAB2EDE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80DE58-7431-4511-83BC-38810888D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AC44C9-70EA-42ED-8ED1-0A21ACC68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AE2DB-4026-4347-9A03-9880761CC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BF54A-9968-4380-802D-49B7CF3A7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85620-A473-459D-89C3-BB2599C7B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AD97-1B9E-4171-A57C-8B56CE18F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B935D-7FF6-499E-8F3A-59CED9FDC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9E749-EF41-4A77-8268-CD9A7BB1C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D8A29-A494-4F7B-B693-D213FFA3C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395AD-0F31-41BB-A3E8-5DA94B5F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C67DD-329E-4582-9F53-DB40E58E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E4AC5-FB18-4A38-933C-997756E9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FB1B5-9C43-472D-A353-C3EEE2B46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D23E2-6ED1-40B5-90C2-88BF262F2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308FB-2339-4D86-99E3-1ABDD634C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BB05-D807-4DE0-A2CF-E0F2C7C7A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EE35-F395-4303-97B6-A4BB13558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68C8-17F8-4840-97B2-AD993289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7F87-3D26-4D8B-8109-F33D2B0E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9E66-1ABF-44CD-A964-92470E25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229FA-9DF6-41E3-AC2A-99C7F0EB5324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93328-3B1A-4760-86F0-D6E2752B214C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B8D58-AF57-4DFE-8350-71CE2E8DD413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AE61B-EB3D-4B89-8648-4283C3093846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Trebuchet MS"/>
              </a:rPr>
              <a:t>Цветаева Марина Ивановна</a:t>
            </a:r>
            <a:br>
              <a:rPr sz="4800"/>
            </a:br>
            <a:r>
              <a:rPr b="1" lang="ru-RU" sz="4800" spc="-1" strike="noStrike">
                <a:solidFill>
                  <a:srgbClr val="7030a0"/>
                </a:solidFill>
                <a:latin typeface="Trebuchet MS"/>
              </a:rPr>
              <a:t>26.09.1892 – 31.09.1941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15" name="Рисунок 4" descr=""/>
          <p:cNvPicPr/>
          <p:nvPr/>
        </p:nvPicPr>
        <p:blipFill>
          <a:blip r:embed="rId1"/>
          <a:stretch/>
        </p:blipFill>
        <p:spPr>
          <a:xfrm>
            <a:off x="428760" y="3857760"/>
            <a:ext cx="2428920" cy="2786040"/>
          </a:xfrm>
          <a:prstGeom prst="rect">
            <a:avLst/>
          </a:prstGeom>
          <a:ln w="0">
            <a:noFill/>
          </a:ln>
        </p:spPr>
      </p:pic>
      <p:pic>
        <p:nvPicPr>
          <p:cNvPr id="216" name="Рисунок 5" descr=""/>
          <p:cNvPicPr/>
          <p:nvPr/>
        </p:nvPicPr>
        <p:blipFill>
          <a:blip r:embed="rId2"/>
          <a:stretch/>
        </p:blipFill>
        <p:spPr>
          <a:xfrm>
            <a:off x="6429240" y="3357720"/>
            <a:ext cx="2571840" cy="315756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6" descr=""/>
          <p:cNvPicPr/>
          <p:nvPr/>
        </p:nvPicPr>
        <p:blipFill>
          <a:blip r:embed="rId3"/>
          <a:stretch/>
        </p:blipFill>
        <p:spPr>
          <a:xfrm>
            <a:off x="3000240" y="2857680"/>
            <a:ext cx="304812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Georgia"/>
              </a:rPr>
              <a:t>Родилась в московской профессорской семье: отец - И. В. Цветаев, мать - М. А. Мейн (умерла в 1906), пианистка, ученица А. Г. Рубинштейна, дед сводных сестры и брата - историк Д. И. Иловайский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0" y="2000160"/>
            <a:ext cx="914400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0070c0"/>
                </a:solidFill>
                <a:latin typeface="Georgia"/>
              </a:rPr>
              <a:t>В детстве из-за болезни матери (чахотка)  подолгу жила в Италии, Швейцарии, Германии; перерывы в гимназическом образовании восполнялись учебой в пансионах в Лозанне и Фрейбурге. Свободно владела французским и немецким языками</a:t>
            </a:r>
            <a:r>
              <a:rPr b="1" lang="ru-RU" sz="3600" spc="-1" strike="noStrike">
                <a:solidFill>
                  <a:srgbClr val="0070c0"/>
                </a:solidFill>
                <a:latin typeface="Georgi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2" name="Рисунок 3" descr=""/>
          <p:cNvPicPr/>
          <p:nvPr/>
        </p:nvPicPr>
        <p:blipFill>
          <a:blip r:embed="rId1"/>
          <a:stretch/>
        </p:blipFill>
        <p:spPr>
          <a:xfrm>
            <a:off x="7215120" y="571680"/>
            <a:ext cx="142884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4" name="Содержимое 3" descr=""/>
          <p:cNvPicPr/>
          <p:nvPr/>
        </p:nvPicPr>
        <p:blipFill>
          <a:blip r:embed="rId1"/>
          <a:stretch/>
        </p:blipFill>
        <p:spPr>
          <a:xfrm>
            <a:off x="500040" y="2214720"/>
            <a:ext cx="3772080" cy="362880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оугольник 4"/>
          <p:cNvSpPr/>
          <p:nvPr/>
        </p:nvSpPr>
        <p:spPr>
          <a:xfrm>
            <a:off x="4286160" y="642960"/>
            <a:ext cx="47149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Из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рая</a:t>
            </a: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 детского жить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Вы мне привет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рощальный</a:t>
            </a: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 шлете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Неизменившие друзь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В потертом,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красном пререплете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f0"/>
                </a:solidFill>
                <a:latin typeface="Trebuchet MS"/>
              </a:rPr>
              <a:t>НАЙДИ КЛЮЧЕВЫЕ СЛОВ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Чуть легкий выучен урок,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Бегу тот час же к вам, бывало,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- Уж поздно!- Мама, десять строк!...-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Но, к счастью, мама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забывала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8" name="Рисунок 3" descr=""/>
          <p:cNvPicPr/>
          <p:nvPr/>
        </p:nvPicPr>
        <p:blipFill>
          <a:blip r:embed="rId1"/>
          <a:stretch/>
        </p:blipFill>
        <p:spPr>
          <a:xfrm>
            <a:off x="6643800" y="4357800"/>
            <a:ext cx="1571400" cy="20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f0"/>
                </a:solidFill>
                <a:latin typeface="Trebuchet MS"/>
              </a:rPr>
              <a:t>Назови автора героев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Дрожат на люстрах огоньки..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Как хорошо за книгой дома!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Под Грига, Шумана и Кю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Я узнавала судьбы </a:t>
            </a: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Тома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Темнеет, в воздухе свежо..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Том</a:t>
            </a: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 в счастье с </a:t>
            </a: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Бэкки</a:t>
            </a: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 полон веры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1" name="Рисунок 3" descr=""/>
          <p:cNvPicPr/>
          <p:nvPr/>
        </p:nvPicPr>
        <p:blipFill>
          <a:blip r:embed="rId1"/>
          <a:stretch/>
        </p:blipFill>
        <p:spPr>
          <a:xfrm>
            <a:off x="7358040" y="500040"/>
            <a:ext cx="157176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0" y="1928520"/>
            <a:ext cx="885816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Вот с факелом </a:t>
            </a:r>
            <a:r>
              <a:rPr b="1" lang="ru-RU" sz="3600" spc="-1" strike="noStrike">
                <a:solidFill>
                  <a:srgbClr val="00b0f0"/>
                </a:solidFill>
                <a:latin typeface="Georgia"/>
              </a:rPr>
              <a:t>Индеец Джо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Блуждает в сумраке пещеры..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Кладбище... Вещий крик совы...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(Мне страшно!) Вот летит чрез кочки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lang="ru-RU" sz="3600" spc="-1" strike="noStrike">
                <a:solidFill>
                  <a:srgbClr val="00b0f0"/>
                </a:solidFill>
                <a:latin typeface="Georgia"/>
              </a:rPr>
              <a:t>Приемыш</a:t>
            </a: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 чопорной вдовы,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Как Диоген, живущий в бочке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4" name="Рисунок 4" descr=""/>
          <p:cNvPicPr/>
          <p:nvPr/>
        </p:nvPicPr>
        <p:blipFill>
          <a:blip r:embed="rId1"/>
          <a:stretch/>
        </p:blipFill>
        <p:spPr>
          <a:xfrm>
            <a:off x="7358040" y="500040"/>
            <a:ext cx="157176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42920" y="2249640"/>
            <a:ext cx="878688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Светлее солнца тронный зал,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Над стройным мальчиком - корона..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Вдруг - нищий! Боже! Он сказал: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"Позвольте, я наследник трона!"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Ушел во тьму, кто в ней возник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7" name="Рисунок 3" descr=""/>
          <p:cNvPicPr/>
          <p:nvPr/>
        </p:nvPicPr>
        <p:blipFill>
          <a:blip r:embed="rId1"/>
          <a:stretch/>
        </p:blipFill>
        <p:spPr>
          <a:xfrm>
            <a:off x="7286760" y="428760"/>
            <a:ext cx="1571400" cy="20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В чём идея стихотворения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30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Британии печальны судьбы..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- </a:t>
            </a: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О, почему средь красных книг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Опять за лампой не уснуть бы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i="1" lang="ru-RU" sz="3200" spc="-1" strike="noStrike">
                <a:solidFill>
                  <a:srgbClr val="00b050"/>
                </a:solidFill>
                <a:latin typeface="Georgia"/>
              </a:rPr>
              <a:t>О золотые времена,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Где </a:t>
            </a:r>
            <a:r>
              <a:rPr b="1" i="1" lang="ru-RU" sz="3200" spc="-1" strike="noStrike">
                <a:solidFill>
                  <a:srgbClr val="00b050"/>
                </a:solidFill>
                <a:latin typeface="Georgia"/>
              </a:rPr>
              <a:t>взор смелей </a:t>
            </a: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и </a:t>
            </a:r>
            <a:r>
              <a:rPr b="1" i="1" lang="ru-RU" sz="3200" spc="-1" strike="noStrike">
                <a:solidFill>
                  <a:srgbClr val="00b050"/>
                </a:solidFill>
                <a:latin typeface="Georgia"/>
              </a:rPr>
              <a:t>сердце чище</a:t>
            </a: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00b0f0"/>
                </a:solidFill>
                <a:latin typeface="Georgia"/>
              </a:rPr>
              <a:t>О золотые имена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00b0f0"/>
                </a:solidFill>
                <a:latin typeface="Georgia"/>
              </a:rPr>
              <a:t>Гекк Финн, Том Сойер, Принц и Нищий!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0" name="Рисунок 3" descr=""/>
          <p:cNvPicPr/>
          <p:nvPr/>
        </p:nvPicPr>
        <p:blipFill>
          <a:blip r:embed="rId1"/>
          <a:stretch/>
        </p:blipFill>
        <p:spPr>
          <a:xfrm>
            <a:off x="7429680" y="500040"/>
            <a:ext cx="1571400" cy="20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4T15:33:24Z</dcterms:created>
  <dc:creator>Пользователь</dc:creator>
  <dc:description/>
  <dc:language>en-US</dc:language>
  <cp:lastModifiedBy>Пользователь</cp:lastModifiedBy>
  <dcterms:modified xsi:type="dcterms:W3CDTF">2013-02-03T18:54:48Z</dcterms:modified>
  <cp:revision>77</cp:revision>
  <dc:subject/>
  <dc:title>Герой художественного     произведения</dc:title>
</cp:coreProperties>
</file>