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36B-F978-4AB7-A2FE-5D40B47A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85B-B979-476E-8622-A78ABDDA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0D7-38B8-4E70-BACC-A9EF6E22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BD3-976C-4ECB-A358-28C87D3E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DC3-B746-4648-AF9E-0AC70032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512-F99E-4C89-BC33-5584D840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4D4-4F27-44B8-9032-83A3D11C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589-573B-49F3-A9B2-4998F49C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B22-5673-45B4-856F-F4909184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184-4D22-4444-8AE9-72873BF4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006-858F-4495-B34E-EBF89122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A9C-922B-4904-AFD1-C901CB0D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52E5-EFC8-4E6A-BFCB-9AEB0901E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4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Bookman Old Style"/>
              </a:rPr>
              <a:t>Урок 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3200" spc="-1" strike="noStrike">
                <a:solidFill>
                  <a:srgbClr val="990000"/>
                </a:solidFill>
                <a:latin typeface="Bookman Old Style"/>
              </a:rPr>
              <a:t>И.С. Тургенев. Цикл рассказов «Записки охотник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990000"/>
                </a:solidFill>
                <a:latin typeface="Bookman Old Style"/>
              </a:rPr>
              <a:t>Роль пейзажных зарисовок в рассказе «Бежин луг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08360" y="4437000"/>
            <a:ext cx="49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Коновалова Анна Юр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МОУ Мордовокарай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Роман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201240" cy="6905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Bookman Old Style"/>
              </a:rPr>
              <a:t>Какими  художественными приемами пользуется Тургенев при описании  картин природы?</a:t>
            </a:r>
            <a:r>
              <a:rPr b="0" i="1" lang="ru-RU" sz="3600" spc="-1" strike="noStrike">
                <a:solidFill>
                  <a:srgbClr val="990000"/>
                </a:solidFill>
                <a:latin typeface="Bookman Old Style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333399"/>
                </a:solidFill>
                <a:latin typeface="Bookman Old Style"/>
              </a:rPr>
              <a:t>Эпитеты:</a:t>
            </a:r>
            <a:r>
              <a:rPr b="1" i="1" lang="ru-RU" sz="3600" spc="-1" strike="noStrike">
                <a:solidFill>
                  <a:srgbClr val="006600"/>
                </a:solidFill>
                <a:latin typeface="Bookman Old Style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«Солнце – не огнистое, не раскаленное…. светлое и приветливо лучезарное»,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«играющие лучи»,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«бесконечно разлившееся река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«могучее светило»…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77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87138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Bookman Old Style"/>
              </a:rPr>
              <a:t>Сравнение: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«блеск подобен блеску кованого серебра», «сами они… лазурны, как небо»,  «последние из них, черноватые и неопределенные, как дым», «как бережно несомая свечка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Bookman Old Style"/>
              </a:rPr>
              <a:t>Метафоры: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 «»утренняя заря не пылает пожаром: она разливается кротким румянцем», «солнце – мирно всплывает», «хлынули играющие лучи»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Bookman Old Style"/>
              </a:rPr>
              <a:t>Олицетворение: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 «ветер разгоняет, раздвигает  накопившийся зной», «вихри… гуляют по дорогам…»,  «облака исчезают…, ложатся розовыми клубами»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77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7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7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Bookman Old Style"/>
              </a:rPr>
              <a:t>Проблемн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Как человек связан с природой в рассказе Тургене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Кто или что выше – природа или человек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77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77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076720" y="476280"/>
            <a:ext cx="40672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Bookman Old Style"/>
              </a:rPr>
              <a:t>  </a:t>
            </a:r>
            <a:r>
              <a:rPr b="1" i="1" lang="en-US" sz="4800" spc="-1" strike="noStrike">
                <a:solidFill>
                  <a:srgbClr val="990000"/>
                </a:solidFill>
                <a:latin typeface="Bookman Old Style"/>
              </a:rPr>
              <a:t>Кто эт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5076720" cy="7632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859280" y="1699920"/>
            <a:ext cx="428472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Рассказч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Bookman Old Style"/>
              </a:rPr>
              <a:t>Кто эт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5640" y="1092240"/>
            <a:ext cx="7688160" cy="5765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0" y="5605200"/>
            <a:ext cx="4114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man Old Style"/>
              </a:rPr>
              <a:t>Диан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Bookman Old Style"/>
              </a:rPr>
              <a:t>Каков он, Бежин луг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1280" y="1290600"/>
            <a:ext cx="784836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Bookman Old Style"/>
              </a:rPr>
              <a:t>Кто  же эти люди, которых встретил охотник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Крестьянские ребятишки, которые стерег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таб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6443640" cy="4292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4121280"/>
            <a:ext cx="3780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Bookman Old Style"/>
              </a:rPr>
              <a:t>Как зовут мальчиков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00560" y="907920"/>
            <a:ext cx="4843440" cy="5950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Фед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Павлуш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Илюш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Кост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Ва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77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77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77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03280" y="189000"/>
            <a:ext cx="414036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Bookman Old Style"/>
              </a:rPr>
              <a:t>      </a:t>
            </a:r>
            <a:r>
              <a:rPr b="1" lang="en-US" sz="4800" spc="-1" strike="noStrike">
                <a:solidFill>
                  <a:srgbClr val="990000"/>
                </a:solidFill>
                <a:latin typeface="Bookman Old Style"/>
              </a:rPr>
              <a:t>Иван 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Bookman Old Style"/>
              </a:rPr>
              <a:t>   </a:t>
            </a:r>
            <a:r>
              <a:rPr b="1" lang="en-US" sz="4800" spc="-1" strike="noStrike">
                <a:solidFill>
                  <a:srgbClr val="990000"/>
                </a:solidFill>
                <a:latin typeface="Bookman Old Style"/>
              </a:rPr>
              <a:t>Турген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(1818 - 1883)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Bookman Old Style"/>
              </a:rPr>
              <a:t>Итоги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Понравился ли вам  рассказ Тургенева?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Что нового вы узнали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11640" y="3429000"/>
            <a:ext cx="4762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Bookman Old Style"/>
              </a:rPr>
              <a:t>Домашнее зад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Bookman Old Style"/>
              </a:rPr>
              <a:t>1.Сделать презентацию одного из героев по план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Рисунок с изображением выбранного героя (мальчик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Описание его внешнего вида (цитаты из текст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История, которую рассказал гер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аше отношение к ге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Bookman Old Style"/>
              </a:rPr>
              <a:t>2. Дочитать рассказ, выбрать наиболее понравившийся эпизод и пересказать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Bookman Old Style"/>
              </a:rPr>
              <a:t>Вся моя биография в моих  сочинениях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Bookman Old Style"/>
              </a:rPr>
              <a:t>                                                                                           </a:t>
            </a:r>
            <a:r>
              <a:rPr b="1" i="1" lang="en-US" sz="3200" spc="-1" strike="noStrike">
                <a:solidFill>
                  <a:srgbClr val="990000"/>
                </a:solidFill>
                <a:latin typeface="Bookman Old Style"/>
              </a:rPr>
              <a:t>И. С. Тургенев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            </a:t>
            </a:r>
            <a:r>
              <a:rPr b="1" lang="ru-RU" sz="3200" spc="-1" strike="noStrike">
                <a:solidFill>
                  <a:srgbClr val="990000"/>
                </a:solidFill>
                <a:latin typeface="Bookman Old Style"/>
              </a:rPr>
              <a:t>усадьба</a:t>
            </a:r>
            <a:r>
              <a:rPr b="0" lang="ru-RU" sz="3200" spc="-1" strike="noStrike">
                <a:solidFill>
                  <a:srgbClr val="990000"/>
                </a:solidFill>
                <a:latin typeface="Bookman Old Style"/>
              </a:rPr>
              <a:t> </a:t>
            </a:r>
            <a:br>
              <a:rPr sz="3600"/>
            </a:br>
            <a:r>
              <a:rPr b="1" lang="ru-RU" sz="3200" spc="-1" strike="noStrike">
                <a:solidFill>
                  <a:srgbClr val="990000"/>
                </a:solidFill>
                <a:latin typeface="Bookman Old Style"/>
              </a:rPr>
              <a:t>Мценского уезда Орловской губернии</a:t>
            </a:r>
            <a:r>
              <a:rPr b="1" lang="ru-RU" sz="3200" spc="-1" strike="noStrike">
                <a:solidFill>
                  <a:srgbClr val="660033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704360" cy="5373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11280" y="5869080"/>
            <a:ext cx="649116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Родина пис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26000" y="0"/>
            <a:ext cx="307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Bookman Old Style"/>
              </a:rPr>
              <a:t>Спасск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88000" y="274320"/>
            <a:ext cx="3898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Bookman Old Style"/>
              </a:rPr>
              <a:t>Сборник, состоящий из 25 рассказ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-15840"/>
            <a:ext cx="471636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Bookman Old Style"/>
              </a:rPr>
              <a:t>  </a:t>
            </a:r>
            <a:r>
              <a:rPr b="1" i="1" lang="en-US" sz="4800" spc="-1" strike="noStrike">
                <a:solidFill>
                  <a:srgbClr val="990000"/>
                </a:solidFill>
                <a:latin typeface="Bookman Old Style"/>
              </a:rPr>
              <a:t>Различные издательства </a:t>
            </a:r>
            <a:r>
              <a:rPr b="1" i="1" lang="en-US" sz="5400" spc="-1" strike="noStrike">
                <a:solidFill>
                  <a:srgbClr val="990000"/>
                </a:solidFill>
                <a:latin typeface="Bookman Old Style"/>
              </a:rPr>
              <a:t>«Записок охотника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Bookman Old Style"/>
              </a:rPr>
              <a:t>  </a:t>
            </a:r>
            <a:r>
              <a:rPr b="1" i="1" lang="en-US" sz="4800" spc="-1" strike="noStrike">
                <a:solidFill>
                  <a:srgbClr val="990000"/>
                </a:solidFill>
                <a:latin typeface="Bookman Old Style"/>
              </a:rPr>
              <a:t>И.С. Тургене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86520" y="0"/>
            <a:ext cx="3057480" cy="4076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97200" cy="3500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771640" y="0"/>
            <a:ext cx="2527560" cy="3500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915160" y="2552760"/>
            <a:ext cx="3228840" cy="4305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3203640" y="2728800"/>
            <a:ext cx="2620800" cy="4129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0" y="2752560"/>
            <a:ext cx="2932200" cy="410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356000" y="0"/>
            <a:ext cx="2871720" cy="3606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411280" y="184464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7315200" y="1052640"/>
            <a:ext cx="18288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00"/>
                </a:solidFill>
                <a:latin typeface="Bookman Old Style"/>
              </a:rPr>
              <a:t>Пейзаж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Bookman Old Style"/>
              </a:rPr>
              <a:t>К</a:t>
            </a:r>
            <a:r>
              <a:rPr b="1" i="1" lang="ru-RU" sz="3600" spc="-1" strike="noStrike">
                <a:solidFill>
                  <a:srgbClr val="990000"/>
                </a:solidFill>
                <a:latin typeface="Bookman Old Style"/>
              </a:rPr>
              <a:t>артина природы  в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Bookman Old Style"/>
              </a:rPr>
              <a:t>художественном произведении и  живо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58920" y="2776680"/>
            <a:ext cx="676908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Bookman Old Style"/>
              </a:rPr>
              <a:t>Определите жанр «Записок охотника»?</a:t>
            </a: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634480"/>
            <a:ext cx="8351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разновидность малой формы эпической литературы, чаще всего очерк посвящается современной автору жизни, фактам и людям. Художественный очерк сохраняет особенности образного изображения. И в этом очерк близок расск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700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Bookman Old Style"/>
              </a:rPr>
              <a:t>  </a:t>
            </a:r>
            <a:r>
              <a:rPr b="1" i="1" lang="en-US" sz="4400" spc="-1" strike="noStrike">
                <a:solidFill>
                  <a:srgbClr val="990000"/>
                </a:solidFill>
                <a:latin typeface="Bookman Old Style"/>
              </a:rPr>
              <a:t>Очерк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22:28:06Z</dcterms:created>
  <dc:creator>User</dc:creator>
  <dc:description/>
  <dc:language>en-US</dc:language>
  <cp:lastModifiedBy>User</cp:lastModifiedBy>
  <dcterms:modified xsi:type="dcterms:W3CDTF">2010-12-27T18:40:24Z</dcterms:modified>
  <cp:revision>3</cp:revision>
  <dc:subject/>
  <dc:title>Слайд 1</dc:title>
</cp:coreProperties>
</file>