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B398C-1B74-464A-91D9-6040A6AD3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E7F42-169F-439B-A124-F01FB2512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B0EA4-1DD7-4CF6-9FE2-648677D9D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B62D1-6501-4A53-9C39-92019DC1A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C1E99-1244-48AB-8424-073FF1896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65DC4-45E8-4EC1-9839-402DB6C6B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52D56-FE28-4A9B-A2A8-81B50889E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9D632-545D-4A46-A15D-24CF785EB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B2A48-F20D-4D5F-BFED-FF895B25D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EC7AF-CE4A-457F-B8A1-46B5807D2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3E7A7-E4B6-4EB9-8BE0-3D14CADB6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446DE-CCBA-4D66-8290-75B6F919A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D4F8D-0C94-4C0A-9AFD-82AB1CB513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image" Target="../media/image19.jpeg"/><Relationship Id="rId8" Type="http://schemas.openxmlformats.org/officeDocument/2006/relationships/image" Target="../media/image20.jpeg"/><Relationship Id="rId9" Type="http://schemas.openxmlformats.org/officeDocument/2006/relationships/image" Target="../media/image21.jpeg"/><Relationship Id="rId10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4.jpeg"/><Relationship Id="rId8" Type="http://schemas.openxmlformats.org/officeDocument/2006/relationships/image" Target="../media/image10.jpeg"/><Relationship Id="rId9" Type="http://schemas.openxmlformats.org/officeDocument/2006/relationships/image" Target="../media/image11.jpe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00"/>
                </a:solidFill>
                <a:latin typeface="Bookman Old Style"/>
              </a:rPr>
              <a:t>Урок в 6 класс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   </a:t>
            </a:r>
            <a:r>
              <a:rPr b="1" lang="ru-RU" sz="3200" spc="-1" strike="noStrike">
                <a:solidFill>
                  <a:srgbClr val="990000"/>
                </a:solidFill>
                <a:latin typeface="Bookman Old Style"/>
              </a:rPr>
              <a:t>И.С. Тургенев. Цикл рассказов «Записки охотника»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Bookman Old Style"/>
              </a:rPr>
              <a:t>  </a:t>
            </a:r>
            <a:r>
              <a:rPr b="1" lang="ru-RU" sz="3200" spc="-1" strike="noStrike">
                <a:solidFill>
                  <a:srgbClr val="990000"/>
                </a:solidFill>
                <a:latin typeface="Bookman Old Style"/>
              </a:rPr>
              <a:t>Роль пейзажных зарисовок в рассказе «Бежин луг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708360" y="4437000"/>
            <a:ext cx="4969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Учитель русского языка и литерату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Коновалова Анна Юрьев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МОУ Мордовокарайская со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Романовского райо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Саратовской обл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201240" cy="69055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2400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990000"/>
                </a:solidFill>
                <a:latin typeface="Bookman Old Style"/>
              </a:rPr>
              <a:t>Какими  художественными приемами пользуется Тургенев при описании  картин природы?</a:t>
            </a:r>
            <a:r>
              <a:rPr b="0" i="1" lang="ru-RU" sz="3600" spc="-1" strike="noStrike">
                <a:solidFill>
                  <a:srgbClr val="990000"/>
                </a:solidFill>
                <a:latin typeface="Bookman Old Style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0" y="2349360"/>
            <a:ext cx="91440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3600" spc="-1" strike="noStrike">
                <a:solidFill>
                  <a:srgbClr val="333399"/>
                </a:solidFill>
                <a:latin typeface="Bookman Old Style"/>
              </a:rPr>
              <a:t>Эпитеты:</a:t>
            </a:r>
            <a:r>
              <a:rPr b="1" i="1" lang="ru-RU" sz="3600" spc="-1" strike="noStrike">
                <a:solidFill>
                  <a:srgbClr val="006600"/>
                </a:solidFill>
                <a:latin typeface="Bookman Old Style"/>
              </a:rPr>
              <a:t> </a:t>
            </a:r>
            <a:r>
              <a:rPr b="1" i="1" lang="ru-RU" sz="2800" spc="-1" strike="noStrike">
                <a:solidFill>
                  <a:srgbClr val="000000"/>
                </a:solidFill>
                <a:latin typeface="Bookman Old Style"/>
              </a:rPr>
              <a:t> «Солнце – не огнистое, не раскаленное…. светлое и приветливо лучезарное», 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Bookman Old Style"/>
              </a:rPr>
              <a:t>   </a:t>
            </a:r>
            <a:r>
              <a:rPr b="1" i="1" lang="ru-RU" sz="2800" spc="-1" strike="noStrike">
                <a:solidFill>
                  <a:srgbClr val="000000"/>
                </a:solidFill>
                <a:latin typeface="Bookman Old Style"/>
              </a:rPr>
              <a:t>«играющие лучи»,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1" i="1" lang="ru-RU" sz="2800" spc="-1" strike="noStrike">
                <a:solidFill>
                  <a:srgbClr val="000000"/>
                </a:solidFill>
                <a:latin typeface="Bookman Old Style"/>
              </a:rPr>
              <a:t>«бесконечно разлившееся река»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1" i="1" lang="ru-RU" sz="2800" spc="-1" strike="noStrike">
                <a:solidFill>
                  <a:srgbClr val="000000"/>
                </a:solidFill>
                <a:latin typeface="Bookman Old Style"/>
              </a:rPr>
              <a:t>«могучее светило»…</a:t>
            </a:r>
            <a:r>
              <a:rPr b="0" i="1" lang="ru-RU" sz="28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77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0" dur="77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8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82" dur="77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8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84" dur="77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8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77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9" dur="77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91" dur="77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9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93" dur="77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9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77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8" dur="77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00" dur="77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02" dur="77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0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77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7" dur="77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0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09" dur="77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1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11" dur="77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1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78920" y="260280"/>
            <a:ext cx="8713800" cy="60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Bookman Old Style"/>
              </a:rPr>
              <a:t>Сравнение: </a:t>
            </a:r>
            <a:r>
              <a:rPr b="1" i="1" lang="en-US" sz="2800" spc="-1" strike="noStrike">
                <a:solidFill>
                  <a:srgbClr val="000000"/>
                </a:solidFill>
                <a:latin typeface="Bookman Old Style"/>
              </a:rPr>
              <a:t>«блеск подобен блеску кованого серебра», «сами они… лазурны, как небо»,  «последние из них, черноватые и неопределенные, как дым», «как бережно несомая свечка»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Bookman Old Style"/>
              </a:rPr>
              <a:t>Метафоры:</a:t>
            </a:r>
            <a:r>
              <a:rPr b="1" i="1" lang="en-US" sz="2800" spc="-1" strike="noStrike">
                <a:solidFill>
                  <a:srgbClr val="000000"/>
                </a:solidFill>
                <a:latin typeface="Bookman Old Style"/>
              </a:rPr>
              <a:t> «»утренняя заря не пылает пожаром: она разливается кротким румянцем», «солнце – мирно всплывает», «хлынули играющие лучи»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Bookman Old Style"/>
              </a:rPr>
              <a:t>Олицетворение:</a:t>
            </a:r>
            <a:r>
              <a:rPr b="1" i="1" lang="en-US" sz="2800" spc="-1" strike="noStrike">
                <a:solidFill>
                  <a:srgbClr val="000000"/>
                </a:solidFill>
                <a:latin typeface="Bookman Old Style"/>
              </a:rPr>
              <a:t> «ветер разгоняет, раздвигает  накопившийся зной», «вихри… гуляют по дорогам…»,  «облака исчезают…, ложатся розовыми клубами»…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77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0" dur="77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22" dur="77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24" dur="77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77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1" dur="77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33" dur="77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35" dur="77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77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2" dur="77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44" dur="77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46" dur="77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Bookman Old Style"/>
              </a:rPr>
              <a:t>Проблемные вопрос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Bookman Old Style"/>
              </a:rPr>
              <a:t>Как человек связан с природой в рассказе Тургенев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Bookman Old Style"/>
              </a:rPr>
              <a:t>Кто или что выше – природа или человек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77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62" dur="77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64" dur="77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66" dur="77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6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77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73" dur="77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7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75" dur="77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77" dur="77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77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84" dur="77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8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86" dur="77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88" dur="77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5076720" y="476280"/>
            <a:ext cx="406728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Bookman Old Style"/>
              </a:rPr>
              <a:t>  </a:t>
            </a:r>
            <a:r>
              <a:rPr b="1" i="1" lang="en-US" sz="4800" spc="-1" strike="noStrike">
                <a:solidFill>
                  <a:srgbClr val="990000"/>
                </a:solidFill>
                <a:latin typeface="Bookman Old Style"/>
              </a:rPr>
              <a:t>Кто это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0" y="-316080"/>
            <a:ext cx="5076720" cy="763272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2"/>
          <p:cNvSpPr>
            <a:spLocks noGrp="1"/>
          </p:cNvSpPr>
          <p:nvPr>
            <p:ph type="title"/>
          </p:nvPr>
        </p:nvSpPr>
        <p:spPr>
          <a:xfrm>
            <a:off x="4859280" y="1699920"/>
            <a:ext cx="4284720" cy="31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Bookman Old Style"/>
              </a:rPr>
              <a:t>Рассказчи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2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77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02" dur="770" fill="hold"/>
                                        <p:tgtEl>
                                          <p:spTgt spid="9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0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04" dur="77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0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06" dur="77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Bookman Old Style"/>
              </a:rPr>
              <a:t>Кто это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755640" y="1092240"/>
            <a:ext cx="7688160" cy="576576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29200" y="5605200"/>
            <a:ext cx="411480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Bookman Old Style"/>
              </a:rPr>
              <a:t>Дианк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77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20" dur="770" fill="hold"/>
                                        <p:tgtEl>
                                          <p:spTgt spid="9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22" dur="77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24" dur="77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2" dur="1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990000"/>
                </a:solidFill>
                <a:latin typeface="Bookman Old Style"/>
              </a:rPr>
              <a:t>Каков он, Бежин луг?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611280" y="1290600"/>
            <a:ext cx="7848360" cy="556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77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40" dur="770" fill="hold"/>
                                        <p:tgtEl>
                                          <p:spTgt spid="9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42" dur="77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44" dur="77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229600" cy="17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Bookman Old Style"/>
              </a:rPr>
              <a:t>Кто  же эти люди, которых встретил охотник?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0" y="198900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1" i="1" lang="en-US" sz="3200" spc="-1" strike="noStrike">
                <a:solidFill>
                  <a:srgbClr val="000000"/>
                </a:solidFill>
                <a:latin typeface="Bookman Old Style"/>
              </a:rPr>
              <a:t>Крестьянские ребятишки, которые стерегл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Bookman Old Style"/>
              </a:rPr>
              <a:t>   </a:t>
            </a:r>
            <a:r>
              <a:rPr b="1" i="1" lang="en-US" sz="3200" spc="-1" strike="noStrike">
                <a:solidFill>
                  <a:srgbClr val="000000"/>
                </a:solidFill>
                <a:latin typeface="Bookman Old Style"/>
              </a:rPr>
              <a:t>табу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2700360" y="2565360"/>
            <a:ext cx="6443640" cy="42926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0" y="4121280"/>
            <a:ext cx="378000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7" dur="77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58" dur="770" fill="hold"/>
                                        <p:tgtEl>
                                          <p:spTgt spid="10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60" dur="77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62" dur="77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8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3" dur="2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6" dur="2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9" dur="2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4" dur="77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85" dur="770" fill="hold"/>
                                        <p:tgtEl>
                                          <p:spTgt spid="10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87" dur="77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89" dur="77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990000"/>
                </a:solidFill>
                <a:latin typeface="Bookman Old Style"/>
              </a:rPr>
              <a:t>Как зовут мальчиков?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4300560" y="907920"/>
            <a:ext cx="4843440" cy="595008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394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Bookman Old Style"/>
              </a:rPr>
              <a:t>Федя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Bookman Old Style"/>
              </a:rPr>
              <a:t>Павлуш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Bookman Old Style"/>
              </a:rPr>
              <a:t>Илюш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Bookman Old Style"/>
              </a:rPr>
              <a:t>Кост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Bookman Old Style"/>
              </a:rPr>
              <a:t>Ваня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7" dur="77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98" dur="770" fill="hold"/>
                                        <p:tgtEl>
                                          <p:spTgt spid="10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00" dur="77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02" dur="77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0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77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14" dur="77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16" dur="77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18" dur="77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77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25" dur="77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27" dur="77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29" dur="77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5" dur="77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36" dur="77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38" dur="77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40" dur="77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6" dur="77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47" dur="77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49" dur="77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51" dur="77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77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58" dur="77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60" dur="77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62" dur="77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003280" y="189000"/>
            <a:ext cx="4140360" cy="59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ookman Old Style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0033"/>
                </a:solidFill>
                <a:latin typeface="Bookman Old Style"/>
              </a:rPr>
              <a:t>      </a:t>
            </a:r>
            <a:r>
              <a:rPr b="1" lang="en-US" sz="4800" spc="-1" strike="noStrike">
                <a:solidFill>
                  <a:srgbClr val="990000"/>
                </a:solidFill>
                <a:latin typeface="Bookman Old Style"/>
              </a:rPr>
              <a:t>Иван Сергеевич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Bookman Old Style"/>
              </a:rPr>
              <a:t>   </a:t>
            </a:r>
            <a:r>
              <a:rPr b="1" lang="en-US" sz="4800" spc="-1" strike="noStrike">
                <a:solidFill>
                  <a:srgbClr val="990000"/>
                </a:solidFill>
                <a:latin typeface="Bookman Old Style"/>
              </a:rPr>
              <a:t>Тургенев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      </a:t>
            </a:r>
            <a:r>
              <a:rPr b="1" lang="en-US" sz="3200" spc="-1" strike="noStrike">
                <a:solidFill>
                  <a:srgbClr val="990000"/>
                </a:solidFill>
                <a:latin typeface="Bookman Old Style"/>
              </a:rPr>
              <a:t>(1818 - 1883)</a:t>
            </a: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003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990000"/>
                </a:solidFill>
                <a:latin typeface="Bookman Old Style"/>
              </a:rPr>
              <a:t>Итоги урок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Bookman Old Style"/>
              </a:rPr>
              <a:t>Понравился ли вам  рассказ Тургенева? 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Bookman Old Style"/>
              </a:rPr>
              <a:t>Что нового вы узнали на уроке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4211640" y="3429000"/>
            <a:ext cx="4762440" cy="32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4" dur="indefinite" restart="never" nodeType="tmRoot">
          <p:childTnLst>
            <p:seq>
              <p:cTn id="565" dur="indefinite" nodeType="mainSeq">
                <p:childTnLst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0" dur="77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71" dur="770" fill="hold"/>
                                        <p:tgtEl>
                                          <p:spTgt spid="10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7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73" dur="77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7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75" dur="77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1" dur="2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6" dur="20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1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Bookman Old Style"/>
              </a:rPr>
              <a:t>Домашнее задание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907920"/>
            <a:ext cx="8229600" cy="595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Bookman Old Style"/>
              </a:rPr>
              <a:t>1.Сделать презентацию одного из героев по плану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ookman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ookman Old Style"/>
              </a:rPr>
              <a:t>Рисунок с изображением выбранного героя (мальчика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ookman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ookman Old Style"/>
              </a:rPr>
              <a:t>Описание его внешнего вида (цитаты из текста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ookman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ookman Old Style"/>
              </a:rPr>
              <a:t>История, которую рассказал геро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ookman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ookman Old Style"/>
              </a:rPr>
              <a:t>Ваше отношение к геро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Bookman Old Style"/>
              </a:rPr>
              <a:t>2. Дочитать рассказ, выбрать наиболее понравившийся эпизод и пересказать его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2" dur="indefinite" restart="never" nodeType="tmRoot">
          <p:childTnLst>
            <p:seq>
              <p:cTn id="593" dur="indefinite" nodeType="mainSeq">
                <p:childTnLst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77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99" dur="770" fill="hold"/>
                                        <p:tgtEl>
                                          <p:spTgt spid="11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01" dur="77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03" dur="77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9" dur="2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2" dur="2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5" dur="20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8" dur="20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1" dur="20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6" dur="2000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990000"/>
                </a:solidFill>
                <a:latin typeface="Bookman Old Style"/>
              </a:rPr>
              <a:t>Вся моя биография в моих  сочинениях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90000"/>
                </a:solidFill>
                <a:latin typeface="Bookman Old Style"/>
              </a:rPr>
              <a:t>                                                                                           </a:t>
            </a:r>
            <a:r>
              <a:rPr b="1" i="1" lang="en-US" sz="3200" spc="-1" strike="noStrike">
                <a:solidFill>
                  <a:srgbClr val="990000"/>
                </a:solidFill>
                <a:latin typeface="Bookman Old Style"/>
              </a:rPr>
              <a:t>И. С. Тургенев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-360" y="188640"/>
            <a:ext cx="9325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Bookman Old Style"/>
              </a:rPr>
              <a:t>            </a:t>
            </a:r>
            <a:r>
              <a:rPr b="1" lang="ru-RU" sz="3200" spc="-1" strike="noStrike">
                <a:solidFill>
                  <a:srgbClr val="990000"/>
                </a:solidFill>
                <a:latin typeface="Bookman Old Style"/>
              </a:rPr>
              <a:t>усадьба</a:t>
            </a:r>
            <a:r>
              <a:rPr b="0" lang="ru-RU" sz="3200" spc="-1" strike="noStrike">
                <a:solidFill>
                  <a:srgbClr val="990000"/>
                </a:solidFill>
                <a:latin typeface="Bookman Old Style"/>
              </a:rPr>
              <a:t> </a:t>
            </a:r>
            <a:br>
              <a:rPr sz="3600"/>
            </a:br>
            <a:r>
              <a:rPr b="1" lang="ru-RU" sz="3200" spc="-1" strike="noStrike">
                <a:solidFill>
                  <a:srgbClr val="990000"/>
                </a:solidFill>
                <a:latin typeface="Bookman Old Style"/>
              </a:rPr>
              <a:t>Мценского уезда Орловской губернии</a:t>
            </a:r>
            <a:r>
              <a:rPr b="1" lang="ru-RU" sz="3200" spc="-1" strike="noStrike">
                <a:solidFill>
                  <a:srgbClr val="660033"/>
                </a:solidFill>
                <a:latin typeface="Bookman Old Style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900000" y="1341360"/>
            <a:ext cx="7704360" cy="537372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211280" y="5869080"/>
            <a:ext cx="6491160" cy="19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Bookman Old Style"/>
              </a:rPr>
              <a:t>Родина писател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726000" y="0"/>
            <a:ext cx="3079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0033"/>
                </a:solidFill>
                <a:latin typeface="Bookman Old Style"/>
              </a:rPr>
              <a:t>Спасско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77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" dur="770" fill="hold"/>
                                        <p:tgtEl>
                                          <p:spTgt spid="5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5" dur="77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7" dur="77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2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2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788000" y="274320"/>
            <a:ext cx="389880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Bookman Old Style"/>
              </a:rPr>
              <a:t>Сборник, состоящий из 25 рассказ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0" y="-15840"/>
            <a:ext cx="4716360" cy="687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77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7" dur="770" fill="hold"/>
                                        <p:tgtEl>
                                          <p:spTgt spid="5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9" dur="77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1" dur="77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0033"/>
                </a:solidFill>
                <a:latin typeface="Bookman Old Style"/>
              </a:rPr>
              <a:t>  </a:t>
            </a:r>
            <a:r>
              <a:rPr b="1" i="1" lang="en-US" sz="4800" spc="-1" strike="noStrike">
                <a:solidFill>
                  <a:srgbClr val="990000"/>
                </a:solidFill>
                <a:latin typeface="Bookman Old Style"/>
              </a:rPr>
              <a:t>Различные издательства </a:t>
            </a:r>
            <a:r>
              <a:rPr b="1" i="1" lang="en-US" sz="5400" spc="-1" strike="noStrike">
                <a:solidFill>
                  <a:srgbClr val="990000"/>
                </a:solidFill>
                <a:latin typeface="Bookman Old Style"/>
              </a:rPr>
              <a:t>«Записок охотника»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990000"/>
                </a:solidFill>
                <a:latin typeface="Bookman Old Style"/>
              </a:rPr>
              <a:t>  </a:t>
            </a:r>
            <a:r>
              <a:rPr b="1" i="1" lang="en-US" sz="4800" spc="-1" strike="noStrike">
                <a:solidFill>
                  <a:srgbClr val="990000"/>
                </a:solidFill>
                <a:latin typeface="Bookman Old Style"/>
              </a:rPr>
              <a:t>И.С. Тургенев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6086520" y="0"/>
            <a:ext cx="3057480" cy="407664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797200" cy="35002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2771640" y="0"/>
            <a:ext cx="2527560" cy="35002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5"/>
          <a:stretch/>
        </p:blipFill>
        <p:spPr>
          <a:xfrm>
            <a:off x="5915160" y="2552760"/>
            <a:ext cx="3228840" cy="43052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6"/>
          <a:stretch/>
        </p:blipFill>
        <p:spPr>
          <a:xfrm>
            <a:off x="3203640" y="2728800"/>
            <a:ext cx="2620800" cy="41292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7"/>
          <a:stretch/>
        </p:blipFill>
        <p:spPr>
          <a:xfrm>
            <a:off x="0" y="2752560"/>
            <a:ext cx="2932200" cy="41054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8"/>
          <a:stretch/>
        </p:blipFill>
        <p:spPr>
          <a:xfrm>
            <a:off x="4356000" y="0"/>
            <a:ext cx="2871720" cy="36068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9"/>
          <a:stretch/>
        </p:blipFill>
        <p:spPr>
          <a:xfrm>
            <a:off x="2411280" y="1844640"/>
            <a:ext cx="2095560" cy="323856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10"/>
          <a:stretch/>
        </p:blipFill>
        <p:spPr>
          <a:xfrm>
            <a:off x="7315200" y="1052640"/>
            <a:ext cx="1828800" cy="28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77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5" dur="770" fill="hold"/>
                                        <p:tgtEl>
                                          <p:spTgt spid="6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7" dur="77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9" dur="77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77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6" dur="770" fill="hold"/>
                                        <p:tgtEl>
                                          <p:spTgt spid="6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8" dur="77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0" dur="77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77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7" dur="770" fill="hold"/>
                                        <p:tgtEl>
                                          <p:spTgt spid="5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9" dur="77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1" dur="77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77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8" dur="770" fill="hold"/>
                                        <p:tgtEl>
                                          <p:spTgt spid="6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0" dur="77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2" dur="77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77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9" dur="770" fill="hold"/>
                                        <p:tgtEl>
                                          <p:spTgt spid="6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1" dur="77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3" dur="77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77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0" dur="770" fill="hold"/>
                                        <p:tgtEl>
                                          <p:spTgt spid="6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2" dur="77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4" dur="77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77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1" dur="770" fill="hold"/>
                                        <p:tgtEl>
                                          <p:spTgt spid="6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3" dur="77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5" dur="77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77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2" dur="770" fill="hold"/>
                                        <p:tgtEl>
                                          <p:spTgt spid="6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4" dur="77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6" dur="77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77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3" dur="770" fill="hold"/>
                                        <p:tgtEl>
                                          <p:spTgt spid="6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5" dur="77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67" dur="77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90000"/>
                </a:solidFill>
                <a:latin typeface="Bookman Old Style"/>
              </a:rPr>
              <a:t>Пейзаж-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96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00"/>
                </a:solidFill>
                <a:latin typeface="Bookman Old Style"/>
              </a:rPr>
              <a:t>К</a:t>
            </a:r>
            <a:r>
              <a:rPr b="1" i="1" lang="ru-RU" sz="3600" spc="-1" strike="noStrike">
                <a:solidFill>
                  <a:srgbClr val="990000"/>
                </a:solidFill>
                <a:latin typeface="Bookman Old Style"/>
              </a:rPr>
              <a:t>артина природы  в 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990000"/>
                </a:solidFill>
                <a:latin typeface="Bookman Old Style"/>
              </a:rPr>
              <a:t>художественном произведении и  живопис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1258920" y="2776680"/>
            <a:ext cx="6769080" cy="40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77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6" dur="77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8" dur="77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80" dur="77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8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77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5" dur="77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87" dur="77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89" dur="77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990000"/>
                </a:solidFill>
                <a:latin typeface="Bookman Old Style"/>
              </a:rPr>
              <a:t>Определите жанр «Записок охотника»?</a:t>
            </a:r>
            <a:r>
              <a:rPr b="0" lang="ru-RU" sz="4000" spc="-1" strike="noStrike">
                <a:solidFill>
                  <a:srgbClr val="990000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660033"/>
                </a:solidFill>
                <a:latin typeface="Bookman Old Style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24000" y="2634480"/>
            <a:ext cx="83516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Bookman Old Style"/>
              </a:rPr>
              <a:t>разновидность малой формы эпической литературы, чаще всего очерк посвящается современной автору жизни, фактам и людям. Художественный очерк сохраняет особенности образного изображения. И в этом очерк близок рассказ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843280" y="1700280"/>
            <a:ext cx="338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660033"/>
                </a:solidFill>
                <a:latin typeface="Bookman Old Style"/>
              </a:rPr>
              <a:t>  </a:t>
            </a:r>
            <a:r>
              <a:rPr b="1" i="1" lang="en-US" sz="4400" spc="-1" strike="noStrike">
                <a:solidFill>
                  <a:srgbClr val="990000"/>
                </a:solidFill>
                <a:latin typeface="Bookman Old Style"/>
              </a:rPr>
              <a:t>Очерк 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77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8" dur="770" fill="hold"/>
                                        <p:tgtEl>
                                          <p:spTgt spid="7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10" dur="77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12" dur="77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77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9" dur="770" fill="hold"/>
                                        <p:tgtEl>
                                          <p:spTgt spid="7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21" dur="77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23" dur="77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20T22:28:06Z</dcterms:created>
  <dc:creator>User</dc:creator>
  <dc:description/>
  <dc:language>en-US</dc:language>
  <cp:lastModifiedBy>User</cp:lastModifiedBy>
  <dcterms:modified xsi:type="dcterms:W3CDTF">2010-12-27T18:40:24Z</dcterms:modified>
  <cp:revision>3</cp:revision>
  <dc:subject/>
  <dc:title>Слайд 1</dc:title>
</cp:coreProperties>
</file>