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92AC-29DD-479D-806E-51A95C3F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00F-7BAD-48EB-8567-95884DB4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EA9-28F9-4168-B3A3-3D0E0310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1094-8B76-4C24-ADF2-0D57A65C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37A6-9EA6-4DFC-8DC5-FF706574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5C0-91D9-48EB-ACC3-DA6622F8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CAB-B295-4D38-9513-1228612B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7FA-01E9-46A9-AE1C-0A0EA5B6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7CE-1ECB-4B7C-8765-8C62548C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88A-4EF2-416A-AB81-6916D030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94A0-21A9-46AE-B018-E9058832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4F5F-10A9-4EFA-8298-776E06FE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9AA0-CCFE-42E3-9B58-6E802F3FEF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шаблон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ac6e"/>
                </a:solidFill>
                <a:latin typeface="Arial"/>
              </a:rPr>
              <a:t>Аппликация из тка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138240" y="6381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Занятие подготовила воспитатель: Пономарева О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Users\Алексей\Desktop\P1070982.JPG"/>
          <p:cNvPicPr/>
          <p:nvPr/>
        </p:nvPicPr>
        <p:blipFill>
          <a:blip r:embed="rId2"/>
          <a:stretch/>
        </p:blipFill>
        <p:spPr>
          <a:xfrm>
            <a:off x="2004840" y="1889280"/>
            <a:ext cx="50612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47" name="Picture 7" descr="pic82full"/>
          <p:cNvPicPr/>
          <p:nvPr/>
        </p:nvPicPr>
        <p:blipFill>
          <a:blip r:embed="rId2"/>
          <a:stretch/>
        </p:blipFill>
        <p:spPr>
          <a:xfrm rot="20982600">
            <a:off x="875880" y="2222280"/>
            <a:ext cx="3714840" cy="32922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"/>
          <p:cNvSpPr/>
          <p:nvPr/>
        </p:nvSpPr>
        <p:spPr>
          <a:xfrm>
            <a:off x="1974960" y="258840"/>
            <a:ext cx="61261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«Всё что делаем мы с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зываем чудесам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23456_032"/>
          <p:cNvPicPr/>
          <p:nvPr/>
        </p:nvPicPr>
        <p:blipFill>
          <a:blip r:embed="rId3"/>
          <a:stretch/>
        </p:blipFill>
        <p:spPr>
          <a:xfrm>
            <a:off x="5219640" y="1916280"/>
            <a:ext cx="3241800" cy="41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-3024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09920" y="1628280"/>
            <a:ext cx="389880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зки, рассказ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898560" y="1628640"/>
            <a:ext cx="230328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южетные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898560" y="260280"/>
            <a:ext cx="7035840" cy="127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rcRect l="16157" t="0" r="8833" b="0"/>
          <a:stretch/>
        </p:blipFill>
        <p:spPr>
          <a:xfrm>
            <a:off x="898560" y="2133720"/>
            <a:ext cx="3292560" cy="9572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4191120" y="2427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2ac6e"/>
                </a:solidFill>
                <a:latin typeface="Arial"/>
              </a:rPr>
              <a:t>Изображающие узор или орна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Прямоугольник 4" descr=""/>
          <p:cNvPicPr/>
          <p:nvPr/>
        </p:nvPicPr>
        <p:blipFill>
          <a:blip r:embed="rId4"/>
          <a:stretch/>
        </p:blipFill>
        <p:spPr>
          <a:xfrm>
            <a:off x="890640" y="2828880"/>
            <a:ext cx="3327480" cy="981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4030560" y="3102120"/>
            <a:ext cx="38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ые, растения, транспор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шаблон"/>
          <p:cNvPicPr/>
          <p:nvPr/>
        </p:nvPicPr>
        <p:blipFill>
          <a:blip r:embed="rId1"/>
          <a:stretch/>
        </p:blipFill>
        <p:spPr>
          <a:xfrm>
            <a:off x="-3168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2ac6e"/>
                </a:solidFill>
                <a:latin typeface="Arial"/>
              </a:rPr>
              <a:t>Этапы выполнения апплик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971640" y="2133720"/>
            <a:ext cx="5545080" cy="30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Разработка эски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Arial"/>
              </a:rPr>
              <a:t>Подбор цвета и фактуры ткани в зависимости от сюж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Разбивка рисунка на детали, каждая из которых нумеруется в порядке закрепления на основ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Arial"/>
              </a:rPr>
              <a:t>Изготовление шаблонов деталей аппликации с учётом припус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еревод эскиза на основ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Arial"/>
              </a:rPr>
              <a:t>Выкраивание  деталей аппликации по шаблона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Закрепление дета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1:54:26Z</dcterms:created>
  <dc:creator>Ivan</dc:creator>
  <dc:description/>
  <dc:language>en-US</dc:language>
  <cp:lastModifiedBy>Алексей</cp:lastModifiedBy>
  <dcterms:modified xsi:type="dcterms:W3CDTF">2013-03-06T18:50:58Z</dcterms:modified>
  <cp:revision>32</cp:revision>
  <dc:subject/>
  <dc:title>Слайд 1</dc:title>
</cp:coreProperties>
</file>