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B47-CEC6-4EC3-BBC3-FA27D2B3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4C0-8253-4897-BF4D-C27117D1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FE2-4F97-4DC4-AFDD-71C57BE1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FF0-0BA9-4141-85F0-884DDE862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46C-11A3-4DE9-8649-2DD4329A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34B3-9DDA-491A-B6CB-71771B16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3439-E4FB-495D-9976-F0F31439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CEE-2E33-4BC8-8888-274C657E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A43-7DA6-47C5-93B4-83D1407C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90A0-66BB-4EED-81B8-2F8862EB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BBC-39AC-42D4-B47F-6BC6E0F1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22C-DAC5-4931-A7C5-241E6B24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033A-E297-4E1E-8458-C372187790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шаблон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2ac6e"/>
                </a:solidFill>
                <a:latin typeface="Arial"/>
              </a:rPr>
              <a:t>Аппликация из тка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1"/>
          <p:cNvSpPr/>
          <p:nvPr/>
        </p:nvSpPr>
        <p:spPr>
          <a:xfrm>
            <a:off x="138240" y="63817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Занятие подготовила воспитатель: Пономарева О.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C:\Users\Алексей\Desktop\P1070982.JPG"/>
          <p:cNvPicPr/>
          <p:nvPr/>
        </p:nvPicPr>
        <p:blipFill>
          <a:blip r:embed="rId2"/>
          <a:stretch/>
        </p:blipFill>
        <p:spPr>
          <a:xfrm>
            <a:off x="2004840" y="1889280"/>
            <a:ext cx="5061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шаб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47" name="Picture 7" descr="pic82full"/>
          <p:cNvPicPr/>
          <p:nvPr/>
        </p:nvPicPr>
        <p:blipFill>
          <a:blip r:embed="rId2"/>
          <a:stretch/>
        </p:blipFill>
        <p:spPr>
          <a:xfrm rot="20982600">
            <a:off x="875880" y="2222280"/>
            <a:ext cx="3714840" cy="32922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"/>
          <p:cNvSpPr/>
          <p:nvPr/>
        </p:nvSpPr>
        <p:spPr>
          <a:xfrm>
            <a:off x="1974960" y="258840"/>
            <a:ext cx="61261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«Всё что делаем мы с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азываем чудесам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23456_032"/>
          <p:cNvPicPr/>
          <p:nvPr/>
        </p:nvPicPr>
        <p:blipFill>
          <a:blip r:embed="rId3"/>
          <a:stretch/>
        </p:blipFill>
        <p:spPr>
          <a:xfrm>
            <a:off x="5219640" y="1916280"/>
            <a:ext cx="3241800" cy="415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-3024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409920" y="1628280"/>
            <a:ext cx="389880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азки, рассказ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4"/>
          <p:cNvSpPr txBox="1"/>
          <p:nvPr/>
        </p:nvSpPr>
        <p:spPr>
          <a:xfrm>
            <a:off x="898560" y="1628640"/>
            <a:ext cx="2303280" cy="42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южетные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898560" y="260280"/>
            <a:ext cx="7035840" cy="127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3"/>
          <a:srcRect l="16157" t="0" r="8833" b="0"/>
          <a:stretch/>
        </p:blipFill>
        <p:spPr>
          <a:xfrm>
            <a:off x="898560" y="2133720"/>
            <a:ext cx="329256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4191120" y="24271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2ac6e"/>
                </a:solidFill>
                <a:latin typeface="Arial"/>
              </a:rPr>
              <a:t>Изображающие узор или орна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4"/>
          <a:stretch/>
        </p:blipFill>
        <p:spPr>
          <a:xfrm>
            <a:off x="890640" y="2828880"/>
            <a:ext cx="332748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5"/>
          <p:cNvSpPr/>
          <p:nvPr/>
        </p:nvSpPr>
        <p:spPr>
          <a:xfrm>
            <a:off x="4030560" y="310212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вотные, растения, транспор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шаблон"/>
          <p:cNvPicPr/>
          <p:nvPr/>
        </p:nvPicPr>
        <p:blipFill>
          <a:blip r:embed="rId1"/>
          <a:stretch/>
        </p:blipFill>
        <p:spPr>
          <a:xfrm>
            <a:off x="-3168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52ac6e"/>
                </a:solidFill>
                <a:latin typeface="Arial"/>
              </a:rPr>
              <a:t>Этапы выполнения апплик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971640" y="2133720"/>
            <a:ext cx="554508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азработка эскиз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Подбор цвета и фактуры ткани в зависимости от сю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азбивка рисунка на детали, каждая из которых нумеруется в порядке закрепления на осно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Изготовление шаблонов деталей аппликации с учётом припус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еревод эскиза на основ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66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ff"/>
                </a:solidFill>
                <a:latin typeface="Arial"/>
              </a:rPr>
              <a:t>Выкраивание  деталей аппликации по шаблонам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Закрепление дет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1:54:26Z</dcterms:created>
  <dc:creator>Ivan</dc:creator>
  <dc:description/>
  <dc:language>en-US</dc:language>
  <cp:lastModifiedBy>Алексей</cp:lastModifiedBy>
  <dcterms:modified xsi:type="dcterms:W3CDTF">2013-03-06T18:50:58Z</dcterms:modified>
  <cp:revision>32</cp:revision>
  <dc:subject/>
  <dc:title>Слайд 1</dc:title>
</cp:coreProperties>
</file>