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1AB-89ED-43A5-877C-ACC6F334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569-D492-48F1-AA0B-0BEE63D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9D8-A7CD-4A74-86F0-53A37588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3D8-695D-40BD-9745-EBA5DC85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1FA-D78B-40FB-BA69-E14AEFF1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8EBC-3CDB-41E6-B315-68BDE04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3416-9818-4399-B61E-57C6D68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81A7-2278-4F1A-A6DC-CE19EB11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469-F76C-4D7A-87BD-A9D7646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C8E-CF06-41FE-9002-F12C8A7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47FC-B8AE-416F-8486-821C1BC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908-27F0-4978-8200-DC2BEA89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52E-F29C-4DBA-81ED-C3D4972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B4A5-DF55-421D-AD70-6793CA8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CCDD-CC20-49BA-AC4B-06A61A88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6261-F4D2-4A2E-AA44-2BD7B597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C2AD-829A-49C2-BCC9-C1F94FCB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A27-6F55-493E-9B70-26134123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07D-F161-4D72-8380-10B6862D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0B7-99F6-4E07-92FB-158B9F7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FF1-E4C3-4C45-82B7-54D3E57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C7B-1AD7-4E8A-AA82-E800127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DEF-785C-4135-951D-B2EC9C8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EAF-0101-47ED-A85E-24F747F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A364-167E-460B-BE61-5715403854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ED83-4808-43AA-B677-C649C9815E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изобретения паровых маш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у выполнила ученица 8б класса МКОУ СОШ пгт Подосиновец Пунченко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действия и применение паровых машин было описано также в 1655 году англичанином Эдвардом Сомерсетом. В 1663 году он опубликовал проект и установил приводимое в движение паром устройство для подъёма воды на стену Большой башни в замке Реглан (углубления в стене, где двигатель был установлен, были ещё заметны в 19-ом столетии). Однако никто не был готов рисковать деньгами для этой новой революционной концепции, и паровая машина осталась неразработа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41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опытов французского физика и изобретателя Дени Папена было создание вакуума в закрытом цилиндре. В середине 1670-х в Париже он в сотрудничестве с голландским физиком Гюйгенсом работал над машиной, которая вытесняла воздух из цилиндра путём взрыва пороха в нём. он смог поднять груз, присоединённый к поршню верёвкой, перекинутой через шк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502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м применённым на производстве паровым двигателем была «пожарная установка», сконструированная английским военным инженером Томасом Севери в 1698 году. Это был поршневой паровой насос, и, очевидно, не слишком эффективный, так как тепло пара каждый раз терялось во время охлаждения контейнера, и довольно опасный в эксплуатации, так как вследствие высокого давления пара ёмкости и трубопроводы двигателя иногда взры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040" y="1600200"/>
            <a:ext cx="3770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английский кузнец Томас Ньюкомен в 1712 году продемонстрировал свой «атмосферный двигатель». Это был усовершенствованный паровой двигатель Севери, в котором Ньюкомен существенно снизил рабочее давление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9225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в России двухцилиндровая вакуумная паровая машина была спроектирована механиком И. И. Ползуновым в 1763 году и построена в 1764 году для приведения в действие воздуходувных мехов на Барнаульских Колывано-Воскресенских зав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83080" y="1557360"/>
            <a:ext cx="442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ровые машины с возвратно-поступательным движение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43280" cy="287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гатели с возвратно-поступательным движением используют энергию пара для перемещения поршня в герметичной камере или цилиндре. Возвратно-поступательное действие поршня может быть механически преобразовано в линейное движение поршневых насосов или во вращательное движение для привода вращающихся частей станков или колёс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акуумные машин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ние паровые машины назывались вначале «огневыми машинами», а также «атмосферными» или «конденсирующими» двигателями Уатта. Они работали на вакуумном принципе и поэтому известны также как «вакуумные двигатели». Такие машины работали для привода поршневых насосов, во всяком случае, нет никаких свидетельств о том, что они использовались в иных ц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она работает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аботе паровой машины вакуумного типа в начале такта пар низкого давления впускается в рабочую камеру или цилиндр. Впускной клапан после этого закрывается, и пар охлаждается, конденсируясь. Таким образом создаётся вакуум в цилиндре. Атмосферное давление в верхней части цилиндра давит на поршень, и вызывает его перемещение вниз, то есть рабочий 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218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ашины высокого давления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аровых машинах пар поступает из котла в рабочую камеру цилиндра, где расширяется, оказывая давление на поршень и совершая полезную работу. После этого расширенный пар может выпускаться в атмосферу или поступать в конденсатор. Важное отличие машин высокого давления от вакуумных состоит в том, что давление отработанного пара превышает атмосферное или равно ему, то есть вакуум не создаётся. Отработанный пар обычно имел давление выше атмосферного и часто выбрасывался в дымовую трубу, что позволяло увеличить тягу кот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ое у них преимущество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сть увеличения давления пара состоит в том, что при этом он приобретает более высокую температуру. Таким образом, паровая машина высокого давления работает при большей разнице температур чем та, которую можно достичь в вакуумных машинах. После того, как машины высокого давления заменили вакуумные, они стали основой для дальнейшего развития и совершенствования всех возвратно-поступательных паровых машин. Однако то давление, которое считалось в 1800 году высоким (275—345 кПа), сейчас рассматривается как очень низкое — давление в современных паровых котлах в десятки раз 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овая маш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тепловой двигатель внешнего сгорания, преобразующий энергию пара в механическую работу возвратно-поступательного движения поршня, а затем во вращательное движение вала. В более широком смысле паровая машина — любой двигатель внешнего сгорания, который преобразовывает энергию пара в механическую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аровые машины двойного действ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ующим важным шагом в развитии паровых машин высокого давления стало появление машин двойного действия. В машинах одиночного действия поршень перемещался в одну сторону силой расширяющегося пара, но обратно он возвращался или под действием гравитации, или за счёт момента инерции вращающегося маховика, соединённого с паровой маш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 чём их преимущество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аровых машинах двойного действия свежий пар поочередно подается в обе стороны рабочего цилиндра, в то время как отработанный пар с другой стороны цилиндра выходит в атмосферу или в конденсатор. Это потребовало создания достаточно сложного механизма парораспределения. Принцип двойного действия повышает скорость работы машины и улучшает плавность 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аровая турбин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овая турбина представляет собой барабан либо серию вращающихся дисков, закреплённых на единой оси, их называют ротором турбины, и серию чередующихся с ними неподвижных дисков, закреплённых на основании, называемых стато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032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ой вид паровых двигате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поршневых паровых машин, в 19-м веке активно использовались роторные паровые машины. В России, во второй половине 19-го века они назывались «коловратные машины» (то есть «вращающие колесо» от слова «коло» — «колесо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00720" y="2421000"/>
            <a:ext cx="4330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ен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ционарные (паровые лебёдки, промышленные двигат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нспортные (пароход, паровой автомобиль, парово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75280" y="620640"/>
            <a:ext cx="3168720" cy="2846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83280" y="3645000"/>
            <a:ext cx="3960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еимущество паровых машин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м преимуществом паровых машин является то, что они могут использовать практически любые источники тепла для преобразования его в механическую работу. Это отличает их от двигателей внутреннего сгорания, каждый тип которых требует использования определённого вида топл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79640" y="1916280"/>
            <a:ext cx="5111640" cy="28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767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767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229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начение паровых машин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вые машины использовались как приводной двигатель в насосных станциях, локомотивах, на паровых судах, тягачах, паровых автомобилях и других транспортных средствах. Паровые машины способствовали широкому распространению коммерческого использования машин на предприятиях и явились энергетической основой промышленной революции XVII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81560" y="1628640"/>
            <a:ext cx="43005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ак работает эта машин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ивода паровой машины необходим паровой котёл. Расширяющийся пар давит на поршень или на лопатки паровой турбины, движение которых передаётся другим механически. Одно из преимуществ двигателей внешнего сгорания в том, что из-за отделения котла от паровой машины можно использовать практически любой вид топлива — от кизяка до у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2241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то изобрё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ое известное устройство, приводимое в движение паром, было описано Героном Александрийским в первом столетии. Пар, выходящий по касательной из дюз, закреплённых на шаре, заставлял последний вра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067280" y="3124080"/>
            <a:ext cx="4897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ая паровая турбина была изобретена намного позже, в средневековом Египте, арабским философом, астрономом и инженером XVI века Таки ад-Дином Мухаммедом. Он предложил метод вращения вертела посредством потока пара, направляемого на лопасти, закреплённые по ободу кол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5688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ую машину предложил в 1629 году итальянский инженер Джованни Бранка для вращения цилиндрического анкерного устройства, которое поочерёдно поднимало и отпускало пару пестов в ступах. Паровой поток в этих ранних паровых турбинах был не концентрированным, и большая часть его энергии рассеивалась во всех направлениях, что приводило к значительным потерям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6814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ашина была создана испанским изобретателем Херонимо Аянсом де Бомонт, изобретения которого повлияли на патент Т. Сев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3:25:38Z</dcterms:created>
  <dc:creator>Андрей</dc:creator>
  <dc:description/>
  <dc:language>en-US</dc:language>
  <cp:lastModifiedBy>Андрей</cp:lastModifiedBy>
  <dcterms:modified xsi:type="dcterms:W3CDTF">2012-12-07T04:43:05Z</dcterms:modified>
  <cp:revision>2</cp:revision>
  <dc:subject/>
  <dc:title>История изобретения паровых машин.</dc:title>
</cp:coreProperties>
</file>