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CFF3-71A4-4ADE-A2F1-D469F1044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4428-8315-4BFE-BC9E-916DDC7B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3CF2-7CE2-4466-97F0-13174992B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616F-91A3-49A7-A84D-6A1685CAB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8EEF9-3113-4A8F-A83A-C93FD05C7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AB40C-40B4-42AE-84BD-AB47FD52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7CC0-73D3-4112-9B42-C45AD3DD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7D54-190C-45E2-9835-F1736211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8245-97C4-4273-9392-D723F1D7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68C6-9978-4F93-988C-1E2A12A8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B38B-2D7A-4EF8-82EA-1030F462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A9C1-34EE-4939-B7DF-5599C344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65C8-692A-4C29-B3DD-0F949B80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DF652-E660-4429-86C2-894A2A29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756B5-4946-4895-93CC-E792A7A8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6A9F-7985-47D9-BDCD-6C5B72F5F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285AF-1121-4495-AE5C-F5B76314F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E62D-4269-4215-A35A-7080BA26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0D47-CB36-4265-998C-0DAE7983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360B-07B2-4EBB-9038-B7830C22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1CED-A4C3-473A-A0C8-03901525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62E7-2E2B-435A-A81A-57E6699F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5B04-D0A4-4B69-A627-7BFA4C35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F22F-C0E1-497C-BC5F-2A7D347D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B11B-CC7B-4234-9324-5B20FA83F02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C5FF-8876-4B5E-A4B9-2EF20D1C719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рия изобретения паровых маши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48436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боту выполнила ученица 8б класса МКОУ СОШ пгт Подосиновец Пунченко Анаста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нцип действия и применение паровых машин было описано также в 1655 году англичанином Эдвардом Сомерсетом. В 1663 году он опубликовал проект и установил приводимое в движение паром устройство для подъёма воды на стену Большой башни в замке Реглан (углубления в стене, где двигатель был установлен, были ещё заметны в 19-ом столетии). Однако никто не был готов рисковать деньгами для этой новой революционной концепции, и паровая машина осталась неразработан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34164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им из опытов французского физика и изобретателя Дени Папена было создание вакуума в закрытом цилиндре. В середине 1670-х в Париже он в сотрудничестве с голландским физиком Гюйгенсом работал над машиной, которая вытесняла воздух из цилиндра путём взрыва пороха в нём. он смог поднять груз, присоединённый к поршню верёвкой, перекинутой через шки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148360" y="1700280"/>
            <a:ext cx="3502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м применённым на производстве паровым двигателем была «пожарная установка», сконструированная английским военным инженером Томасом Севери в 1698 году. Это был поршневой паровой насос, и, очевидно, не слишком эффективный, так как тепло пара каждый раз терялось во время охлаждения контейнера, и довольно опасный в эксплуатации, так как вследствие высокого давления пара ёмкости и трубопроводы двигателя иногда взрывалис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16040" y="1600200"/>
            <a:ext cx="377028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тем английский кузнец Томас Ньюкомен в 1712 году продемонстрировал свой «атмосферный двигатель». Это был усовершенствованный паровой двигатель Севери, в котором Ньюкомен существенно снизил рабочее давление па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392256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ая в России двухцилиндровая вакуумная паровая машина была спроектирована механиком И. И. Ползуновым в 1763 году и построена в 1764 году для приведения в действие воздуходувных мехов на Барнаульских Колывано-Воскресенских завод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483080" y="1557360"/>
            <a:ext cx="4429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Паровые машины с возвратно-поступательным движением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340000" y="1413000"/>
            <a:ext cx="4643280" cy="28796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44366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вигатели с возвратно-поступательным движением используют энергию пара для перемещения поршня в герметичной камере или цилиндре. Возвратно-поступательное действие поршня может быть механически преобразовано в линейное движение поршневых насосов или во вращательное движение для привода вращающихся частей станков или колёс транспортных средст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Вакуумные машины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нние паровые машины назывались вначале «огневыми машинами», а также «атмосферными» или «конденсирующими» двигателями Уатта. Они работали на вакуумном принципе и поэтому известны также как «вакуумные двигатели». Такие машины работали для привода поршневых насосов, во всяком случае, нет никаких свидетельств о том, что они использовались в иных целя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Как она работает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работе паровой машины вакуумного типа в начале такта пар низкого давления впускается в рабочую камеру или цилиндр. Впускной клапан после этого закрывается, и пар охлаждается, конденсируясь. Таким образом создаётся вакуум в цилиндре. Атмосферное давление в верхней части цилиндра давит на поршень, и вызывает его перемещение вниз, то есть рабочий хо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076720" y="1557360"/>
            <a:ext cx="32180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Машины высокого давления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аровых машинах пар поступает из котла в рабочую камеру цилиндра, где расширяется, оказывая давление на поршень и совершая полезную работу. После этого расширенный пар может выпускаться в атмосферу или поступать в конденсатор. Важное отличие машин высокого давления от вакуумных состоит в том, что давление отработанного пара превышает атмосферное или равно ему, то есть вакуум не создаётся. Отработанный пар обычно имел давление выше атмосферного и часто выбрасывался в дымовую трубу, что позволяло увеличить тягу кот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Какое у них преимущество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ажность увеличения давления пара состоит в том, что при этом он приобретает более высокую температуру. Таким образом, паровая машина высокого давления работает при большей разнице температур чем та, которую можно достичь в вакуумных машинах. После того, как машины высокого давления заменили вакуумные, они стали основой для дальнейшего развития и совершенствования всех возвратно-поступательных паровых машин. Однако то давление, которое считалось в 1800 году высоким (275—345 кПа), сейчас рассматривается как очень низкое — давление в современных паровых котлах в десятки раз выш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Что это такое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аровая маши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— тепловой двигатель внешнего сгорания, преобразующий энергию пара в механическую работу возвратно-поступательного движения поршня, а затем во вращательное движение вала. В более широком смысле паровая машина — любой двигатель внешнего сгорания, который преобразовывает энергию пара в механическую работ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Паровые машины двойного действия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едующим важным шагом в развитии паровых машин высокого давления стало появление машин двойного действия. В машинах одиночного действия поршень перемещался в одну сторону силой расширяющегося пара, но обратно он возвращался или под действием гравитации, или за счёт момента инерции вращающегося маховика, соединённого с паровой маши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В чём их преимущество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паровых машинах двойного действия свежий пар поочередно подается в обе стороны рабочего цилиндра, в то время как отработанный пар с другой стороны цилиндра выходит в атмосферу или в конденсатор. Это потребовало создания достаточно сложного механизма парораспределения. Принцип двойного действия повышает скорость работы машины и улучшает плавность хо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Паровая турбина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ровая турбина представляет собой барабан либо серию вращающихся дисков, закреплённых на единой оси, их называют ротором турбины, и серию чередующихся с ними неподвижных дисков, закреплённых на основании, называемых статор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403200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Другой вид паровых двигателей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оме поршневых паровых машин, в 19-м веке активно использовались роторные паровые машины. В России, во второй половине 19-го века они назывались «коловратные машины» (то есть «вращающие колесо» от слова «коло» — «колесо»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500720" y="2421000"/>
            <a:ext cx="433044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Применение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ционарные (паровые лебёдки, промышленные двигател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анспортные (пароход, паровой автомобиль, паровоз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975280" y="620640"/>
            <a:ext cx="3168720" cy="28465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183280" y="3645000"/>
            <a:ext cx="396072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Преимущество паровых машин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ным преимуществом паровых машин является то, что они могут использовать практически любые источники тепла для преобразования его в механическую работу. Это отличает их от двигателей внутреннего сгорания, каждый тип которых требует использования определённого вида топли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979640" y="1916280"/>
            <a:ext cx="5111640" cy="288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767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нец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767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Что это такое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822960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Значение паровых машин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овые машины использовались как приводной двигатель в насосных станциях, локомотивах, на паровых судах, тягачах, паровых автомобилях и других транспортных средствах. Паровые машины способствовали широкому распространению коммерческого использования машин на предприятиях и явились энергетической основой промышленной революции XVIII 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381560" y="1628640"/>
            <a:ext cx="430056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Как работает эта машина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привода паровой машины необходим паровой котёл. Расширяющийся пар давит на поршень или на лопатки паровой турбины, движение которых передаётся другим механически. Одно из преимуществ двигателей внешнего сгорания в том, что из-за отделения котла от паровой машины можно использовать практически любой вид топлива — от кизяка до ура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16000" y="1484280"/>
            <a:ext cx="2241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Кто изобрёл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вое известное устройство, приводимое в движение паром, было описано Героном Александрийским в первом столетии. Пар, выходящий по касательной из дюз, закреплённых на шаре, заставлял последний вращать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067280" y="3124080"/>
            <a:ext cx="4897440" cy="32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ьная паровая турбина была изобретена намного позже, в средневековом Египте, арабским философом, астрономом и инженером XVI века Таки ад-Дином Мухаммедом. Он предложил метод вращения вертела посредством потока пара, направляемого на лопасти, закреплённые по ободу коле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340000" y="3500280"/>
            <a:ext cx="568800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обную машину предложил в 1629 году итальянский инженер Джованни Бранка для вращения цилиндрического анкерного устройства, которое поочерёдно поднимало и отпускало пару пестов в ступах. Паровой поток в этих ранних паровых турбинах был не концентрированным, и большая часть его энергии рассеивалась во всех направлениях, что приводило к значительным потерям энерг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68144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ая машина была создана испанским изобретателем Херонимо Аянсом де Бомонт, изобретения которого повлияли на патент Т. Север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03:25:38Z</dcterms:created>
  <dc:creator>Андрей</dc:creator>
  <dc:description/>
  <dc:language>en-US</dc:language>
  <cp:lastModifiedBy>Андрей</cp:lastModifiedBy>
  <dcterms:modified xsi:type="dcterms:W3CDTF">2012-12-07T04:43:05Z</dcterms:modified>
  <cp:revision>2</cp:revision>
  <dc:subject/>
  <dc:title>История изобретения паровых машин.</dc:title>
</cp:coreProperties>
</file>