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D5B-48AB-4DB3-A0AE-480EBF7C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82B-FE58-4E69-93D5-D61F881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1C6-7572-4B8E-9A9A-8960A99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547-8412-4FE5-919F-1174624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B50-8897-447B-9F16-75608485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FC8-723D-4D6E-9D56-D921618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FAA-43ED-41F8-BCE4-32914D6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23F-8E41-4247-834E-974E50F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476-74D7-47D9-91BE-24DF965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1A6-6EF5-4158-8038-5CA2AD8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BFA-D92A-4261-AA84-BE9F024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9F1-97F7-4186-B960-257989B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BC93-EECD-4C6F-B40B-A6121948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the sentences pa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ight he finished the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write these words into my copy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ortsman eats healthy food every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ages have you translated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ke pictures when I’m on holi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Sunday my friend invited me to his pa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will buy flowers for her m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reading a newspaper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the bracke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ushrooms (to gather) in autum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ny houses (to burn) during the Great Fire of Lond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 Petersburg (to found) in 170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ick (to send) to Moscow next mo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This work (to do)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e (to see) to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This bone (to give) to my dog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Football (to play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dinner (to cook)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mework (to do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carpet (to clean)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present (to buy) last Mon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newspaper (to read) every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y friend (to help) with German nex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New skates (to buy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Bread (to buy) alre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5:57:22Z</dcterms:created>
  <dc:creator>PNW</dc:creator>
  <dc:description/>
  <dc:language>en-US</dc:language>
  <cp:lastModifiedBy>PNW</cp:lastModifiedBy>
  <dcterms:modified xsi:type="dcterms:W3CDTF">2011-02-03T06:02:52Z</dcterms:modified>
  <cp:revision>3</cp:revision>
  <dc:subject/>
  <dc:title>Make the sentences passive</dc:title>
</cp:coreProperties>
</file>