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3FF-6753-47CE-A651-E64A8421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C03-7F1B-43E6-9A84-DB3A14F9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DB7-B4FD-4E08-A468-CEADAE98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975-380C-47AC-8EF7-AC161D7A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C98-08E8-4D8B-8CEB-198A1AFE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9C1-96EF-4817-945B-41933F49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988-2F7F-4A31-B35B-E259A0D6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22F-ECEE-4102-91ED-FF53CE35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9AB-8FB3-4DED-AB13-39FEB1BB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87B-71EB-49C9-B1C4-8399025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EFF-9D64-4C4B-8262-D0923EC9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1D8-41D3-4384-9BD4-2596B64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49B0-648C-4FA6-95DA-BD1D002DF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the sentences pa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ight he finished the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write these words into my copy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ortsman eats healthy food every mo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ages have you translated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ake pictures when I’m on holi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Sunday my friend invited me to his par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ly will buy flowers for her m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reading a newspaper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the bracke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ushrooms (to gather) in autum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any houses (to burn) during the Great Fire of Lond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 Petersburg (to found) in 170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ick (to send) to Moscow next mon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This work (to do) 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e (to see) to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This bone (to give) to my dog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Football (to play)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dinner (to cook)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homework (to do)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carpet (to clean) 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present (to buy) last Mon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newspaper (to read) every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y friend (to help) with German next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New skates (to buy)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Bread (to buy) alrea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5:57:22Z</dcterms:created>
  <dc:creator>PNW</dc:creator>
  <dc:description/>
  <dc:language>en-US</dc:language>
  <cp:lastModifiedBy>PNW</cp:lastModifiedBy>
  <dcterms:modified xsi:type="dcterms:W3CDTF">2011-02-03T06:02:52Z</dcterms:modified>
  <cp:revision>3</cp:revision>
  <dc:subject/>
  <dc:title>Make the sentences passive</dc:title>
</cp:coreProperties>
</file>