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media/image13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B84D-25A8-49E8-80C1-A6FEE01C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6A3B-AEF8-4A27-B34F-F821473D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C3C1-D431-4053-811B-E43C921B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7B24-B2F0-456E-A857-4DF254995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30971-1163-4C78-994C-5936BE9F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444CA-2165-405C-AD60-F956774A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372F9-6634-451C-9B7F-E938BDAA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22070-892E-4EE3-85C1-880D5AB2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E4CB5-F908-4A16-8ADD-F047E1B9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FFA51-F190-4668-BFF2-36433398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7EA86-CC96-4909-BCB7-1BDD0092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9EC9-BD84-4241-AAA2-58A52069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F6CFE-09C1-4A71-A947-A67410A5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50C21-6C8C-4BEB-A2BD-08D98E43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47F37-242D-43F3-9C49-E181EAC3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7CFA0-C533-4B87-972C-5D9E07EC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36387-33D9-4BC9-A2C0-B78C5FA53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675D-70B2-42FB-BAD9-AE99DA38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DB47-3BCF-43C6-84D8-23022947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6FEB-C666-40CD-BC5F-EB8D6A1C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3609-C02D-4D1E-90F0-0E050448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272C-03B6-4B31-A3EA-8BAA26CE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3B16-5551-4D2C-BF3E-D11A0A3A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1C19-ADF3-40FF-BD42-0AD4D4DF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EF5C-D3B7-493F-A833-3EF4FA4421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3D3A-303A-404C-9811-39D9F641BE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Juice IT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оту выполнила учениц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б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унченко Анастас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411280" y="1989000"/>
            <a:ext cx="4286520" cy="22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вание судов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и как поднимаютс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, наверное, сами уже догадались, что для всплытия из этих отсеков выпускается вода, и она может выйти на поверх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619280" y="3357720"/>
            <a:ext cx="6119640" cy="3193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5292720" y="5373720"/>
            <a:ext cx="2303640" cy="78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сплытие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796000" y="3860640"/>
            <a:ext cx="0" cy="93528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486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771640" y="3860280"/>
            <a:ext cx="0" cy="86364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74872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До свидания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ам уже известно о плавании тел. Давайте тогда сейчас разберёмся, как плавают су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076720" y="1989000"/>
            <a:ext cx="3373560" cy="446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очему они плавают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з-за большой плотности вещества почти все суда должны тонуть. А вот и секрет плавания: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вес воды, вытесняемый подводной частью судна, равен весу судна с грузом в воздух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946680" cy="2960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148360" y="3573360"/>
            <a:ext cx="3801960" cy="2851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3132000" y="5661000"/>
            <a:ext cx="719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ды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356000" y="4508640"/>
            <a:ext cx="57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=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724360" y="5661000"/>
            <a:ext cx="1008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воздухе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Что такое осадка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05520" y="1989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садко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рабля называется глубина, на которую судно погружается в вод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4762440" cy="4968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39640" y="5950080"/>
            <a:ext cx="18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садка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Свойство осадк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 определённой осадке сила тяжести корабля  уравновешивается архимедовой си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050920" y="2403360"/>
            <a:ext cx="5759640" cy="4454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6588000" y="5229360"/>
            <a:ext cx="64800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588000" y="6093000"/>
            <a:ext cx="1008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тяж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Что за линия – ватерлиния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ибольшая допустимая осадка называется ватерлини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132000" y="2924280"/>
            <a:ext cx="5554800" cy="3471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6084720" y="4653000"/>
            <a:ext cx="22323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Ватерлиния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ransition>
    <p:split dir="in" orient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Что же такое водоизмещение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4876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сса воды, вытесненная судном, называется водоизмещени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619280" y="1371600"/>
            <a:ext cx="5113440" cy="3354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Как получить грузоподъёмность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рузоподъёмность показывает вес груза, перевозимого судном. Чтобы её найти, надо из водоизмещения вычесть вес самого суд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4000" y="3355920"/>
            <a:ext cx="6553080" cy="31352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6227640" y="6021360"/>
            <a:ext cx="180036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удна</a:t>
            </a:r>
            <a:endParaRPr b="0" lang="en-US" sz="12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Как погружаются подводные лодки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450828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судна на воде не погружаются в саму воду, то как это делает подводная лодка? Очень просто: внутри неё имеются специальные отсеки, в которые при погружении набирается вода, и лодка «тонет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979640" y="1557360"/>
            <a:ext cx="5689440" cy="2967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932360" y="3500280"/>
            <a:ext cx="266400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гружение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2060640"/>
            <a:ext cx="0" cy="9367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35640" y="2133720"/>
            <a:ext cx="0" cy="9349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2:22:01Z</dcterms:created>
  <dc:creator>User</dc:creator>
  <dc:description/>
  <dc:language>en-US</dc:language>
  <cp:lastModifiedBy>User</cp:lastModifiedBy>
  <dcterms:modified xsi:type="dcterms:W3CDTF">2012-03-20T16:56:47Z</dcterms:modified>
  <cp:revision>3</cp:revision>
  <dc:subject/>
  <dc:title>Плавание судов</dc:title>
</cp:coreProperties>
</file>