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C1E-B7A8-4AFE-8B0C-EEDC842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2F4-4DD0-4D4F-9181-8A9A0C7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9DC-74B8-432A-B9DC-5105A21C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B9B-D673-4F27-B944-79D8D710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040-8DD4-4EA4-9C78-7CF7D59D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D78-E82E-4288-8D4A-871D8474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00E-FB89-4E2A-9A9F-5D0A5B2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2D5-91B5-4D5D-9DFB-0590F393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CFD-E659-4C5D-BEBD-2CE64AC5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6E2-EFFC-4C85-A56A-47FB1DA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061-9881-4F92-9832-2B99720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F1C-55C4-4613-B1DD-09C8267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916-D58C-4485-96FE-CB0DB77E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533520"/>
            <a:ext cx="868680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.М.Пришви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ладовая солн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78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3400" y="2514600"/>
            <a:ext cx="48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ожет быть, лет 200 эти ель и сосна растут вместе. Их корни с малолетства сплелись, их стволы тянулись вверх рядом к свету, стараясь обогнать друг друга… толстея стволами, они впивались сухими сучьями в живые стволы и местами насквозь прокалывали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52880" y="524988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а! – закричала в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означал её кр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62720" y="479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ой эпизод повести проиллюстрировал худож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 чувствует себя собака? Как вы это поня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эпизод повести изображён на иллюст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1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3400" y="4724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чувствуют гер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3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4267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 чём думал лось, глядя на дев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88620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дочников В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ерый поме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овы ваши чувства при виде во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566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5943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сскажите о своём отношении к гер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8880" cy="6168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248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пишите портрет Н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7400" y="5486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К.Васильев. Лесная ска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19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6172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К.Васильев. Ос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92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24280" y="457200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омадин 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топленный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8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67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24480" y="3268800"/>
            <a:ext cx="2819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ом в Ус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 годы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.М.Приш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26668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Дом, в котором в годы войны жили дети-сироты, прототипы героев «Кладовой солн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1480" y="3809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швин в Дудинских лесах. 1958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11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342900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оря Александров, прототип Митра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отография М.М.Приш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3704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004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оня Александрова, прототип Насти. Фотография М.М.Пришв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3800" cy="532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.В.Калинин. Митраша и Нас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6T03:25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