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4111-8815-4198-BABC-DD20C6671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7206-C279-4B3D-B655-B6000751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11A7-3E74-4775-9476-16689317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AE51-B910-40E6-912B-2FF9D3692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202B-8165-489C-973E-80E34756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CE21-DA5A-4C4E-915F-EC6BB71C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DEB4-BF31-4827-A896-68DD9BA2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80D8-4F73-46C2-A773-768A60F5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DB46-C6EF-469F-BE00-2A74F727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B25D-E39F-4E56-9C33-961D922F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1AAA-1C4F-4DC3-B7A6-B00709EB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4875-867F-4D06-86B3-C198751C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C216-71A7-49C7-9FB3-B890D24A6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533520"/>
            <a:ext cx="8686800" cy="632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.М.Пришвин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Кладовая солнца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008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783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343400" y="2514600"/>
            <a:ext cx="4800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может быть, лет 200 эти ель и сосна растут вместе. Их корни с малолетства сплелись, их стволы тянулись вверх рядом к свету, стараясь обогнать друг друга… толстея стволами, они впивались сухими сучьями в живые стволы и местами насквозь прокалывали друг дру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1184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952880" y="5249880"/>
            <a:ext cx="4191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Кра! – закричала вор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Что означал её кри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5738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562720" y="47926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Какой эпизод повести проиллюстрировал художни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497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Как чувствует себя собака? Как вы это поня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1595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181480" y="449568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ой эпизод повести изображён на иллюстр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814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343400" y="4724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 чувствуют геро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9324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943600" y="42670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О чём думал лось, глядя на девочк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6680" y="0"/>
            <a:ext cx="45673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3886200"/>
            <a:ext cx="4419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Кадочников В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Серый помещ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Каковы ваши чувства при виде вол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295280" y="0"/>
            <a:ext cx="7848720" cy="5665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143000" y="59436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Расскажите о своём отношении к гер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238880" cy="6168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62485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Опишите портрет Н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684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54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2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57400" y="54864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К.Васильев. Лесная сказ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193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057400" y="61722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К.Васильев. Ос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53080" cy="6926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724280" y="457200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Ромадин 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Затопленный л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8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676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324480" y="3268800"/>
            <a:ext cx="28195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Дом в Усоль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в котор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в годы вой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ж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М.М.Пришв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7836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791320" y="2666880"/>
            <a:ext cx="335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Дом, в котором в годы войны жили дети-сироты, прототипы героев «Кладовой солнц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959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181480" y="380988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Пришвин в Дудинских лесах. 1958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6911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724280" y="3429000"/>
            <a:ext cx="4419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Боря Александров, прототип Митраш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Фотография М.М.Пришв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037040" y="0"/>
            <a:ext cx="510696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320040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Соня Александрова, прототип Насти. Фотография М.М.Пришв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543800" cy="5329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54100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.В.Калинин. Митраша и Наст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3-06T03:25:1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