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B1A6-D22A-4A0C-95C9-DC419EA06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2B6A-ECF0-47E5-9B7D-A235D7B2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3BD1-907E-48C8-A77B-79D187EA4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9854-E453-4BA7-A292-539791296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48AE-F939-461B-B286-1C9355AF7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DE07-4CAC-437A-915B-AE9F55CF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9D7CA-F4F9-4FFD-8889-D3118DC3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3EC0-E194-4E65-A45B-9EEC11E5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ACB93-C467-4D9E-90CE-B3A31850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FF78-6EA6-4660-971E-42EE169E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DF0C-6864-4BC7-BDD7-61DF01F6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2AA2-A2E5-4307-873A-F7E59AF9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2C56-7035-41DA-A35D-C7503790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D858-CBD8-4F50-ACC9-9A84777E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E6E7-811D-41D0-BB77-0CEDFB45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FA0F-1408-4461-AE8E-9347B8870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62C53-439B-4A8F-A725-FEE815DF0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1DBCA-9140-4067-9DD6-8AA88883F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AB51D-1E87-47B3-903A-81C3C70B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64290-7F07-4E4B-BE5D-FC532A9A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EB240-70F9-439C-80ED-AF4CC93F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17EE7-672E-46A2-AE23-607B81B3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5933-1013-47E4-8414-8F37C2A1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C5F33-C799-44C1-BE62-C34644B2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B3128-05D5-4C63-B53B-03CD73D5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77CAF-6D34-4324-AFC6-BB52B6CC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F4F25-D9D9-4092-A26C-FCBAECE7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1C909-1EC2-420A-9275-3A23EEEC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C180F-493F-475C-885A-CAA209C51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5A47E-2EE4-45EE-87F2-87762DC13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54647-2FD5-4A93-8C9A-DB951F69C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F89A3-D949-4DFA-833F-6494CF78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3F312-E3A0-47D7-B56E-7E464790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66B4-2333-43E9-A07E-43B89A25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97699-E419-4247-8B94-9CFCA4A8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320E6-7870-4BBD-954F-C5B9EDAE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CFF02-8549-478A-BAE3-36F1AB89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27E58-A7A7-4AEA-B8C5-3CB25FCA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F4A3A-558B-491B-B774-ED82A623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2132E-21D7-4A7B-896A-36E4D828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2800D-E31D-47E7-8DE5-7F3FBF80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BE1C8-F5FC-40FC-A93E-9B342EB5B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8BD95-540F-4F48-90F5-3E60BAD1D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A031-8969-4D0F-BF25-1815F0C2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DD78-C5B8-47D0-8F28-7E8C22EB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8296-66B6-4D05-81F1-191512E9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3055-6A41-42FC-952B-399329FC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FB21-DF28-4400-B57B-AE8045B1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93D5-CADA-4ECB-B59D-F391EFD6A63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968C-943B-4CCB-901D-91FE63DA7727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CBD7F-7EA1-4987-82D1-39E6A9005DC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5E57-BBDD-4910-BC8F-E0FF1E0CEE6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45520" cy="1908360"/>
          </a:xfrm>
          <a:prstGeom prst="rect">
            <a:avLst/>
          </a:prstGeom>
          <a:ln w="0">
            <a:noFill/>
          </a:ln>
        </p:spPr>
      </p:pic>
      <p:sp>
        <p:nvSpPr>
          <p:cNvPr id="196" name="Прямоугольник 1"/>
          <p:cNvSpPr/>
          <p:nvPr/>
        </p:nvSpPr>
        <p:spPr>
          <a:xfrm>
            <a:off x="5580000" y="53737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3"/>
          <p:cNvSpPr/>
          <p:nvPr/>
        </p:nvSpPr>
        <p:spPr>
          <a:xfrm>
            <a:off x="5580000" y="5445000"/>
            <a:ext cx="34196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ю приготовила ученица 8а класса МКОУ СОШ пгт Подосиновец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ерсткова Алексан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267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плопроводность</a:t>
            </a:r>
            <a:r>
              <a:rPr b="1" lang="ru-RU" sz="45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– явление передачи внутренней энергии от одного тела к другому или от одной его части к другой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rcRect l="0" t="3660" r="0" b="0"/>
          <a:stretch/>
        </p:blipFill>
        <p:spPr>
          <a:xfrm>
            <a:off x="2214720" y="2733840"/>
            <a:ext cx="442908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ри теплопроводности не происходит переноса вещества от одного конца тела к другому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2"/>
          <a:stretch/>
        </p:blipFill>
        <p:spPr>
          <a:xfrm>
            <a:off x="0" y="4076640"/>
            <a:ext cx="899640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Теплопроводность у различных веществ – различна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2"/>
          <a:stretch/>
        </p:blipFill>
        <p:spPr>
          <a:xfrm>
            <a:off x="214200" y="2038320"/>
            <a:ext cx="859320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Лучшими проводниками тепла являются металлы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1214280" y="1857240"/>
            <a:ext cx="66373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314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</a:t>
            </a: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Теплопроводность жидкостей невелика (за исключением ртути и расплавленных металлов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692360" y="3067200"/>
            <a:ext cx="480528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Хуже всех проводят тепло газы.</a:t>
            </a: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акуум не обладает теплопроводностью (безвоздушное пространство)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1979640" y="2766960"/>
            <a:ext cx="471492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1" descr=""/>
          <p:cNvPicPr/>
          <p:nvPr/>
        </p:nvPicPr>
        <p:blipFill>
          <a:blip r:embed="rId1"/>
          <a:stretch/>
        </p:blipFill>
        <p:spPr>
          <a:xfrm>
            <a:off x="2459160" y="919080"/>
            <a:ext cx="2833560" cy="25812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лохой теплопроводностью обладают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Picture 6" descr=""/>
          <p:cNvPicPr/>
          <p:nvPr/>
        </p:nvPicPr>
        <p:blipFill>
          <a:blip r:embed="rId2"/>
          <a:srcRect l="0" t="0" r="0" b="29839"/>
          <a:stretch/>
        </p:blipFill>
        <p:spPr>
          <a:xfrm>
            <a:off x="3132000" y="3500280"/>
            <a:ext cx="2179800" cy="2143440"/>
          </a:xfrm>
          <a:prstGeom prst="rect">
            <a:avLst/>
          </a:prstGeom>
          <a:ln w="0">
            <a:noFill/>
          </a:ln>
        </p:spPr>
      </p:pic>
      <p:sp>
        <p:nvSpPr>
          <p:cNvPr id="213" name="TextBox 9"/>
          <p:cNvSpPr/>
          <p:nvPr/>
        </p:nvSpPr>
        <p:spPr>
          <a:xfrm>
            <a:off x="357120" y="5708520"/>
            <a:ext cx="842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вязано с тем, что между волокнами этих веществ содержится возду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0" descr=""/>
          <p:cNvPicPr/>
          <p:nvPr/>
        </p:nvPicPr>
        <p:blipFill>
          <a:blip r:embed="rId3"/>
          <a:stretch/>
        </p:blipFill>
        <p:spPr>
          <a:xfrm>
            <a:off x="539640" y="911160"/>
            <a:ext cx="2389320" cy="2286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2" descr=""/>
          <p:cNvPicPr/>
          <p:nvPr/>
        </p:nvPicPr>
        <p:blipFill>
          <a:blip r:embed="rId4"/>
          <a:stretch/>
        </p:blipFill>
        <p:spPr>
          <a:xfrm>
            <a:off x="5076720" y="901800"/>
            <a:ext cx="3643560" cy="2455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3" descr=""/>
          <p:cNvPicPr/>
          <p:nvPr/>
        </p:nvPicPr>
        <p:blipFill>
          <a:blip r:embed="rId5"/>
          <a:stretch/>
        </p:blipFill>
        <p:spPr>
          <a:xfrm>
            <a:off x="5522760" y="3460680"/>
            <a:ext cx="3009960" cy="2265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"/>
          <p:cNvPicPr/>
          <p:nvPr/>
        </p:nvPicPr>
        <p:blipFill>
          <a:blip r:embed="rId6"/>
          <a:srcRect l="16252" t="4592" r="29376" b="18684"/>
          <a:stretch/>
        </p:blipFill>
        <p:spPr>
          <a:xfrm>
            <a:off x="71280" y="3300480"/>
            <a:ext cx="285768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1:06:05Z</dcterms:created>
  <dc:creator>ViTark</dc:creator>
  <dc:description/>
  <dc:language>en-US</dc:language>
  <cp:lastModifiedBy>1</cp:lastModifiedBy>
  <dcterms:modified xsi:type="dcterms:W3CDTF">2012-10-09T17:48:45Z</dcterms:modified>
  <cp:revision>37</cp:revision>
  <dc:subject/>
  <dc:title>Теплопроводность</dc:title>
</cp:coreProperties>
</file>