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A78-2D4C-47B1-9F42-0A28EE01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746-984A-4E15-B8AE-94088790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272-E062-429F-AD82-604225F8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818C-68AA-42D3-8071-9FC0BC71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C80B-1E41-4C7E-97DF-BC105623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8351-62E1-4397-9057-233D728D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F308-2BCB-4ED1-8CDC-106D0C16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A104-2906-4511-806C-DB2E6C3B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6DBC-D9EC-4066-8E36-24E2452B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FBFB-45AA-4534-9563-601399B5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58D8-9ED3-4919-A653-9D42FAA9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8BA2-B89F-400A-894D-3287EFFB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234C-9C89-4DBB-AB6A-8D08A938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FE31-9E92-4A45-B96D-DC19DCF4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C41F-1565-43B3-B783-3098F1C1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D02A-7EA6-43C4-9D21-F8AC723A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6987-A404-4EA5-ADF2-3C357FC6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50BEB-BE48-441D-9C87-B870C7A7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80FAF-0159-4665-B1A5-A46A331E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AB1BD-D537-4D33-9EA5-59191D87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C0666-7E2C-4615-AF49-75BE1374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EA751-6C6D-45AA-B25B-697DA3AF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952A-96D7-45F7-991A-2EED06B4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8E908-1FAC-4051-A3D2-2807FB68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D01F9-0140-44A7-A0D7-E893DA88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0047A-78AB-46E8-AEAD-A230C825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8FEEA-EEA7-4BA8-985D-39C6F239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56578-9E41-4D04-90B2-8B3298EB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6C029-AC31-4919-A0A3-ACC55E22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E931F-6CDA-436B-82E1-BC65346C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C4041-DCA4-4AFD-856A-1233D1DB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4D425-7FD0-4054-99AF-08778BB0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D3F8B-F10D-465B-9981-3D18648B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24D3-B7F4-4031-B656-DF9C3B87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17282-34E6-4156-85DC-E9FC0AF5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13CA3-08B5-408E-B527-4D55A43A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1507D-5936-4B29-A3E5-55CC2B5C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81F85-A62A-4EE1-AAAC-4590BFA2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72344-E511-4864-BFD1-DBF7C32C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FA094-2615-4CF4-8ECB-BFEFDA0A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B984B-7FBD-4DB3-867B-970041CB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32A57-928E-4B36-88EE-8C90B5FE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F0BE0-3898-4EC0-A7A3-C3CCBF7E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379-0C24-4C58-9CCE-36CC5461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198-8417-4E08-B717-4BE83D33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1C3-A154-4BCE-8649-87B6D6D9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DC93-53FA-4E65-95E0-A1972B52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5A5-66A0-4491-A3D3-EE4227C4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DA10-1402-4BF6-9C0D-6E8B2F5FAD7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4672-5F5E-4514-A1D5-A548F2B4B5F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3049-39E8-4063-80E3-7DBB5FBEB17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BD92-4CC3-4A03-9A57-DA7A612F118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45520" cy="190836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1"/>
          <p:cNvSpPr/>
          <p:nvPr/>
        </p:nvSpPr>
        <p:spPr>
          <a:xfrm>
            <a:off x="5580000" y="5373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5580000" y="5445000"/>
            <a:ext cx="34196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риготовила ученица 8а класса МКОУ СОШ пгт Подосиновец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рсткова Алекса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плопроводность</a:t>
            </a:r>
            <a:r>
              <a:rPr b="1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– явление передачи внутренней энергии от одного тела к другому или от одной его части к другой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rcRect l="0" t="3660" r="0" b="0"/>
          <a:stretch/>
        </p:blipFill>
        <p:spPr>
          <a:xfrm>
            <a:off x="2214720" y="2733840"/>
            <a:ext cx="44290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 теплопроводности не происходит переноса вещества от одного конца тела к другому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2"/>
          <a:stretch/>
        </p:blipFill>
        <p:spPr>
          <a:xfrm>
            <a:off x="0" y="4076640"/>
            <a:ext cx="89964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еплопроводность у различных веществ – различна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214200" y="2038320"/>
            <a:ext cx="85932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Лучшими проводниками тепла являются металлы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1214280" y="1857240"/>
            <a:ext cx="66373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14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</a:t>
            </a:r>
            <a:r>
              <a:rPr b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еплопроводность жидкостей невелика (за исключением ртути и расплавленных металлов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692360" y="3067200"/>
            <a:ext cx="48052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Хуже всех проводят тепло газы.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акуум не обладает теплопроводностью (безвоздушное пространство)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979640" y="2766960"/>
            <a:ext cx="471492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1" descr=""/>
          <p:cNvPicPr/>
          <p:nvPr/>
        </p:nvPicPr>
        <p:blipFill>
          <a:blip r:embed="rId1"/>
          <a:stretch/>
        </p:blipFill>
        <p:spPr>
          <a:xfrm>
            <a:off x="2459160" y="919080"/>
            <a:ext cx="2833560" cy="25812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лохой теплопроводностью обладают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2"/>
          <a:srcRect l="0" t="0" r="0" b="29839"/>
          <a:stretch/>
        </p:blipFill>
        <p:spPr>
          <a:xfrm>
            <a:off x="3132000" y="3500280"/>
            <a:ext cx="2179800" cy="2143440"/>
          </a:xfrm>
          <a:prstGeom prst="rect">
            <a:avLst/>
          </a:prstGeom>
          <a:ln w="0">
            <a:noFill/>
          </a:ln>
        </p:spPr>
      </p:pic>
      <p:sp>
        <p:nvSpPr>
          <p:cNvPr id="213" name="TextBox 9"/>
          <p:cNvSpPr/>
          <p:nvPr/>
        </p:nvSpPr>
        <p:spPr>
          <a:xfrm>
            <a:off x="357120" y="570852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вязано с тем, что между волокнами этих веществ содержится воз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"/>
          <p:cNvPicPr/>
          <p:nvPr/>
        </p:nvPicPr>
        <p:blipFill>
          <a:blip r:embed="rId3"/>
          <a:stretch/>
        </p:blipFill>
        <p:spPr>
          <a:xfrm>
            <a:off x="539640" y="9111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" descr=""/>
          <p:cNvPicPr/>
          <p:nvPr/>
        </p:nvPicPr>
        <p:blipFill>
          <a:blip r:embed="rId4"/>
          <a:stretch/>
        </p:blipFill>
        <p:spPr>
          <a:xfrm>
            <a:off x="5076720" y="901800"/>
            <a:ext cx="3643560" cy="2455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"/>
          <p:cNvPicPr/>
          <p:nvPr/>
        </p:nvPicPr>
        <p:blipFill>
          <a:blip r:embed="rId5"/>
          <a:stretch/>
        </p:blipFill>
        <p:spPr>
          <a:xfrm>
            <a:off x="5522760" y="3460680"/>
            <a:ext cx="3009960" cy="2265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6"/>
          <a:srcRect l="16252" t="4592" r="29376" b="18684"/>
          <a:stretch/>
        </p:blipFill>
        <p:spPr>
          <a:xfrm>
            <a:off x="71280" y="3300480"/>
            <a:ext cx="285768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1:06:05Z</dcterms:created>
  <dc:creator>ViTark</dc:creator>
  <dc:description/>
  <dc:language>en-US</dc:language>
  <cp:lastModifiedBy>1</cp:lastModifiedBy>
  <dcterms:modified xsi:type="dcterms:W3CDTF">2012-10-09T17:48:45Z</dcterms:modified>
  <cp:revision>37</cp:revision>
  <dc:subject/>
  <dc:title>Теплопроводность</dc:title>
</cp:coreProperties>
</file>