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D4D46-02F6-4B89-BFC4-15E2F41A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8675B-BB7D-4881-A8B8-345BB94E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B017C-AB49-464D-9A22-4733534C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8F136-F438-48D8-A339-20E4A85C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9C3D-DEA5-4359-A544-5CB5890B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53CC-5FD7-4172-B965-01DB8831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BDDB-C4CF-4FD5-86F3-85EEECC9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67F0-D5CD-4423-A2F5-105EFA08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EBAA-39A8-4EA1-AC29-4285F918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1844-55DC-441B-93EB-C596FB8B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58AA-CDB7-4C26-A7E3-F270BD57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AFEFC-BC9E-4BD0-ACBE-EEFA5F0E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59C6-DF2E-4ED4-B7F2-F4FD6C9B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DA72-C91D-4BDE-8F08-81C421CF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4861-C1E7-4252-93C4-A7F5F0F6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CAD6-F894-46C3-B817-513FB4B9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C718-A30E-4941-8F53-16D4AA5E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542CF-9877-4C3C-B50C-99B078A1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10823-2166-4AC9-AC05-667579C6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ACA64-BB32-41D3-A3BA-75602819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4A38F-60F7-4C0D-955F-4441C878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203A4-110C-4469-B86B-D296E64E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B78E0-B2BD-46F3-9C12-8ADE9B86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AB977-1E3C-4B4C-B5CA-C8DA94DE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DAB9-500C-400B-A85E-90A222FD59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DD94-44A9-47BD-BD9D-82DC9FC23B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886e0"/>
                </a:solidFill>
                <a:latin typeface="Garamond"/>
              </a:rPr>
              <a:t>ВИДЫ ТЕПЛОПЕРЕДАЧИ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443280" y="5444640"/>
            <a:ext cx="25210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езентацию приготовила ученица 8а класса МКОУ СОШ пгт Подосиновец Русинова Елизавет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5105160" cy="3828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600"/>
                            </p:stCondLst>
                            <p:childTnLst>
                              <p:par>
                                <p:cTn id="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8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886e0"/>
                </a:solidFill>
                <a:latin typeface="Garamond"/>
              </a:rPr>
              <a:t>Тепловое излучение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9640" y="2421000"/>
            <a:ext cx="338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енос энергии в виде электромагнит-ных волн называется излучение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067280" y="2997360"/>
            <a:ext cx="4789440" cy="1844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600"/>
                            </p:stCondLst>
                            <p:childTnLst>
                              <p:par>
                                <p:cTn id="1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43588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886e0"/>
                </a:solidFill>
                <a:latin typeface="Garamond"/>
              </a:rPr>
              <a:t>Тела с темной поверхностью лучше поглощают и излучают энергию, чем тела, имеющие светлую поверхность, поэтому самолеты, чайники и многое другое, что не должно быстро нагреваться или остывать красят в светлый цвет.</a:t>
            </a: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796000" y="3933720"/>
            <a:ext cx="2808360" cy="2716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36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86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886e0"/>
                </a:solidFill>
                <a:latin typeface="Garamond"/>
              </a:rPr>
              <a:t>Излучение может осуществляться как в веществе, так и в вакууме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468360" y="260280"/>
            <a:ext cx="8424000" cy="5917680"/>
            <a:chOff x="468360" y="260280"/>
            <a:chExt cx="8424000" cy="5917680"/>
          </a:xfrm>
        </p:grpSpPr>
        <p:cxnSp>
          <p:nvCxnSpPr>
            <p:cNvPr id="104" name="_s131086"/>
            <p:cNvCxnSpPr>
              <a:stCxn id="105" idx="0"/>
              <a:endCxn id="106" idx="2"/>
            </p:cNvCxnSpPr>
            <p:nvPr/>
          </p:nvCxnSpPr>
          <p:spPr>
            <a:xfrm flipV="1" rot="16200000">
              <a:off x="5562360" y="1743840"/>
              <a:ext cx="1184040" cy="2949120"/>
            </a:xfrm>
            <a:prstGeom prst="bentConnector3">
              <a:avLst>
                <a:gd name="adj1" fmla="val 128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7" name="_s131085"/>
            <p:cNvCxnSpPr>
              <a:stCxn id="108" idx="0"/>
              <a:endCxn id="106" idx="2"/>
            </p:cNvCxnSpPr>
            <p:nvPr/>
          </p:nvCxnSpPr>
          <p:spPr>
            <a:xfrm flipV="1">
              <a:off x="4680000" y="2626560"/>
              <a:ext cx="3960" cy="1184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31084"/>
            <p:cNvCxnSpPr>
              <a:stCxn id="110" idx="0"/>
              <a:endCxn id="106" idx="2"/>
            </p:cNvCxnSpPr>
            <p:nvPr/>
          </p:nvCxnSpPr>
          <p:spPr>
            <a:xfrm flipH="1" flipV="1" rot="5400000">
              <a:off x="2614320" y="1744200"/>
              <a:ext cx="1184040" cy="2949120"/>
            </a:xfrm>
            <a:prstGeom prst="bentConnector3">
              <a:avLst>
                <a:gd name="adj1" fmla="val 128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" name="_s131080"/>
            <p:cNvSpPr/>
            <p:nvPr/>
          </p:nvSpPr>
          <p:spPr>
            <a:xfrm>
              <a:off x="3416760" y="260280"/>
              <a:ext cx="2527200" cy="23670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Garamond"/>
                </a:rPr>
                <a:t>Теплопередач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31081"/>
            <p:cNvSpPr/>
            <p:nvPr/>
          </p:nvSpPr>
          <p:spPr>
            <a:xfrm>
              <a:off x="468360" y="3810960"/>
              <a:ext cx="2527200" cy="23670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Garamond"/>
                </a:rPr>
                <a:t>Теплопроводность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31082"/>
            <p:cNvSpPr/>
            <p:nvPr/>
          </p:nvSpPr>
          <p:spPr>
            <a:xfrm>
              <a:off x="3416760" y="3810960"/>
              <a:ext cx="2527200" cy="23670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Garamond"/>
                </a:rPr>
                <a:t>Конвекц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131083"/>
            <p:cNvSpPr/>
            <p:nvPr/>
          </p:nvSpPr>
          <p:spPr>
            <a:xfrm>
              <a:off x="6365160" y="3810960"/>
              <a:ext cx="2527200" cy="23670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Garamond"/>
                </a:rPr>
                <a:t>Тепловое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Garamond"/>
                </a:rPr>
                <a:t>излучени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886e0"/>
                </a:solidFill>
                <a:latin typeface="Garamond"/>
              </a:rPr>
              <a:t>Теплопроводность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-360" y="1557000"/>
            <a:ext cx="37083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Явление передачи внутренней энергии от одного тела к другому или от одной его части к другой называется теплопроводностью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716360" y="2276640"/>
            <a:ext cx="3635640" cy="1817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7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886e0"/>
                </a:solidFill>
                <a:latin typeface="Garamond"/>
              </a:rPr>
              <a:t>У разных материалов теплопроводность разная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амая большая теплопроводность у серебра и меди, это можно было увидеть из опыт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ерево обладает низкой теплопроводностью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360" y="393336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У жидкостей теплопроводность невелик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2920" y="3933360"/>
            <a:ext cx="403884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У газов теплопроводность еще ниже предыдущи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3241800" cy="1046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6000" y="256536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476360" y="4724280"/>
            <a:ext cx="1871640" cy="1346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1440000" cy="1333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920"/>
                            </p:stCondLst>
                            <p:childTnLst>
                              <p:par>
                                <p:cTn id="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82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820"/>
                            </p:stCondLst>
                            <p:childTnLst>
                              <p:par>
                                <p:cTn id="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17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417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637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8370"/>
                            </p:stCondLst>
                            <p:childTnLst>
                              <p:par>
                                <p:cTn id="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82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886e0"/>
                </a:solidFill>
                <a:latin typeface="Garamond"/>
              </a:rPr>
              <a:t>Самой низкой теплопроводностью обладает  вакуум. </a:t>
            </a:r>
            <a:br>
              <a:rPr sz="4400"/>
            </a:br>
            <a:r>
              <a:rPr b="1" lang="en-US" sz="4400" spc="-1" strike="noStrike">
                <a:solidFill>
                  <a:srgbClr val="a886e0"/>
                </a:solidFill>
                <a:latin typeface="Garamond"/>
              </a:rPr>
              <a:t>В пространстве, где нет частиц, теплопроводность осуществляться не может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886e0"/>
                </a:solidFill>
                <a:latin typeface="Garamond"/>
              </a:rPr>
              <a:t>Конвекция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50920" y="1773000"/>
            <a:ext cx="244944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еренос энергии струями жидкости или газа называется конвекци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24360" y="1844640"/>
            <a:ext cx="4824360" cy="3948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44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740"/>
                            </p:stCondLst>
                            <p:childTnLst>
                              <p:par>
                                <p:cTn id="1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38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886e0"/>
                </a:solidFill>
                <a:latin typeface="Garamond"/>
              </a:rPr>
              <a:t>Существует 2 вида конвекции: вынужденная и естественная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987640" y="3357720"/>
            <a:ext cx="4168800" cy="283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64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886e0"/>
                </a:solidFill>
                <a:latin typeface="Garamond"/>
              </a:rPr>
              <a:t>Жидкости и газы следует нагревать снизу, если нагревать сверху, нагретые слои не смогут отпуститься ниже холодных, более тяжелых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987640" y="3933720"/>
            <a:ext cx="3508560" cy="2737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9680"/>
                            </p:stCondLst>
                            <p:childTnLst>
                              <p:par>
                                <p:cTn id="1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296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886e0"/>
                </a:solidFill>
                <a:latin typeface="Garamond"/>
              </a:rPr>
              <a:t>В твердых телах конвекция происходить не может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0:54:09Z</dcterms:created>
  <dc:creator>1</dc:creator>
  <dc:description/>
  <dc:language>en-US</dc:language>
  <cp:lastModifiedBy>1</cp:lastModifiedBy>
  <dcterms:modified xsi:type="dcterms:W3CDTF">2012-10-09T16:34:16Z</dcterms:modified>
  <cp:revision>3</cp:revision>
  <dc:subject/>
  <dc:title>ВИДЫ ТЕПЛОПЕРЕДАЧИ</dc:title>
</cp:coreProperties>
</file>