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64F0-5970-4F89-8B68-76A6F8F1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7DEE-6307-4E46-9343-B4E32468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1A72-6128-4482-82A1-1DACA924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086C-8585-4B43-A100-25BD19FC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68E0-B448-4918-A4AE-1A2DCE71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570E-1626-4DAF-8682-7FCFDFED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C074-6620-4375-993B-A435A0EF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FCDA-683A-40B4-826D-7B76AA2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E3F0-7A5C-471F-BCB3-04900DC3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F413-ED25-4ED5-958D-97C7E4F5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AFCF-8643-4E2A-AA77-CCEE390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5404-4CF6-4E26-974E-E0777CF1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EE8D-B293-48CF-BD1D-DC59E501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1011-D0AA-4B87-8226-4D1586CE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9F86-4BF5-484B-88D1-29D23E3B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1883-E821-47CF-AB16-A0DF59EE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5BCC-E87C-405C-BF91-9E2E22EF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FF10-E60F-4079-A9CF-7F54E3C5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5231-B02D-460E-B6BF-EB355FC6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90BC-269B-451F-80E8-624B9A6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5C512-5A27-44AD-AD6F-6A1155F0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B2642-E432-49B8-B8ED-7DF79EF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FCD2-34EC-4DA3-B687-2164D5B3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AC18-4609-4191-BD21-F4E77448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6E9C-5A92-4F11-BFE4-260D4CD059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863A-651C-49C9-8EE1-948C979863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886e0"/>
                </a:solidFill>
                <a:latin typeface="Garamond"/>
              </a:rPr>
              <a:t>ВИДЫ ТЕПЛОПЕРЕДАЧ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443280" y="5444640"/>
            <a:ext cx="2521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ю приготовила ученица 8а класса МКОУ СОШ пгт Подосиновец Русинова Елизаве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6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86e0"/>
                </a:solidFill>
                <a:latin typeface="Garamond"/>
              </a:rPr>
              <a:t>Тепловое излуч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640" y="2421000"/>
            <a:ext cx="338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нос энергии в виде электромагнит-ных волн называется излучение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789440" cy="1844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6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43588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886e0"/>
                </a:solidFill>
                <a:latin typeface="Garamond"/>
              </a:rPr>
              <a:t>Тела с темной поверхностью лучше поглощают и излучают энергию, чем тела, имеющие светлую поверхность, поэтому самолеты, чайники и многое другое, что не должно быстро нагреваться или остывать красят в светлый цвет.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96000" y="3933720"/>
            <a:ext cx="2808360" cy="271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36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86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Излучение может осуществляться как в веществе, так и в вакуум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468360" y="260280"/>
            <a:ext cx="8424000" cy="5917680"/>
            <a:chOff x="468360" y="260280"/>
            <a:chExt cx="8424000" cy="5917680"/>
          </a:xfrm>
        </p:grpSpPr>
        <p:cxnSp>
          <p:nvCxnSpPr>
            <p:cNvPr id="104" name="_s131086"/>
            <p:cNvCxnSpPr>
              <a:stCxn id="105" idx="0"/>
              <a:endCxn id="106" idx="2"/>
            </p:cNvCxnSpPr>
            <p:nvPr/>
          </p:nvCxnSpPr>
          <p:spPr>
            <a:xfrm flipV="1" rot="16200000">
              <a:off x="5562360" y="1743840"/>
              <a:ext cx="1184040" cy="294912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31085"/>
            <p:cNvCxnSpPr>
              <a:stCxn id="108" idx="0"/>
              <a:endCxn id="106" idx="2"/>
            </p:cNvCxnSpPr>
            <p:nvPr/>
          </p:nvCxnSpPr>
          <p:spPr>
            <a:xfrm flipV="1">
              <a:off x="4680000" y="2626560"/>
              <a:ext cx="3960" cy="1184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31084"/>
            <p:cNvCxnSpPr>
              <a:stCxn id="110" idx="0"/>
              <a:endCxn id="106" idx="2"/>
            </p:cNvCxnSpPr>
            <p:nvPr/>
          </p:nvCxnSpPr>
          <p:spPr>
            <a:xfrm flipH="1" flipV="1" rot="5400000">
              <a:off x="2614320" y="1744200"/>
              <a:ext cx="1184040" cy="294912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" name="_s131080"/>
            <p:cNvSpPr/>
            <p:nvPr/>
          </p:nvSpPr>
          <p:spPr>
            <a:xfrm>
              <a:off x="3416760" y="260280"/>
              <a:ext cx="2527200" cy="2367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Теплопередач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31081"/>
            <p:cNvSpPr/>
            <p:nvPr/>
          </p:nvSpPr>
          <p:spPr>
            <a:xfrm>
              <a:off x="468360" y="3810960"/>
              <a:ext cx="2527200" cy="2367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Теплопроводност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31082"/>
            <p:cNvSpPr/>
            <p:nvPr/>
          </p:nvSpPr>
          <p:spPr>
            <a:xfrm>
              <a:off x="3416760" y="3810960"/>
              <a:ext cx="2527200" cy="2367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Конвекц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31083"/>
            <p:cNvSpPr/>
            <p:nvPr/>
          </p:nvSpPr>
          <p:spPr>
            <a:xfrm>
              <a:off x="6365160" y="3810960"/>
              <a:ext cx="2527200" cy="2367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Теплово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излучен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86e0"/>
                </a:solidFill>
                <a:latin typeface="Garamond"/>
              </a:rPr>
              <a:t>Теплопроводност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360" y="1557000"/>
            <a:ext cx="37083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Явление передачи внутренней энергии от одного тела к другому или от одной его части к другой называется теплопроводностью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3635640" cy="181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7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У разных материалов теплопроводность разна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амая большая теплопроводность у серебра и меди, это можно было увидеть из опыт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рево обладает низкой теплопроводность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 жидкостей теплопроводность невел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2920" y="393336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 газов теплопроводность еще ниже предыду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3241800" cy="1046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6000" y="256536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476360" y="4724280"/>
            <a:ext cx="1871640" cy="134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440000" cy="133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92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82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82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17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17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37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837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82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Самой низкой теплопроводностью обладает  вакуум. </a:t>
            </a:r>
            <a:br>
              <a:rPr sz="4400"/>
            </a:b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В пространстве, где нет частиц, теплопроводность осуществляться не може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86e0"/>
                </a:solidFill>
                <a:latin typeface="Garamond"/>
              </a:rPr>
              <a:t>Конвекц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2449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енос энергии струями жидкости или газа называется конвекци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4824360" cy="3948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4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74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38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886e0"/>
                </a:solidFill>
                <a:latin typeface="Garamond"/>
              </a:rPr>
              <a:t>Существует 2 вида конвекции: вынужденная и естественная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87640" y="3357720"/>
            <a:ext cx="4168800" cy="283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64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Жидкости и газы следует нагревать снизу, если нагревать сверху, нагретые слои не смогут отпуститься ниже холодных, более тяжелых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3508560" cy="27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68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В твердых телах конвекция происходить не може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0:54:09Z</dcterms:created>
  <dc:creator>1</dc:creator>
  <dc:description/>
  <dc:language>en-US</dc:language>
  <cp:lastModifiedBy>1</cp:lastModifiedBy>
  <dcterms:modified xsi:type="dcterms:W3CDTF">2012-10-09T16:34:16Z</dcterms:modified>
  <cp:revision>3</cp:revision>
  <dc:subject/>
  <dc:title>ВИДЫ ТЕПЛОПЕРЕДАЧИ</dc:title>
</cp:coreProperties>
</file>