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jpeg" ContentType="image/jpeg"/>
  <Override PartName="/ppt/media/image24.png" ContentType="image/png"/>
  <Override PartName="/ppt/media/image23.jpeg" ContentType="image/jpeg"/>
  <Override PartName="/ppt/media/image49.png" ContentType="image/png"/>
  <Override PartName="/ppt/media/image21.jpeg" ContentType="image/jpeg"/>
  <Override PartName="/ppt/media/image2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17.jpeg" ContentType="image/jpeg"/>
  <Override PartName="/ppt/media/image45.jpeg" ContentType="image/jpeg"/>
  <Override PartName="/ppt/media/image34.jpeg" ContentType="image/jpeg"/>
  <Override PartName="/ppt/media/image37.png" ContentType="image/png"/>
  <Override PartName="/ppt/media/image31.jpeg" ContentType="image/jpeg"/>
  <Override PartName="/ppt/media/image4.jpeg" ContentType="image/jpeg"/>
  <Override PartName="/ppt/media/image41.png" ContentType="image/png"/>
  <Override PartName="/ppt/media/image43.png" ContentType="image/png"/>
  <Override PartName="/ppt/media/image46.png" ContentType="image/png"/>
  <Override PartName="/ppt/media/image12.jpeg" ContentType="image/jpeg"/>
  <Override PartName="/ppt/media/image11.png" ContentType="image/png"/>
  <Override PartName="/ppt/media/image48.png" ContentType="image/png"/>
  <Override PartName="/ppt/media/image42.jpeg" ContentType="image/jpeg"/>
  <Override PartName="/ppt/media/image51.png" ContentType="image/png"/>
  <Override PartName="/ppt/media/image50.jpeg" ContentType="image/jpeg"/>
  <Override PartName="/ppt/media/image52.png" ContentType="image/png"/>
  <Override PartName="/ppt/media/image38.png" ContentType="image/png"/>
  <Override PartName="/ppt/media/image39.jpeg" ContentType="image/jpeg"/>
  <Override PartName="/ppt/media/image8.jpeg" ContentType="image/jpeg"/>
  <Override PartName="/ppt/media/image5.png" ContentType="image/png"/>
  <Override PartName="/ppt/media/image44.png" ContentType="image/png"/>
  <Override PartName="/ppt/media/image40.jpeg" ContentType="image/jpeg"/>
  <Override PartName="/ppt/media/image13.jpeg" ContentType="image/jpeg"/>
  <Override PartName="/ppt/media/image30.jpeg" ContentType="image/jpeg"/>
  <Override PartName="/ppt/media/image7.wmf" ContentType="image/x-wmf"/>
  <Override PartName="/ppt/media/image6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D99A-D31F-444A-87DB-C30F764C6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D931-DAF0-4C9D-9F10-2C24EE50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DEEC-8016-4977-8152-5C428EDB0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C65B-5E78-46CC-A132-432568459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24F6-01B1-498F-BDDB-16FC6B423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7429-88B6-4AA7-B4C2-5B27AA0F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034B-9426-485F-BC3C-02A3F62F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1C38-E6D2-4D8B-9196-E9508087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9292-CD6C-4132-89AD-25A5B149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0EB3-B6B5-4739-86A2-A3821FF5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4798-58FA-4785-B1CD-4D1DE65D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7D32-7BA8-4F5C-BC43-2B609FF8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3B80-95B0-4A1F-8054-9702351F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0887-B2E8-4C53-B353-6D0B222D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A716-B944-480C-B0CF-0A70A5FA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0044-E3E9-4991-B5BE-EA0CDDE18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7286-EF5A-463A-BA35-49D98D550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3ED84-07DA-467E-BC10-DB11477FB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BA0E3-6323-41A9-B171-A1FF9D16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0CD6B-80D6-4B04-923D-D2ED883D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036E0-2BE5-4D78-8127-C487F71E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8BE60-1F39-4095-ADDF-3B435A8A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5C6F-A5DB-449D-8596-157B6BB3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EE411-DE0B-4DE0-A378-B74100A3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F632D-B07C-46B8-9CA2-CFC92857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72408-D55F-4C98-A3C7-C391EDFE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E0F06-B478-4AAD-8911-C94CA77F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C64FF-4150-4C1D-ACAB-31668751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BC620-E9A8-4B12-B6CF-1751D142C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8ED7B-E6EC-4C28-BAC5-4089526CC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361A2-7F47-4AED-A89A-EAA40FF45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4915B-4BEF-44DA-8650-8746F237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50B3F-B0CE-40B1-B277-06665626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E47D-290F-4092-98F3-0B239F6F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29641-2480-45DF-8BEE-36C936E7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73BE8-6417-458E-8FFB-B0AC8DB5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840CB-A16D-4C2B-8D15-1B3E173C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E52D6-957A-4B92-B03C-1FCAC100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A4304-27EF-41A0-A454-5B9203E5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A8349-2D4A-4BB1-A231-6BE254F5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6B5AE-09E9-48B1-B90B-2B5BAEF7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5EB2F-D793-4FBE-811D-14963C8D9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C5405-E89E-4C75-B479-C61F68045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5B04-C047-4BFA-8EA6-A6E0AF5F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7785-E3EC-4427-A346-3670312D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4328-F10E-4E80-B302-FBCB3988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11A4-88DB-40AA-A470-F127333E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B612-1F2D-4C29-B357-69229662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F400-7F9F-4B45-A692-7CB40085C9A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BDB8-679C-4900-B3EE-FCA2AC3CE80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8F28-B65C-41F5-A5A4-8C6A18A7D7C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7B96-8F0D-419D-A709-A762B960378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716360" y="3068640"/>
            <a:ext cx="420840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ыполнили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Абдеева Анна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ласов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Александр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Сивков Александ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учащиеся 4 класса В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МБОУ «Гимназия №13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Руководитель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Афонасов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льг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ладимировн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6" name="Прямоугольник 4" descr=""/>
          <p:cNvPicPr/>
          <p:nvPr/>
        </p:nvPicPr>
        <p:blipFill>
          <a:blip r:embed="rId2"/>
          <a:stretch/>
        </p:blipFill>
        <p:spPr>
          <a:xfrm>
            <a:off x="-231840" y="341280"/>
            <a:ext cx="6151680" cy="2798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EVEN0216"/>
          <p:cNvPicPr/>
          <p:nvPr/>
        </p:nvPicPr>
        <p:blipFill>
          <a:blip r:embed="rId3"/>
          <a:stretch/>
        </p:blipFill>
        <p:spPr>
          <a:xfrm>
            <a:off x="900000" y="3213000"/>
            <a:ext cx="3529080" cy="33847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5796000" y="260280"/>
            <a:ext cx="267804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2"/>
          <a:stretch/>
        </p:blipFill>
        <p:spPr>
          <a:xfrm>
            <a:off x="0" y="404640"/>
            <a:ext cx="8656560" cy="1152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1908000" y="2060640"/>
            <a:ext cx="58518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ершок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619280" y="1413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2"/>
          <a:stretch/>
        </p:blipFill>
        <p:spPr>
          <a:xfrm>
            <a:off x="85680" y="-182520"/>
            <a:ext cx="8620200" cy="1627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468360" y="1413000"/>
            <a:ext cx="3066840" cy="22986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4859280" y="1484280"/>
            <a:ext cx="3067200" cy="22986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468360" y="3962520"/>
            <a:ext cx="3859200" cy="28954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4500720" y="3932280"/>
            <a:ext cx="390204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6" descr=""/>
          <p:cNvPicPr/>
          <p:nvPr/>
        </p:nvPicPr>
        <p:blipFill>
          <a:blip r:embed="rId2"/>
          <a:stretch/>
        </p:blipFill>
        <p:spPr>
          <a:xfrm>
            <a:off x="36360" y="701640"/>
            <a:ext cx="8852040" cy="11876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Берковец = 10 пуд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Пуд = 40 фунтов = 16,38 к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Фунт = 96 золотников = 0,41 к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Лот = 3 золотника = 12,797 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Золотник = 4,27 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Доля = 0,04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2"/>
          <a:stretch/>
        </p:blipFill>
        <p:spPr>
          <a:xfrm>
            <a:off x="73080" y="262080"/>
            <a:ext cx="8620200" cy="16272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пу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Золотни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179280" y="2565360"/>
            <a:ext cx="3760920" cy="3846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4140360" y="2924280"/>
            <a:ext cx="481320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8" descr=""/>
          <p:cNvPicPr/>
          <p:nvPr/>
        </p:nvPicPr>
        <p:blipFill>
          <a:blip r:embed="rId2"/>
          <a:stretch/>
        </p:blipFill>
        <p:spPr>
          <a:xfrm>
            <a:off x="73080" y="262080"/>
            <a:ext cx="8620200" cy="16272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0" y="1557000"/>
            <a:ext cx="431640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Международное бюро мер и весов в Севре. (Франция)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4284720" y="2060640"/>
            <a:ext cx="45496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2"/>
          <a:stretch/>
        </p:blipFill>
        <p:spPr>
          <a:xfrm>
            <a:off x="250920" y="2205000"/>
            <a:ext cx="8620200" cy="16272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395280" y="2060640"/>
            <a:ext cx="3138480" cy="44305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3780000" y="2637000"/>
            <a:ext cx="4905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6" descr=""/>
          <p:cNvPicPr/>
          <p:nvPr/>
        </p:nvPicPr>
        <p:blipFill>
          <a:blip r:embed="rId2"/>
          <a:stretch/>
        </p:blipFill>
        <p:spPr>
          <a:xfrm>
            <a:off x="73080" y="262080"/>
            <a:ext cx="8620200" cy="16272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68360" y="19890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декабре 2010 года наш 4 В класс ездил на экскурсию  на шоколадную фабрику "Елисеевский торговый дом" в город Бердск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йдите значение выражения, и вы узнаете расстояние от города Новосибирска до города Бердс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(450:2+2561)+345∙3-378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2"/>
          <a:stretch/>
        </p:blipFill>
        <p:spPr>
          <a:xfrm>
            <a:off x="36360" y="701640"/>
            <a:ext cx="8656920" cy="11876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60-е годы двадцатого века в Новосибирске усиленно стал развиваться молодой вид спорта – биатлон. Кто из Новосибирцев стал первым чемпионом мира по биатлону? Найдите выражение со значением </a:t>
            </a:r>
            <a:r>
              <a:rPr b="0" lang="ru-RU" sz="2600" spc="-1" strike="noStrike">
                <a:solidFill>
                  <a:srgbClr val="21b2c9"/>
                </a:solidFill>
                <a:latin typeface="Arial"/>
                <a:ea typeface="Arial"/>
              </a:rPr>
              <a:t>40 к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Александр Тихонов </a:t>
            </a:r>
            <a:r>
              <a:rPr b="0" lang="ru-RU" sz="2600" spc="-1" strike="noStrike">
                <a:solidFill>
                  <a:srgbClr val="cc0066"/>
                </a:solidFill>
                <a:latin typeface="Arial"/>
                <a:ea typeface="Arial"/>
              </a:rPr>
              <a:t>– 14км300м+30км700м </a:t>
            </a:r>
            <a:r>
              <a:rPr b="0" lang="ru-RU" sz="2600" spc="-1" strike="noStrike">
                <a:solidFill>
                  <a:srgbClr val="cc0066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Виктор Маматов </a:t>
            </a:r>
            <a:r>
              <a:rPr b="0" lang="ru-RU" sz="2600" spc="-1" strike="noStrike">
                <a:solidFill>
                  <a:srgbClr val="cc0066"/>
                </a:solidFill>
                <a:latin typeface="Arial"/>
                <a:ea typeface="Arial"/>
              </a:rPr>
              <a:t>- 980 м+39 км 20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Сергей Тарасов </a:t>
            </a:r>
            <a:r>
              <a:rPr b="0" lang="ru-RU" sz="2600" spc="-1" strike="noStrike">
                <a:solidFill>
                  <a:srgbClr val="cc0066"/>
                </a:solidFill>
                <a:latin typeface="Arial"/>
                <a:ea typeface="Arial"/>
              </a:rPr>
              <a:t>– 7км 960м+23км340м </a:t>
            </a:r>
            <a:r>
              <a:rPr b="0" lang="ru-RU" sz="2600" spc="-1" strike="noStrike">
                <a:solidFill>
                  <a:srgbClr val="cc0066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Сергей Булыгин </a:t>
            </a:r>
            <a:r>
              <a:rPr b="0" lang="ru-RU" sz="2600" spc="-1" strike="noStrike">
                <a:solidFill>
                  <a:srgbClr val="cc0066"/>
                </a:solidFill>
                <a:latin typeface="Arial"/>
                <a:ea typeface="Arial"/>
              </a:rPr>
              <a:t>– 53км007м-13км700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Заголовок 1" descr=""/>
          <p:cNvPicPr/>
          <p:nvPr/>
        </p:nvPicPr>
        <p:blipFill>
          <a:blip r:embed="rId2"/>
          <a:stretch/>
        </p:blipFill>
        <p:spPr>
          <a:xfrm>
            <a:off x="73080" y="701640"/>
            <a:ext cx="8808840" cy="11876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 первый вопрос были следующие ответы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Км, м, дм, см, мм.- 100%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 второй вопрос ответили: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На уроках математики – 91%, когда делали ремонт.-9%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 третий вопрос были следующие ответы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На заводе, на стройке, на производстве мягкой игрушки, на шоколадной фабрике, при шитье.-70%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з старинных мер знают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верста- 27 %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локоть,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сажень-10%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ностранные меры: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миля-21%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Заголовок 1" descr=""/>
          <p:cNvPicPr/>
          <p:nvPr/>
        </p:nvPicPr>
        <p:blipFill>
          <a:blip r:embed="rId2"/>
          <a:stretch/>
        </p:blipFill>
        <p:spPr>
          <a:xfrm>
            <a:off x="73080" y="262080"/>
            <a:ext cx="8620200" cy="16272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Единица измерения длины — метр (от латинского слова «мера»), именно поэтому вся система называется метрическо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Система была изобретена во Франции в 1791 год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5364000" y="1268280"/>
            <a:ext cx="305460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1" descr=""/>
          <p:cNvPicPr/>
          <p:nvPr/>
        </p:nvPicPr>
        <p:blipFill>
          <a:blip r:embed="rId2"/>
          <a:stretch/>
        </p:blipFill>
        <p:spPr>
          <a:xfrm>
            <a:off x="36360" y="701640"/>
            <a:ext cx="8656920" cy="11876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643280" y="1628280"/>
            <a:ext cx="4042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 fontScale="99000"/>
          </a:bodyPr>
          <a:p>
            <a:pPr marL="270000" indent="-2700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Аня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:- Какими единицами измерения длины Вы пользуетесь на работе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Анатолий Иванович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: -Если измеряю древесину, то  сантиметрами, дециметрами, метрами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если измеряю толщину металла – миллиметрам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Аня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:- Какие старинные меры длины Вы знаете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Анатолий Иванович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: - Миля, вершок, сажень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179280" y="2060640"/>
            <a:ext cx="432756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2"/>
          <a:stretch/>
        </p:blipFill>
        <p:spPr>
          <a:xfrm>
            <a:off x="36360" y="701640"/>
            <a:ext cx="8656920" cy="11876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Единицами измерения люди пользуются с давних времён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У каждой страны были свои меры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С развитием взаимоотношений между странами возникла необходимость создания метрической системы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Эталоны мер строго охраняют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Метрическая система  хорошо известна людям и широко ими используется.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СПАСИБО ЗА ВНИМАНИЕ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2"/>
          <a:stretch/>
        </p:blipFill>
        <p:spPr>
          <a:xfrm>
            <a:off x="36360" y="701640"/>
            <a:ext cx="8656920" cy="11876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Какие единицы измерения длины вам известны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Когда и как вам в жизни приходилось пользоваться единицами измерения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 Знаете, где на производстве используют единицы измерения длины и массы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. Какие старинные меры длины и массы вы знает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5. Какие иностранные меры длины вы знает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4" descr=""/>
          <p:cNvPicPr/>
          <p:nvPr/>
        </p:nvPicPr>
        <p:blipFill>
          <a:blip r:embed="rId2"/>
          <a:stretch/>
        </p:blipFill>
        <p:spPr>
          <a:xfrm>
            <a:off x="103320" y="-274680"/>
            <a:ext cx="8888400" cy="21272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2556000" y="1268280"/>
            <a:ext cx="40384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В каждой стране была своя система мер. Проблема была в том, что в разных странах эти системы не совпадал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Сегодня очень важно, чтобы единицы измерения были одинаковыми для всех стра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250920" y="1989000"/>
            <a:ext cx="2519280" cy="27608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6516720" y="2060640"/>
            <a:ext cx="25020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Заголовок 1" descr=""/>
          <p:cNvPicPr/>
          <p:nvPr/>
        </p:nvPicPr>
        <p:blipFill>
          <a:blip r:embed="rId2"/>
          <a:stretch/>
        </p:blipFill>
        <p:spPr>
          <a:xfrm>
            <a:off x="73080" y="262080"/>
            <a:ext cx="8620200" cy="16272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2556000" y="1197000"/>
            <a:ext cx="4498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Заголовок 1" descr=""/>
          <p:cNvPicPr/>
          <p:nvPr/>
        </p:nvPicPr>
        <p:blipFill>
          <a:blip r:embed="rId2"/>
          <a:stretch/>
        </p:blipFill>
        <p:spPr>
          <a:xfrm>
            <a:off x="73080" y="-420840"/>
            <a:ext cx="9199440" cy="23101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611280" y="5892480"/>
            <a:ext cx="28908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ерстовой столб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ерста- 1 км 67 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Содержимое 2"/>
          <p:cNvSpPr/>
          <p:nvPr/>
        </p:nvSpPr>
        <p:spPr>
          <a:xfrm>
            <a:off x="3995640" y="5157720"/>
            <a:ext cx="489744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«Коломенская верста»- так называют очень высокого человека, «верзилу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684360" y="1844640"/>
            <a:ext cx="2517480" cy="41641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5003640" y="1341360"/>
            <a:ext cx="304020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Заголовок 1" descr=""/>
          <p:cNvPicPr/>
          <p:nvPr/>
        </p:nvPicPr>
        <p:blipFill>
          <a:blip r:embed="rId2"/>
          <a:stretch/>
        </p:blipFill>
        <p:spPr>
          <a:xfrm>
            <a:off x="49320" y="255600"/>
            <a:ext cx="8656560" cy="11890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Аршин - 0,71м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Шаг - 71с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Малая пядь - 17,78с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Большая пядь – 22-23с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Пядь с кувырком – 27-31 с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Маховая сажень – 1м 76с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Косая сажень – 2м 48с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Локоть – 38-47с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Вершок – 4,44с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36360" y="701640"/>
            <a:ext cx="8656920" cy="11876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457200" y="1920960"/>
            <a:ext cx="20988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26440" indent="-226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Малая пяд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Содержимое 6"/>
          <p:cNvSpPr/>
          <p:nvPr/>
        </p:nvSpPr>
        <p:spPr>
          <a:xfrm>
            <a:off x="6372360" y="0"/>
            <a:ext cx="2447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Большая пяд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Содержимое 6"/>
          <p:cNvSpPr/>
          <p:nvPr/>
        </p:nvSpPr>
        <p:spPr>
          <a:xfrm>
            <a:off x="3708360" y="3141720"/>
            <a:ext cx="244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Пядь с кувырк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2349360"/>
            <a:ext cx="3743280" cy="28101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4643280" y="476280"/>
            <a:ext cx="4211640" cy="31575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5076720" y="3860640"/>
            <a:ext cx="374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2"/>
          <a:stretch/>
        </p:blipFill>
        <p:spPr>
          <a:xfrm>
            <a:off x="36360" y="701640"/>
            <a:ext cx="8656920" cy="118764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М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аховая сажень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К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осая сажень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324000" y="2565360"/>
            <a:ext cx="4511520" cy="3382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4716360" y="3645000"/>
            <a:ext cx="40417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9" descr=""/>
          <p:cNvPicPr/>
          <p:nvPr/>
        </p:nvPicPr>
        <p:blipFill>
          <a:blip r:embed="rId2"/>
          <a:stretch/>
        </p:blipFill>
        <p:spPr>
          <a:xfrm>
            <a:off x="36360" y="701640"/>
            <a:ext cx="8656920" cy="11876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1835280" y="1916280"/>
            <a:ext cx="585144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1T14:41:53Z</dcterms:created>
  <dc:creator>Никита</dc:creator>
  <dc:description/>
  <dc:language>en-US</dc:language>
  <cp:lastModifiedBy>User</cp:lastModifiedBy>
  <dcterms:modified xsi:type="dcterms:W3CDTF">2013-03-04T15:54:25Z</dcterms:modified>
  <cp:revision>52</cp:revision>
  <dc:subject/>
  <dc:title>Слайд 1</dc:title>
</cp:coreProperties>
</file>