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jpeg" ContentType="image/jpeg"/>
  <Override PartName="/ppt/media/image24.png" ContentType="image/png"/>
  <Override PartName="/ppt/media/image23.jpeg" ContentType="image/jpeg"/>
  <Override PartName="/ppt/media/image49.png" ContentType="image/png"/>
  <Override PartName="/ppt/media/image21.jpeg" ContentType="image/jpeg"/>
  <Override PartName="/ppt/media/image2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17.jpeg" ContentType="image/jpeg"/>
  <Override PartName="/ppt/media/image45.jpeg" ContentType="image/jpeg"/>
  <Override PartName="/ppt/media/image34.jpeg" ContentType="image/jpeg"/>
  <Override PartName="/ppt/media/image37.png" ContentType="image/png"/>
  <Override PartName="/ppt/media/image31.jpeg" ContentType="image/jpeg"/>
  <Override PartName="/ppt/media/image4.jpeg" ContentType="image/jpeg"/>
  <Override PartName="/ppt/media/image41.png" ContentType="image/png"/>
  <Override PartName="/ppt/media/image43.png" ContentType="image/png"/>
  <Override PartName="/ppt/media/image46.png" ContentType="image/png"/>
  <Override PartName="/ppt/media/image12.jpeg" ContentType="image/jpeg"/>
  <Override PartName="/ppt/media/image11.png" ContentType="image/png"/>
  <Override PartName="/ppt/media/image48.png" ContentType="image/png"/>
  <Override PartName="/ppt/media/image42.jpeg" ContentType="image/jpeg"/>
  <Override PartName="/ppt/media/image51.png" ContentType="image/png"/>
  <Override PartName="/ppt/media/image50.jpeg" ContentType="image/jpeg"/>
  <Override PartName="/ppt/media/image52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5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30.jpeg" ContentType="image/jpeg"/>
  <Override PartName="/ppt/media/image7.wmf" ContentType="image/x-wmf"/>
  <Override PartName="/ppt/media/image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C8D6-29CC-48AB-A3BF-4C41CF3A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F757-46D2-4820-9897-D34219E4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B5D7-912B-4D2A-80D8-0287BB30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A435-BD53-41FE-A291-5B36C593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3BB9-B678-419F-9E0C-84D46D06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3EDC-29E9-4918-BA00-5D3A73D3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DD94-5481-4B6A-AACD-C3A0C5C5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C75F-2F2C-416C-B2CA-89D49B53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312B-1ECE-48DE-B0EB-7BC359E1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45DA-49EF-49C6-86F5-11080DCC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B437-9D7C-4737-85BF-6C561E2C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1A8F-19D8-4DAE-8379-7199BC0A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C4DF-8307-4E89-8095-C6FEF24A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6C00-9E4E-47F3-A46C-41765EF9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27F7-83B4-48A7-A58F-41CBFB58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C728-2EF2-4DD0-9061-8CB33379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368B-F42A-414C-BE7C-2314E5611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96AAB-2208-43D5-8713-00AD86F5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A3CDC-2F3C-4DBF-BB7F-06BAF707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69979-6778-4EDD-B03B-F5D0503A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6FF98-8B4F-4F93-A772-70B321DB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77C19-1536-437A-AC2F-F2E8EC09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4E69-5C6F-4AE3-AB0F-E3D8ACA6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3659E-9B52-42A1-B03C-10152E69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87B94-787D-479B-862A-5B06A3A3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B2ABC-A067-431F-9834-8D82D189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1366F-C67A-4EE1-91F2-53C0972F6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ABF81-03A1-467A-B4AB-C24D7139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DA810-B3AD-4680-8506-B7D69FB2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BFBB3-579E-4A60-A96D-F4A1B84E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B0223-4B26-4EBB-840B-9D089B7F8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C94CB-828F-4AFF-86BA-7003A5B5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0A7F3-FAAC-43C4-9AA7-D522C9DE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A96C-5DBD-42EC-BE1A-47BEA393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8D531-5B0C-42C4-9B92-072C84D1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27BF9-0926-49BE-9D70-FEF1F504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7B7CC-620A-4FAB-872E-387F74E0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87A00-C062-453B-800D-2B6DC5FF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9C1B8-B329-4C9E-8B64-532B81B5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E9735-8AC3-4454-A17E-A19CA39E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3298C-C6D6-4EF7-8751-F3A422E0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62CF1-8C87-4316-9B16-4A4D959C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208F3-83A9-448B-A195-04492567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998-E15F-46F5-B356-4A5063B6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28D-9941-493F-9A2A-32F1EC95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254-CB0F-463A-8DC0-A518FF7F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2744-4E3E-4C71-A85B-28BB69FF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1A10-8765-4F6D-B3DB-87B30113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FD28-296B-4D95-8D76-CDE2F5BFD7E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C0C7-2D58-4745-9DDE-17F68615206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D83D-B8FC-4650-893C-C39FDF6E1F8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23D6-9951-41AE-B294-CCDB5A12A18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716360" y="3068640"/>
            <a:ext cx="4208400" cy="3456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ыполнили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Абдеева Анна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ласо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Александ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ивков Александ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учащиеся 4 класса 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МБОУ «Гимназия №13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Руководитель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Афонасов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Ольг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ладимиро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Прямоугольник 4" descr=""/>
          <p:cNvPicPr/>
          <p:nvPr/>
        </p:nvPicPr>
        <p:blipFill>
          <a:blip r:embed="rId2"/>
          <a:stretch/>
        </p:blipFill>
        <p:spPr>
          <a:xfrm>
            <a:off x="-231840" y="341280"/>
            <a:ext cx="6151680" cy="2798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EVEN0216"/>
          <p:cNvPicPr/>
          <p:nvPr/>
        </p:nvPicPr>
        <p:blipFill>
          <a:blip r:embed="rId3"/>
          <a:stretch/>
        </p:blipFill>
        <p:spPr>
          <a:xfrm>
            <a:off x="900000" y="3213000"/>
            <a:ext cx="3529080" cy="3384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796000" y="260280"/>
            <a:ext cx="26780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1" descr=""/>
          <p:cNvPicPr/>
          <p:nvPr/>
        </p:nvPicPr>
        <p:blipFill>
          <a:blip r:embed="rId2"/>
          <a:stretch/>
        </p:blipFill>
        <p:spPr>
          <a:xfrm>
            <a:off x="0" y="404640"/>
            <a:ext cx="8656560" cy="1152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908000" y="2060640"/>
            <a:ext cx="58518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ершок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619280" y="1413000"/>
            <a:ext cx="58514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2"/>
          <a:stretch/>
        </p:blipFill>
        <p:spPr>
          <a:xfrm>
            <a:off x="85680" y="-182520"/>
            <a:ext cx="8620200" cy="16272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68360" y="1413000"/>
            <a:ext cx="3066840" cy="22986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4859280" y="1484280"/>
            <a:ext cx="3067200" cy="22986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468360" y="3962520"/>
            <a:ext cx="3859200" cy="28954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4500720" y="3932280"/>
            <a:ext cx="390204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6" descr=""/>
          <p:cNvPicPr/>
          <p:nvPr/>
        </p:nvPicPr>
        <p:blipFill>
          <a:blip r:embed="rId2"/>
          <a:stretch/>
        </p:blipFill>
        <p:spPr>
          <a:xfrm>
            <a:off x="36360" y="701640"/>
            <a:ext cx="8852040" cy="1187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Берковец = 10 пуд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уд = 40 фунтов = 16,38 к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Фунт = 96 золотников = 0,41 к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Лот = 3 золотника = 12,797 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Золотник = 4,27 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Доля = 0,04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2"/>
          <a:stretch/>
        </p:blipFill>
        <p:spPr>
          <a:xfrm>
            <a:off x="73080" y="262080"/>
            <a:ext cx="8620200" cy="16272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пу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Золотни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179280" y="2565360"/>
            <a:ext cx="3760920" cy="3846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4140360" y="2924280"/>
            <a:ext cx="4813200" cy="25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8" descr=""/>
          <p:cNvPicPr/>
          <p:nvPr/>
        </p:nvPicPr>
        <p:blipFill>
          <a:blip r:embed="rId2"/>
          <a:stretch/>
        </p:blipFill>
        <p:spPr>
          <a:xfrm>
            <a:off x="73080" y="262080"/>
            <a:ext cx="8620200" cy="16272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0" y="1557000"/>
            <a:ext cx="4316400" cy="40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nstantia"/>
              </a:rPr>
              <a:t>Международное бюро мер и весов в Севре. (Франция)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4284720" y="2060640"/>
            <a:ext cx="45496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8620200" cy="1627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395280" y="2060640"/>
            <a:ext cx="3138480" cy="44305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3780000" y="2637000"/>
            <a:ext cx="4905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6" descr=""/>
          <p:cNvPicPr/>
          <p:nvPr/>
        </p:nvPicPr>
        <p:blipFill>
          <a:blip r:embed="rId2"/>
          <a:stretch/>
        </p:blipFill>
        <p:spPr>
          <a:xfrm>
            <a:off x="73080" y="262080"/>
            <a:ext cx="8620200" cy="1627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68360" y="19890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декабре 2010 года наш 4 В класс ездил на экскурсию  на шоколадную фабрику "Елисеевский торговый дом" в город Бердск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йдите значение выражения, и вы узнаете расстояние от города Новосибирска до города Бердск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(450:2+2561)+345∙3-378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2"/>
          <a:stretch/>
        </p:blipFill>
        <p:spPr>
          <a:xfrm>
            <a:off x="36360" y="701640"/>
            <a:ext cx="8656920" cy="1187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60-е годы двадцатого века в Новосибирске усиленно стал развиваться молодой вид спорта – биатлон. Кто из Новосибирцев стал первым чемпионом мира по биатлону? Найдите выражение со значением </a:t>
            </a:r>
            <a:r>
              <a:rPr b="0" lang="ru-RU" sz="2600" spc="-1" strike="noStrike">
                <a:solidFill>
                  <a:srgbClr val="21b2c9"/>
                </a:solidFill>
                <a:latin typeface="Arial"/>
                <a:ea typeface="Arial"/>
              </a:rPr>
              <a:t>40 к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Александр Тихонов </a:t>
            </a:r>
            <a:r>
              <a:rPr b="0" lang="ru-RU" sz="2600" spc="-1" strike="noStrike">
                <a:solidFill>
                  <a:srgbClr val="cc0066"/>
                </a:solidFill>
                <a:latin typeface="Arial"/>
                <a:ea typeface="Arial"/>
              </a:rPr>
              <a:t>– 14км300м+30км700м </a:t>
            </a:r>
            <a:r>
              <a:rPr b="0" lang="ru-RU" sz="2600" spc="-1" strike="noStrike">
                <a:solidFill>
                  <a:srgbClr val="cc0066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Виктор Маматов </a:t>
            </a:r>
            <a:r>
              <a:rPr b="0" lang="ru-RU" sz="2600" spc="-1" strike="noStrike">
                <a:solidFill>
                  <a:srgbClr val="cc0066"/>
                </a:solidFill>
                <a:latin typeface="Arial"/>
                <a:ea typeface="Arial"/>
              </a:rPr>
              <a:t>- 980 м+39 км 20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Сергей Тарасов </a:t>
            </a:r>
            <a:r>
              <a:rPr b="0" lang="ru-RU" sz="2600" spc="-1" strike="noStrike">
                <a:solidFill>
                  <a:srgbClr val="cc0066"/>
                </a:solidFill>
                <a:latin typeface="Arial"/>
                <a:ea typeface="Arial"/>
              </a:rPr>
              <a:t>– 7км 960м+23км340м </a:t>
            </a:r>
            <a:r>
              <a:rPr b="0" lang="ru-RU" sz="2600" spc="-1" strike="noStrike">
                <a:solidFill>
                  <a:srgbClr val="cc0066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Сергей Булыгин </a:t>
            </a:r>
            <a:r>
              <a:rPr b="0" lang="ru-RU" sz="2600" spc="-1" strike="noStrike">
                <a:solidFill>
                  <a:srgbClr val="cc0066"/>
                </a:solidFill>
                <a:latin typeface="Arial"/>
                <a:ea typeface="Arial"/>
              </a:rPr>
              <a:t>– 53км007м-13км700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Заголовок 1" descr=""/>
          <p:cNvPicPr/>
          <p:nvPr/>
        </p:nvPicPr>
        <p:blipFill>
          <a:blip r:embed="rId2"/>
          <a:stretch/>
        </p:blipFill>
        <p:spPr>
          <a:xfrm>
            <a:off x="73080" y="701640"/>
            <a:ext cx="8808840" cy="11876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 первый вопрос были следующие ответ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м, м, дм, см, мм.- 100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 второй вопрос ответили: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На уроках математики – 91%, когда делали ремонт.-9%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 третий вопрос были следующие ответ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На заводе, на стройке, на производстве мягкой игрушки, на шоколадной фабрике, при шитье.-70%</a:t>
            </a: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з старинных мер знают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верста- 27 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локоть,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сажень-10%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ностранные меры: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миля-21%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1" descr=""/>
          <p:cNvPicPr/>
          <p:nvPr/>
        </p:nvPicPr>
        <p:blipFill>
          <a:blip r:embed="rId2"/>
          <a:stretch/>
        </p:blipFill>
        <p:spPr>
          <a:xfrm>
            <a:off x="73080" y="262080"/>
            <a:ext cx="8620200" cy="16272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Единица измерения длины — метр (от латинского слова «мера»), именно поэтому вся система называется метрическо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истема была изобретена во Франции в 1791 год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5364000" y="1268280"/>
            <a:ext cx="30546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2"/>
          <a:stretch/>
        </p:blipFill>
        <p:spPr>
          <a:xfrm>
            <a:off x="36360" y="701640"/>
            <a:ext cx="8656920" cy="1187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643280" y="1628280"/>
            <a:ext cx="4042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9000"/>
          </a:bodyPr>
          <a:p>
            <a:pPr marL="270000" indent="-270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Аня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:- Какими единицами измерения длины Вы пользуетесь на работе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Анатолий Иванович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: -Если измеряю древесину, то  сантиметрами, дециметрами, метрами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если измеряю толщину металла – миллиметрам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Аня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:- Какие старинные меры длины Вы знаете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onstantia"/>
              </a:rPr>
              <a:t>Анатолий Иванович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: - Миля, вершок, сажен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179280" y="2060640"/>
            <a:ext cx="43275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2"/>
          <a:stretch/>
        </p:blipFill>
        <p:spPr>
          <a:xfrm>
            <a:off x="36360" y="701640"/>
            <a:ext cx="8656920" cy="11876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Единицами измерения люди пользуются с давних времён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У каждой страны были свои меры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 развитием взаимоотношений между странами возникла необходимость создания метрической системы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Эталоны мер строго охраняютс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етрическая система  хорошо известна людям и широко ими используется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СПАСИБО ЗА ВНИМАНИЕ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36360" y="701640"/>
            <a:ext cx="8656920" cy="118764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 Какие единицы измерения длины вам известн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 Когда и как вам в жизни приходилось пользоваться единицами измерени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 Знаете, где на производстве используют единицы измерения длины и массы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. Какие старинные меры длины и массы вы знает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5. Какие иностранные меры длины вы знает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4" descr=""/>
          <p:cNvPicPr/>
          <p:nvPr/>
        </p:nvPicPr>
        <p:blipFill>
          <a:blip r:embed="rId2"/>
          <a:stretch/>
        </p:blipFill>
        <p:spPr>
          <a:xfrm>
            <a:off x="103320" y="-274680"/>
            <a:ext cx="8888400" cy="2127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 txBox="1"/>
          <p:nvPr/>
        </p:nvSpPr>
        <p:spPr>
          <a:xfrm>
            <a:off x="2556000" y="1268280"/>
            <a:ext cx="40384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 каждой стране была своя система мер. Проблема была в том, что в разных странах эти системы не совпадал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Сегодня очень важно, чтобы единицы измерения были одинаковыми для всех стра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50920" y="1989000"/>
            <a:ext cx="2519280" cy="2760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6516720" y="2060640"/>
            <a:ext cx="25020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Заголовок 1" descr=""/>
          <p:cNvPicPr/>
          <p:nvPr/>
        </p:nvPicPr>
        <p:blipFill>
          <a:blip r:embed="rId2"/>
          <a:stretch/>
        </p:blipFill>
        <p:spPr>
          <a:xfrm>
            <a:off x="73080" y="262080"/>
            <a:ext cx="8620200" cy="1627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556000" y="1197000"/>
            <a:ext cx="4498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1" descr=""/>
          <p:cNvPicPr/>
          <p:nvPr/>
        </p:nvPicPr>
        <p:blipFill>
          <a:blip r:embed="rId2"/>
          <a:stretch/>
        </p:blipFill>
        <p:spPr>
          <a:xfrm>
            <a:off x="73080" y="-420840"/>
            <a:ext cx="9199440" cy="23101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611280" y="5892480"/>
            <a:ext cx="28908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стовой столб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рста- 1 км 67 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Содержимое 2"/>
          <p:cNvSpPr/>
          <p:nvPr/>
        </p:nvSpPr>
        <p:spPr>
          <a:xfrm>
            <a:off x="3995640" y="5157720"/>
            <a:ext cx="489744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«Коломенская верста»- так называют очень высокого человека, «верзилу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84360" y="1844640"/>
            <a:ext cx="2517480" cy="4164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5003640" y="1341360"/>
            <a:ext cx="30402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Заголовок 1" descr=""/>
          <p:cNvPicPr/>
          <p:nvPr/>
        </p:nvPicPr>
        <p:blipFill>
          <a:blip r:embed="rId2"/>
          <a:stretch/>
        </p:blipFill>
        <p:spPr>
          <a:xfrm>
            <a:off x="49320" y="255600"/>
            <a:ext cx="8656560" cy="11890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Аршин - 0,71м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Шаг - 71с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алая пядь - 17,78с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Большая пядь – 22-23с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ядь с кувырком – 27-31 с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аховая сажень – 1м 76с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Косая сажень – 2м 48с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Локоть – 38-47с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Вершок – 4,44с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36360" y="701640"/>
            <a:ext cx="8656920" cy="1187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457200" y="1920960"/>
            <a:ext cx="2098800" cy="64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26440" indent="-226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Малая пяд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Содержимое 6"/>
          <p:cNvSpPr/>
          <p:nvPr/>
        </p:nvSpPr>
        <p:spPr>
          <a:xfrm>
            <a:off x="6372360" y="0"/>
            <a:ext cx="2447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Большая пяд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Содержимое 6"/>
          <p:cNvSpPr/>
          <p:nvPr/>
        </p:nvSpPr>
        <p:spPr>
          <a:xfrm>
            <a:off x="3708360" y="3141720"/>
            <a:ext cx="244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Пядь с кувырк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3743280" cy="28101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4643280" y="476280"/>
            <a:ext cx="4211640" cy="3157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5076720" y="3860640"/>
            <a:ext cx="374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2"/>
          <a:stretch/>
        </p:blipFill>
        <p:spPr>
          <a:xfrm>
            <a:off x="36360" y="701640"/>
            <a:ext cx="8656920" cy="11876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М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аховая саж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К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осая сажень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324000" y="2565360"/>
            <a:ext cx="4511520" cy="33829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4716360" y="3645000"/>
            <a:ext cx="40417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9" descr=""/>
          <p:cNvPicPr/>
          <p:nvPr/>
        </p:nvPicPr>
        <p:blipFill>
          <a:blip r:embed="rId2"/>
          <a:stretch/>
        </p:blipFill>
        <p:spPr>
          <a:xfrm>
            <a:off x="36360" y="701640"/>
            <a:ext cx="8656920" cy="11876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1835280" y="1916280"/>
            <a:ext cx="585144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14:41:53Z</dcterms:created>
  <dc:creator>Никита</dc:creator>
  <dc:description/>
  <dc:language>en-US</dc:language>
  <cp:lastModifiedBy>User</cp:lastModifiedBy>
  <dcterms:modified xsi:type="dcterms:W3CDTF">2013-03-04T15:54:25Z</dcterms:modified>
  <cp:revision>52</cp:revision>
  <dc:subject/>
  <dc:title>Слайд 1</dc:title>
</cp:coreProperties>
</file>