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12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2A9C-1680-40FD-B4A8-ED83597B07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B39-5696-4A6D-98E1-379DBB26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C66-1A96-45EB-A2EA-51FE5A86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58D2-4590-4CAF-8FAC-A26E848A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F3D-70C1-4BD6-9CB1-5F115AB6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2D5A-26F3-474C-9298-53C0BE31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770C-50E8-4869-B8CF-5788EADB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CBD2-FD4A-45C4-AE3A-79A3209C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B1FF-A99F-4F07-8F41-30539A44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1283-81F6-4F99-BCC7-80E6005C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7CF6-72C0-4799-AEAE-994AE85D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44A6-148B-4C9F-A0E6-1264E0BE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0AB-C54C-443A-8A08-481709B4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7396-C28A-4690-8FA5-26BCF481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B389-F919-4382-86E4-F42D8903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2FE3-A15A-4DA0-A81B-07D6AF16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10DB-3560-48DD-8F54-91E1D56A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B3F7-7C65-4830-BCF3-D8F58413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48B5-85F3-4B41-880C-B4CC9EA9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01E-F091-48BF-AE6E-342BB30C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3CF-7F2E-4C0A-92D4-8D533F5E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32B-256A-435A-9608-024B4739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F7E0-1E2B-4E7C-81BC-89FB1F48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ED3-881E-4E97-A749-37ED00EE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9F35-8557-445B-A693-042634C5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C3F9-48BF-4CBD-980A-59F1F0055BE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0F03-424C-4B4B-95DC-7697747AB9C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Исследовательский проект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Я и мои игрушки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24360" y="1628280"/>
            <a:ext cx="316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Выполнили уче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3 А кла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МБОУ гимназии № 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города Новосибирс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5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Андриенко Екатер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5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Шакун Ег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Дозорцева Софь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Евченко Анфи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Елчян Евг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Зонова Елизаве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Киселев Кирил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Кичанова Ма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Мезенцев Кирил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Павлов Ив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Савина Татья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Старовойтова Елизаве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Тюшникова Дарь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Черенкова Александ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Чумадевская Дарь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Яковлев Никола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Руководитель: КРАВЕЦ Т. 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77880" y="1484280"/>
            <a:ext cx="41101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Impact"/>
              </a:rPr>
              <a:t>Куклы - мотан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340000" y="836640"/>
            <a:ext cx="4680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Фабрика игрушек «Новосибирская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21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632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Куклы Стригуш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2920" y="1628280"/>
            <a:ext cx="4038840" cy="4496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484360" y="907920"/>
            <a:ext cx="439272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Кукла Крупеничка или Зерновуш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816360" cy="5616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374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Куклы Барб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3888000" cy="568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3887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Праотец русской матрешки - </a:t>
            </a:r>
            <a:r>
              <a:rPr b="1" lang="ru-RU" sz="4000" spc="-1" strike="noStrike">
                <a:solidFill>
                  <a:srgbClr val="ffffcc"/>
                </a:solidFill>
                <a:latin typeface="Impact"/>
              </a:rPr>
              <a:t>Мудрец</a:t>
            </a: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Impact"/>
              </a:rPr>
              <a:t>Фукурум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79640" y="1557360"/>
            <a:ext cx="439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Самая первая Матреш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3529080" cy="5543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508720" y="1197000"/>
            <a:ext cx="2950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Impact"/>
              </a:rPr>
              <a:t>Старинные Матреш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608360" cy="4289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435640" y="1341360"/>
            <a:ext cx="3024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Impact"/>
              </a:rPr>
              <a:t>Современные Матреш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488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Impact"/>
              </a:rPr>
              <a:t>Наши любимые игруш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4399200" cy="3502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4356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Impact"/>
              </a:rPr>
              <a:t>Неваляшка. Ванька-Встанька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47880" y="1628640"/>
            <a:ext cx="3078000" cy="4496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119560" y="1628640"/>
            <a:ext cx="3086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Impact"/>
              </a:rPr>
              <a:t>Теодор Рузвель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История плюшевого мишки Тедд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5534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7920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Роуз Мичт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484360" y="836640"/>
            <a:ext cx="41036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Impact"/>
              </a:rPr>
              <a:t>В музее игрушки. Сергиев Пос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69138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Impact"/>
              </a:rPr>
              <a:t>Музей матрешки в Москв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8360" y="1628280"/>
            <a:ext cx="4038480" cy="4496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86320" y="2060640"/>
            <a:ext cx="3757680" cy="3516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50920" y="2637000"/>
            <a:ext cx="5010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Impact"/>
              </a:rPr>
              <a:t>Новосибирский музей игруш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345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Игрушки, которыми играла в детстве Татьяна Николаев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239840" y="1716120"/>
            <a:ext cx="27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7128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Куклы из лу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2920" y="1557360"/>
            <a:ext cx="4038840" cy="4495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979640" y="981000"/>
            <a:ext cx="4537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Impact"/>
              </a:rPr>
              <a:t>Рисунки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Impact"/>
              </a:rPr>
              <a:t>с уроков изобразительного искусства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Impact"/>
              </a:rPr>
              <a:t>Кондрашина Александра, Павлов Иван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2940120" cy="4969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95640" y="1844640"/>
            <a:ext cx="4824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Impact"/>
              </a:rPr>
              <a:t>Игрушки наших родителей</a:t>
            </a: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Тюшникова Марина Дмитриев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42920" y="1628280"/>
            <a:ext cx="4038840" cy="4496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258920" y="1628640"/>
            <a:ext cx="6985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Зайцева Татьяна Владимиров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806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Сидорова Татьяна Борисов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42920" y="1628280"/>
            <a:ext cx="4038840" cy="4496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627280" y="981000"/>
            <a:ext cx="3960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Фетисова Татьяна Николаев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8207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Impact"/>
              </a:rPr>
              <a:t>Заключ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Собранный и систематизированный в проекте материал дает возможность сделать следующие вывод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1. История игрушек имеет такую же длинную летопись, как и история самого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2. В игрушки играли  дети древних люд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3. Кукла — один из самых первых спутников человека. Ее можно обнаружить как у первобытных, так и у современных нар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4. Из всех видов игрушек мягкая – самая поздняя по времени возникновения.          5. История игрушки невероятно богата и чтобы не потерять, и показать это богатство и создаются музеи игруше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6. Люди создавали своими руками интересные игруш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7. Поэты и музыканты написали стихи и песни об игрушк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Спасибо за внимание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Impact"/>
              </a:rPr>
              <a:t>Рисунки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Impact"/>
              </a:rPr>
              <a:t>с уроков изобразительного искусства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Impact"/>
              </a:rPr>
              <a:t>Зонова Елизавета, Старовойтова Елизавет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09680" y="1628640"/>
            <a:ext cx="2497320" cy="4496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3280" y="1890720"/>
            <a:ext cx="40388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Первые игруш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59280" y="907920"/>
            <a:ext cx="3889440" cy="5689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3672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0" y="2349360"/>
            <a:ext cx="4038480" cy="411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40384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333360"/>
            <a:ext cx="47516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Старинные кукл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632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02T14:10:23Z</dcterms:modified>
  <cp:revision>44</cp:revision>
  <dc:subject/>
  <dc:title>PowerPoint Presentation</dc:title>
</cp:coreProperties>
</file>