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BF1-CD5F-4288-9C6A-9C5D987639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733-57BE-4EB9-9C9C-5140FBAC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043-C28B-476C-9F5D-D9A628C1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554-C4B0-49FB-B9AA-4F4A376D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DD2-0554-46AA-B940-D723D2A4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E04-98B5-4236-93F9-762AFA4E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C021-A2E7-4541-B24F-EA51F11F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504-DAC8-4669-9594-5D9C341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AEFF-52C2-4368-BE47-8EAB9EB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4A83-54F9-4E89-925B-7A497F91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3DEC-1E79-42D6-92B1-7540EA7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8E66-1192-4189-A61F-87B076B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1F8-06C9-4F54-9392-B986043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C640-FC07-4BA1-80DA-7533936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A3A-BEC5-4BC3-8947-B163AD3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534-FEE9-4474-B71F-D9A60E3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BF0-45DD-4861-8CEA-64E2492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0A87-933A-41D7-AD8C-5F7FACBD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D07-0879-4976-8247-1AC8CF6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941-C26E-4B7A-9C6E-E803256F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10F-DAD5-4479-BC0E-49C51E7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D4E-96B8-4F2D-841B-2E74C7F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47C-4A5F-423D-8E11-555ADDE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427-5F4F-42F9-BD88-86267B9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9E3-AA88-4CD5-920F-D7C02DD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F97-C4C4-48A8-985D-02A226D876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7AA-3C0E-434F-92A1-D9D95DDA5B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Исследовательский проек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Я и мои игрушки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24360" y="1628280"/>
            <a:ext cx="31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Выполнили уче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3 А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МБОУ гимназии №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города Новосибир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Андриенко Екат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Шакун Ег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Дозорцева Соф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Евченко Анфи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Елчян Евг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Зонова Елиза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Киселев Кирил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Кичанова М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Мезенцев Кирил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Павлов Ив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Савина Татья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Старовойтова Елизав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Тюшникова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Черенкова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Чумадевская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Яковлев Никола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Руководитель: КРАВЕЦ Т. 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7880" y="1484280"/>
            <a:ext cx="4110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Куклы - мотан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68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Фабрика игрушек «Новосибирская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Стригуш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4392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а Крупеничка или Зернову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74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Барб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68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87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Праотец русской матрешки - </a:t>
            </a:r>
            <a:r>
              <a:rPr b="1" lang="ru-RU" sz="4000" spc="-1" strike="noStrike">
                <a:solidFill>
                  <a:srgbClr val="ffffcc"/>
                </a:solidFill>
                <a:latin typeface="Impact"/>
              </a:rPr>
              <a:t>Мудрец</a:t>
            </a: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Impact"/>
              </a:rPr>
              <a:t>Фукуру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амая первая Матре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529080" cy="554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2950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Старинные Матре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608360" cy="42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02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Современные Матре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8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аши любимые игру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399200" cy="350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35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еваляшка. Ванька-Встанька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7880" y="1628640"/>
            <a:ext cx="3078000" cy="4496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19560" y="1628640"/>
            <a:ext cx="3086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Теодор Рузвель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История плюшевого мишки Тедд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5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92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Роуз Мичт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484360" y="836640"/>
            <a:ext cx="4103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В музее игрушки. Сергиев Пос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6913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Музей матрешки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6282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86320" y="2060640"/>
            <a:ext cx="3757680" cy="35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501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Новосибирский музей игруш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34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Игрушки, которыми играла в детстве Татьяна Никола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39840" y="17161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12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Куклы из лу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2920" y="1557360"/>
            <a:ext cx="403884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453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Рисунк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с уроков изобразительного искусств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Кондрашина Александра, Павлов Иван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940120" cy="496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482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Impact"/>
              </a:rPr>
              <a:t>Игрушки наших родителей</a:t>
            </a: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Тюшникова Марина Дмитри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Зайцева Татьяна Владимир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идорова Татьяна Борис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4038840" cy="449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96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Фетисова Татьяна Николае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Impact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обранный и систематизированный в проекте материал дает возможность сделать следующие вывод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1. История игрушек имеет такую же длинную летопись, как и история сам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2. В игрушки играли  дети древних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3. Кукла — один из самых первых спутников человека. Ее можно обнаружить как у первобытных, так и у современных на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4. Из всех видов игрушек мягкая – самая поздняя по времени возникновения.          5. История игрушки невероятно богата и чтобы не потерять, и показать это богатство и создаются музеи игруш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6. Люди создавали своими руками интересные игруш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7. Поэты и музыканты написали стихи и песни об игруш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Рисунк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с уроков изобразительного искусств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Impact"/>
              </a:rPr>
              <a:t>Зонова Елизавета, Старовойтова Елизаве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09680" y="1628640"/>
            <a:ext cx="2497320" cy="4496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890720"/>
            <a:ext cx="4038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Первые игруш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889440" cy="568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67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038480" cy="411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038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47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Impact"/>
              </a:rPr>
              <a:t>Старинные кукл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2T14:10:23Z</dcterms:modified>
  <cp:revision>44</cp:revision>
  <dc:subject/>
  <dc:title>PowerPoint Presentation</dc:title>
</cp:coreProperties>
</file>