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41D-2CB8-41BD-B675-87074E7B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FD5-9EF8-4B32-9D05-3900D2E5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12A-00F9-4AC7-A4A0-4598C223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A55-19ED-45E4-AAF4-B745BBE3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8D7-F9CA-4167-8C29-668FAEDC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F4C-3D03-43E0-AA8A-28F5BE2A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2CF-2D3C-4FD2-A971-F651E38C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404-D44D-4151-B518-346C9DA2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1C6-EE7E-4EDB-A246-B59E5EEE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78F-E637-430F-AA5A-95AF9A90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55F-575F-422D-8181-C18681BB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F0C-2E47-4D0F-BCA3-11F1C66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7254-7835-4095-AE28-CCB84B66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: Морозова Ди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ца 8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нтан «Дети и крокоди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35280" y="189000"/>
            <a:ext cx="5364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ветские Вооруженные Силы в ходе Сталинградской битвы проявили массовый героизм, показали своё превосходство над Гитл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ираясь на всенародную поддержку, на крепкий тыл и неисчерпаемые ресурсы социалистического государства, Красная Армия не только выдержала натиск опасного и сильного противника, но и в ходе оборонительных сражений усилило свою мощь, а затем добилась коренного перелома в тяжелой борь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тоги и зна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  Сталинградская победа оказала влияние на укрепление антифашистской коалиции и усилению в ней роли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Коренной перелом в ходе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743200"/>
            <a:ext cx="40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Немцы утратили боевой наступательный 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лись 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2614680"/>
            <a:ext cx="7524720" cy="424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 1942 году у стен Сталинграда решалась судьба всего цивилизованного мира. В междуречье Волги и Дона развернулось величайшее в истории войн сражение. 12 июля 1942 г. был образован Сталинградский фронт, а день 17 июля вошел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 историю ка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начало Сталинградской эпоп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2880" y="304920"/>
            <a:ext cx="3733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00 дней и ночей - с 17 июля 1942 года до 2 февраля 1943 года - продолжалась Сталинградская битва при непрерывно возрастающем напряжении сил обеих сторон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ечение первых четырех месяцев шли упорные оборонительные бои, сначала в большой излучине Дона, а затем на подступах к Сталинграду и в самом городе. За этот период советские войска измотали рвавшуюся к Волге немецко-фашистскую группировку и вынудили ее перейти к обороне. В последующие два с половиной месяца Красная Армия, перейдя в контрнаступление, разгромила войска противника северо-западнее и южнее Сталинграда, окружила и ликвидировала 300-тысячную группировку немецко-фашистских войс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0"/>
            <a:ext cx="868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ечение первых четырех месяцев шли упорные оборонительные бои, сначала в большой излучине Дона, а затем на подступах к Сталинграду и в самом городе. За этот период советские войска измотали рвавшуюся к Волге немецко-фашистскую группировку и вынудили ее перейти к обороне. В последующие два с половиной месяца Красная Армия, перейдя в контрнаступление, разгромила войска противника северо-западнее и южнее Сталинграда, окружила и ликвидировала 300-тысячную группировку немецко-фашистских войс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фронтовая д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800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475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кончилось наступление  немецко-фашистских войск и началось их изгнание с территории Советского Союза. Сталинградская битва по продолжительности и ожесточенности боев, по количеству участвовавших людей и боевой техники превзошла победное наступление на тот момент все сражения мировой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905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7 июля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 ноября 1942 года - об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2982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9 ноября 194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февраля 1943гг. - контрнаступление, окружение и разг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на развернулась на огромной территории в 100 тысяч квадратных километров. На отдельных этапах с обеих сторон в ней участвовало свыше 2 миллионов человек, до 2 тысяч танков, более 2 тысяч самолетов, до 26 тысяч орудий. По результатам эта битва также превзошла все предшествовавшие. Под Сталинградом советские войска разгромили пять армий: две немецкие, две румынские и одну итальянскую. Немецко-фашистские войска потеряли убитыми, ранеными, плененными более 800 тысяч солдат и офицеров, а также большое количество боевой техники, оружия и снаря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е войн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Ш №3</cp:lastModifiedBy>
  <dcterms:modified xsi:type="dcterms:W3CDTF">2010-04-16T05:03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