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B77-943C-461A-9E18-C142A886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37-8FBE-44FF-B31C-22A0616A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11A-3DDE-4C94-8808-5E292ACC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5FC-7F4F-4A0B-B6A1-3E03CF2F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1A4C-888E-4456-A73C-F0C92D34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1F9-F5B8-431E-B278-E7DA81A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DD39-89AC-4E62-A86F-E0D1F28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C484-62C5-4C9F-AA94-5C97455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1A5-8072-49F7-B7BE-87C1C01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7B17-A798-4287-B509-A5AA17C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2386-BF11-4AE1-A2DA-29DABF9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9C5-1D43-4BFA-91F1-C2955CD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CC23-61C4-40A7-B422-2B3E616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B290-053D-4E46-9736-2557F8C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08A-A0E2-44D6-A880-687A8683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8D5-0A45-4E45-AFC6-E371E885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ECE-5D90-4A8E-96E5-12657A4E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EB9-4A3F-43CB-ACC7-5F393A35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249-4591-4309-9281-CC738316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08E-98BE-4A62-87F1-4591C11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BB1-675D-4F78-9B18-84C7E70E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616-8039-4EA0-8061-794A26E5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959-6D48-4281-B2DD-DC58603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BDE-60CB-4F77-86EA-4D05FBF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63B-9732-4F3B-B21B-AE45182BAB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BA2-FA5B-4717-8BBA-0B92DDD3A4D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«Развитие творческих качеств педагога как условие развития личностных качеств и творческих способностей дошкольников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(Или Как создавать необходимые условия для развития одаренности ребен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автор.: О.А.Петров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старший воспитатель МБДОУ №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г.Закамен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офессиональные  компетентности педагога (который развил в себе творческие качества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прерывное профессиональное совершенствование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офессиональная компетентность, способность к взаимодействию и сотрудничеств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учно-психологическое мышление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ысокий уровень педагогического мастер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исследовательская смелост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развитая педагогическая интуиц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итический анализ, потребность в профессиональном самовоспитан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формированный инновационный потенциа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Цель деятельности педаг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85262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оздание педагогических условий для развития творчества (творческих способностей, одаренностей) дошколь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- создание предметно-развивающей среды как одного из основных средств развития творческо-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богащение педагогического процесса современными здоровьесберегающими и образовательными технологиями (проектные методы, экспериментирование, модульный принцип, событийные дни, метод решения проблемных ситуаций и пр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Impact"/>
              </a:rPr>
              <a:t>Требования к педагогу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Monotype Corsiva"/>
              </a:rPr>
              <a:t>Педагог должен соответствовать современным требованиям</a:t>
            </a:r>
            <a:r>
              <a:rPr b="1" lang="ru-RU" sz="2000" spc="-1" strike="noStrike">
                <a:solidFill>
                  <a:srgbClr val="3366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шагать в ногу со временем, но лучше работать с опережение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видеть перспективу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стоянно обновлятьс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быть инициаторами нового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быть всегда в поиск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пользовать инновационный подход в работ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Monotype Corsiva"/>
              </a:rPr>
              <a:t>Только тогда он может воспитать в ребенке творческое начала, развить все те качества, которые присущи ему само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Impact"/>
              </a:rPr>
              <a:t>Практические советы педагогу о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Impact"/>
              </a:rPr>
              <a:t>  необходимости развивать в себе творческие качества, чтобы иметь право воспитать это качество в ребенк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стоянно вызывайте интерес детей к себе: </a:t>
            </a: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разнообразнее будут ваши предложения интересных дел, тем больший круг детей будут сами предлагать вам творческие задумки и интересные мероприят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Любить свою профессию и детей, </a:t>
            </a: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а не «отбывать срок»  - скорее бы кончился день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Видеть маленький и большой успех каждого ребенка в порученном ему деле и умело поощрять ег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Воспитатель должен поддерживать инициативу дошкольников</a:t>
            </a: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 (Не говорить – туда нельзя, опять здесь насоришь, я сказала нельзя – значит нельзя, тебя никто не просил этого делать, сядь и ничего не трогай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Уметь руководить деятельностью детей, предоставлять им свободу и право выбора соб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Уметь руководить деятельностью детей, предоставлять им свободу и самостоятельнос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уметь отстаивать свою позицию, собственные мнения и  действ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оздавать и преобразовывать предметно-развивающую среду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 как  фактор развития творчества, условие активной поисково-познавательной деятельности ( в зависимости от потребностей ребенка) – каждый ребенок должен найти в созданной среде интересное и познавательное занятие (Видоизменять предметно-развивающую среду и вносить новые компоненты не менее 6 раз в год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установить конкретные, искренние и правдивые позитивные связи с ребенк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обсуждайте с детьми деятельность, которую хотите им предложи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роявляйте неподдельный и искренний интерес к организуемой деятельности –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будьте с ними (иногда) слабее «Данил, я знаю, ты можешь провести этот опыт и научить детей – помоги, пожалуйст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ривлекать родителей к сотрудничеству,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организовывать совместные мероприятия с детьми, участие в конкурсах, театральных постановках, занятиях, экскурсиях и п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ahoma"/>
              </a:rPr>
              <a:t>Предметно-развивающая среда как фактор, влияющий на развитие одаренности ребе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10" descr="P1020117"/>
          <p:cNvPicPr/>
          <p:nvPr/>
        </p:nvPicPr>
        <p:blipFill>
          <a:blip r:embed="rId1"/>
          <a:stretch/>
        </p:blipFill>
        <p:spPr>
          <a:xfrm>
            <a:off x="500040" y="4143240"/>
            <a:ext cx="3200400" cy="252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SP_A0664"/>
          <p:cNvPicPr/>
          <p:nvPr/>
        </p:nvPicPr>
        <p:blipFill>
          <a:blip r:embed="rId2"/>
          <a:stretch/>
        </p:blipFill>
        <p:spPr>
          <a:xfrm>
            <a:off x="4572000" y="3886200"/>
            <a:ext cx="3581280" cy="272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Documents and Settings\Admin\Рабочий стол\новое фото\P1100776.JPG"/>
          <p:cNvPicPr/>
          <p:nvPr/>
        </p:nvPicPr>
        <p:blipFill>
          <a:blip r:embed="rId3"/>
          <a:stretch/>
        </p:blipFill>
        <p:spPr>
          <a:xfrm>
            <a:off x="785880" y="1663560"/>
            <a:ext cx="3578040" cy="268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:\Documents and Settings\Admin\Рабочий стол\новое фото\P1100790.JPG"/>
          <p:cNvPicPr/>
          <p:nvPr/>
        </p:nvPicPr>
        <p:blipFill>
          <a:blip r:embed="rId4"/>
          <a:stretch/>
        </p:blipFill>
        <p:spPr>
          <a:xfrm>
            <a:off x="5562720" y="12193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Основные требования к предметно-развивающей сред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029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ahoma"/>
              </a:rPr>
              <a:t>Предметно-пространственная развивающая среда должн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1.побуждать интерес ребенка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, вызвать желание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пощупать, подержать в руках, поиграть, переставит, изменить расположение предметов, посидеть и почувствовать форму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2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вызвать потребность в совместном действии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,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побудить к поиску партнера для парных или групповых действий, а также для индивидуальной работы или игры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3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вызывать исследовательский интерес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 –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побудить к поиску и интерпретации скрытых свойств предметов и явлений окруж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4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нести конструкторскую и творческую активность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 –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должна побуждать к реорганизации, трансформации, переносу как исполнению замысла действий (игровых, коммуникативных и т.п.), развивать у ребенка пространственное мышлени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5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быть информатив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Можно выделить 10 типичных  пространственных зон: бытовое пространство – коридор, туалет, спальная зона; игровой уголок – кукольный, транспортный, строительный; познавательный центр – дидактический уголок – книжный, природный, спортивный, изобразительной деятельности, театрализованная зона – уголок ряжения, ОБЖ, патриотический уголок Существуют «центры сгущения интересов детей – игровая зона (строительные наборы, конструктивные игры, фигурки зверей и животных, посуда, небольшие куклы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7" descr="P1050933"/>
          <p:cNvPicPr/>
          <p:nvPr/>
        </p:nvPicPr>
        <p:blipFill>
          <a:blip r:embed="rId1"/>
          <a:stretch/>
        </p:blipFill>
        <p:spPr>
          <a:xfrm>
            <a:off x="5257800" y="36576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Admin\Рабочий стол\новое фото\P1100782.JPG"/>
          <p:cNvPicPr/>
          <p:nvPr/>
        </p:nvPicPr>
        <p:blipFill>
          <a:blip r:embed="rId2"/>
          <a:stretch/>
        </p:blipFill>
        <p:spPr>
          <a:xfrm>
            <a:off x="5562720" y="914400"/>
            <a:ext cx="3295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P1010452"/>
          <p:cNvPicPr/>
          <p:nvPr/>
        </p:nvPicPr>
        <p:blipFill>
          <a:blip r:embed="rId1"/>
          <a:stretch/>
        </p:blipFill>
        <p:spPr>
          <a:xfrm>
            <a:off x="900000" y="98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1010863"/>
          <p:cNvPicPr/>
          <p:nvPr/>
        </p:nvPicPr>
        <p:blipFill>
          <a:blip r:embed="rId2"/>
          <a:stretch/>
        </p:blipFill>
        <p:spPr>
          <a:xfrm>
            <a:off x="5219640" y="3860640"/>
            <a:ext cx="3456000" cy="264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P1010594"/>
          <p:cNvPicPr/>
          <p:nvPr/>
        </p:nvPicPr>
        <p:blipFill>
          <a:blip r:embed="rId3"/>
          <a:stretch/>
        </p:blipFill>
        <p:spPr>
          <a:xfrm>
            <a:off x="1042920" y="4151160"/>
            <a:ext cx="3365640" cy="252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рина 218"/>
          <p:cNvPicPr/>
          <p:nvPr/>
        </p:nvPicPr>
        <p:blipFill>
          <a:blip r:embed="rId4"/>
          <a:stretch/>
        </p:blipFill>
        <p:spPr>
          <a:xfrm>
            <a:off x="4427640" y="490680"/>
            <a:ext cx="47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нновационный потенциал педаг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овокупность социокультурных и творческих характеристик его лич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готовность совершенствовать педагогическую деятельность (перейти от классно-урочной системы в ведении занятий, перейти к интегрированному виду, проектному методу, исследовательской деятельности в работе с детьм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едагог должен искать собственные нетрадиционные решения возникающих пробл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оспринимать и творчески воплощать уже существующие нестандартные подходы в образо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05:30Z</dcterms:created>
  <dc:creator>FuckYouBill</dc:creator>
  <dc:description/>
  <dc:language>en-US</dc:language>
  <cp:lastModifiedBy>FuckYouBill</cp:lastModifiedBy>
  <dcterms:modified xsi:type="dcterms:W3CDTF">2012-11-12T08:04:33Z</dcterms:modified>
  <cp:revision>11</cp:revision>
  <dc:subject/>
  <dc:title>Требования к педагогу</dc:title>
</cp:coreProperties>
</file>