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4FA-2D6A-48D9-BC5D-E3BFCCB9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571-9C21-4770-BD62-9E15E060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4DF-5BDA-412C-894F-FEBBC530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16D-768A-443F-8CB8-A5B46FB8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35A0-C1C0-485A-B0B9-8A1C3096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029A-A4B2-4E94-A54B-54AA246D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4A4C-738A-43E8-AD58-F02511E0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8DF1-5814-46B0-811F-2589F100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4468-B8BD-4ECC-9F83-B4A87832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1B84-770F-4530-9C50-C4391074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C5F5-A4A3-4F33-8DE4-1B975C91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ACB-FC60-425D-9637-472D5ABF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E0CE-E8AC-4A57-9A35-362516C0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C563-FD85-4D1C-BC15-F6419222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D59B-1CB6-44AF-A7C3-A7ADFA38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3338-1D5E-4DC5-A649-ACD5346E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100A-0534-4077-9467-9623593C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531-40CC-4C2F-8348-94E8F41E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374-CF5E-4207-8A99-47C2E35E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1D6-778B-4E96-A5AD-387DCD9E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F6E-C7AE-4700-B9EB-E0C24D11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775-5C8D-4777-9F7D-A6DCB852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E3D-0B8F-4495-A936-8679A566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B89-F62F-450D-BA25-F88BD013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C78C-4562-4B09-A778-598FADA8E2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FC19-FE9C-4608-A36F-8E53DD438DF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«Развитие творческих качеств педагога как условие развития личностных качеств и творческих способностей дошкольников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(Или Как создавать необходимые условия для развития одаренности ребенк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автор.: О.А.Петрова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старший воспитатель МБДОУ №3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г.Закаменс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рофессиональные  компетентности педагога (который развил в себе творческие качества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епрерывное профессиональное совершенствование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офессиональная компетентность, способность к взаимодействию и сотрудничеств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аучно-психологическое мышление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ысокий уровень педагогического мастерств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исследовательская смелость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развитая педагогическая интуиц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итический анализ, потребность в профессиональном самовоспитании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формированный инновационный потенциа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Цель деятельности педаго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8760" y="2071800"/>
            <a:ext cx="85262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оздание педагогических условий для развития творчества (творческих способностей, одаренностей) дошкольн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- создание предметно-развивающей среды как одного из основных средств развития творческо-познавательной активност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обогащение педагогического процесса современными здоровьесберегающими и образовательными технологиями (проектные методы, экспериментирование, модульный принцип, событийные дни, метод решения проблемных ситуаций и пр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Impact"/>
              </a:rPr>
              <a:t>Требования к педагогу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Monotype Corsiva"/>
              </a:rPr>
              <a:t>Педагог должен соответствовать современным требованиям</a:t>
            </a:r>
            <a:r>
              <a:rPr b="1" lang="ru-RU" sz="2000" spc="-1" strike="noStrike">
                <a:solidFill>
                  <a:srgbClr val="3366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шагать в ногу со временем, но лучше работать с опережением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видеть перспективу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постоянно обновлятьс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быть инициаторами нового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быть всегда в поиск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использовать инновационный подход в работ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Monotype Corsiva"/>
              </a:rPr>
              <a:t>Только тогда он может воспитать в ребенке творческое начала, развить все те качества, которые присущи ему самом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Impact"/>
              </a:rPr>
              <a:t>Практические советы педагогу о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Impact"/>
              </a:rPr>
              <a:t>  необходимости развивать в себе творческие качества, чтобы иметь право воспитать это качество в ребенк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Постоянно вызывайте интерес детей к себе: </a:t>
            </a: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ем разнообразнее будут ваши предложения интересных дел, тем больший круг детей будут сами предлагать вам творческие задумки и интересные мероприят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Любить свою профессию и детей, </a:t>
            </a: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а не «отбывать срок»  - скорее бы кончился день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Видеть маленький и большой успех каждого ребенка в порученном ему деле и умело поощрять ег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Воспитатель должен поддерживать инициативу дошкольников</a:t>
            </a: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 (Не говорить – туда нельзя, опять здесь насоришь, я сказала нельзя – значит нельзя, тебя никто не просил этого делать, сядь и ничего не трогай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ahoma"/>
              </a:rPr>
              <a:t>Уметь руководить деятельностью детей, предоставлять им свободу и право выбора собственной деятель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Уметь руководить деятельностью детей, предоставлять им свободу и самостоятельность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уметь отстаивать свою позицию, собственные мнения и  действ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создавать и преобразовывать предметно-развивающую среду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 как  фактор развития творчества, условие активной поисково-познавательной деятельности ( в зависимости от потребностей ребенка) – каждый ребенок должен найти в созданной среде интересное и познавательное занятие (Видоизменять предметно-развивающую среду и вносить новые компоненты не менее 6 раз в год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установить конкретные, искренние и правдивые позитивные связи с ребенко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обсуждайте с детьми деятельность, которую хотите им предложить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проявляйте неподдельный и искренний интерес к организуемой деятельности –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будьте с ними (иногда) слабее «Данил, я знаю, ты можешь провести этот опыт и научить детей – помоги, пожалуйста»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привлекать родителей к сотрудничеству,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организовывать совместные мероприятия с детьми, участие в конкурсах, театральных постановках, занятиях, экскурсиях и п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ahoma"/>
              </a:rPr>
              <a:t>Предметно-развивающая среда как фактор, влияющий на развитие одаренности ребе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10" descr="P1020117"/>
          <p:cNvPicPr/>
          <p:nvPr/>
        </p:nvPicPr>
        <p:blipFill>
          <a:blip r:embed="rId1"/>
          <a:stretch/>
        </p:blipFill>
        <p:spPr>
          <a:xfrm>
            <a:off x="500040" y="4143240"/>
            <a:ext cx="3200400" cy="2527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SP_A0664"/>
          <p:cNvPicPr/>
          <p:nvPr/>
        </p:nvPicPr>
        <p:blipFill>
          <a:blip r:embed="rId2"/>
          <a:stretch/>
        </p:blipFill>
        <p:spPr>
          <a:xfrm>
            <a:off x="4572000" y="3886200"/>
            <a:ext cx="3581280" cy="272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:\Documents and Settings\Admin\Рабочий стол\новое фото\P1100776.JPG"/>
          <p:cNvPicPr/>
          <p:nvPr/>
        </p:nvPicPr>
        <p:blipFill>
          <a:blip r:embed="rId3"/>
          <a:stretch/>
        </p:blipFill>
        <p:spPr>
          <a:xfrm>
            <a:off x="785880" y="1663560"/>
            <a:ext cx="3578040" cy="268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C:\Documents and Settings\Admin\Рабочий стол\новое фото\P1100790.JPG"/>
          <p:cNvPicPr/>
          <p:nvPr/>
        </p:nvPicPr>
        <p:blipFill>
          <a:blip r:embed="rId4"/>
          <a:stretch/>
        </p:blipFill>
        <p:spPr>
          <a:xfrm>
            <a:off x="5562720" y="12193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ahoma"/>
              </a:rPr>
              <a:t>Основные требования к предметно-развивающей сред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5029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ahoma"/>
              </a:rPr>
              <a:t>Предметно-пространственная развивающая среда должна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6600ff"/>
                </a:solidFill>
                <a:uFillTx/>
                <a:latin typeface="Tahoma"/>
              </a:rPr>
              <a:t>1.побуждать интерес ребенка</a:t>
            </a: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, вызвать желание 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пощупать, подержать в руках, поиграть, переставит, изменить расположение предметов, посидеть и почувствовать форму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2. </a:t>
            </a:r>
            <a:r>
              <a:rPr b="1" lang="ru-RU" sz="1400" spc="-1" strike="noStrike" u="sng">
                <a:solidFill>
                  <a:srgbClr val="6600ff"/>
                </a:solidFill>
                <a:uFillTx/>
                <a:latin typeface="Tahoma"/>
              </a:rPr>
              <a:t>вызвать потребность в совместном действии</a:t>
            </a: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, 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побудить к поиску партнера для парных или групповых действий, а также для индивидуальной работы или игры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3. </a:t>
            </a:r>
            <a:r>
              <a:rPr b="1" lang="ru-RU" sz="1400" spc="-1" strike="noStrike" u="sng">
                <a:solidFill>
                  <a:srgbClr val="6600ff"/>
                </a:solidFill>
                <a:uFillTx/>
                <a:latin typeface="Tahoma"/>
              </a:rPr>
              <a:t>вызывать исследовательский интерес</a:t>
            </a: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 – 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побудить к поиску и интерпретации скрытых свойств предметов и явлений окруже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4. </a:t>
            </a:r>
            <a:r>
              <a:rPr b="1" lang="ru-RU" sz="1400" spc="-1" strike="noStrike" u="sng">
                <a:solidFill>
                  <a:srgbClr val="6600ff"/>
                </a:solidFill>
                <a:uFillTx/>
                <a:latin typeface="Tahoma"/>
              </a:rPr>
              <a:t>нести конструкторскую и творческую активность</a:t>
            </a: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 – 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должна побуждать к реорганизации, трансформации, переносу как исполнению замысла действий (игровых, коммуникативных и т.п.), развивать у ребенка пространственное мышление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Tahoma"/>
              </a:rPr>
              <a:t>5. </a:t>
            </a:r>
            <a:r>
              <a:rPr b="1" lang="ru-RU" sz="1400" spc="-1" strike="noStrike" u="sng">
                <a:solidFill>
                  <a:srgbClr val="6600ff"/>
                </a:solidFill>
                <a:uFillTx/>
                <a:latin typeface="Tahoma"/>
              </a:rPr>
              <a:t>быть информатив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Можно выделить 10 типичных  пространственных зон: бытовое пространство – коридор, туалет, спальная зона; игровой уголок – кукольный, транспортный, строительный; познавательный центр – дидактический уголок – книжный, природный, спортивный, изобразительной деятельности, театрализованная зона – уголок ряжения, ОБЖ, патриотический уголок Существуют «центры сгущения интересов детей – игровая зона (строительные наборы, конструктивные игры, фигурки зверей и животных, посуда, небольшие куклы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17" descr="P1050933"/>
          <p:cNvPicPr/>
          <p:nvPr/>
        </p:nvPicPr>
        <p:blipFill>
          <a:blip r:embed="rId1"/>
          <a:stretch/>
        </p:blipFill>
        <p:spPr>
          <a:xfrm>
            <a:off x="5257800" y="365760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Documents and Settings\Admin\Рабочий стол\новое фото\P1100782.JPG"/>
          <p:cNvPicPr/>
          <p:nvPr/>
        </p:nvPicPr>
        <p:blipFill>
          <a:blip r:embed="rId2"/>
          <a:stretch/>
        </p:blipFill>
        <p:spPr>
          <a:xfrm>
            <a:off x="5562720" y="914400"/>
            <a:ext cx="32954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P1010452"/>
          <p:cNvPicPr/>
          <p:nvPr/>
        </p:nvPicPr>
        <p:blipFill>
          <a:blip r:embed="rId1"/>
          <a:stretch/>
        </p:blipFill>
        <p:spPr>
          <a:xfrm>
            <a:off x="900000" y="981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P1010863"/>
          <p:cNvPicPr/>
          <p:nvPr/>
        </p:nvPicPr>
        <p:blipFill>
          <a:blip r:embed="rId2"/>
          <a:stretch/>
        </p:blipFill>
        <p:spPr>
          <a:xfrm>
            <a:off x="5219640" y="3860640"/>
            <a:ext cx="3456000" cy="264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P1010594"/>
          <p:cNvPicPr/>
          <p:nvPr/>
        </p:nvPicPr>
        <p:blipFill>
          <a:blip r:embed="rId3"/>
          <a:stretch/>
        </p:blipFill>
        <p:spPr>
          <a:xfrm>
            <a:off x="1042920" y="4151160"/>
            <a:ext cx="3365640" cy="2524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рина 218"/>
          <p:cNvPicPr/>
          <p:nvPr/>
        </p:nvPicPr>
        <p:blipFill>
          <a:blip r:embed="rId4"/>
          <a:stretch/>
        </p:blipFill>
        <p:spPr>
          <a:xfrm>
            <a:off x="4427640" y="490680"/>
            <a:ext cx="47163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Инновационный потенциал педаго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овокупность социокультурных и творческих характеристик его лич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готовность совершенствовать педагогическую деятельность (перейти от классно-урочной системы в ведении занятий, перейти к интегрированному виду, проектному методу, исследовательской деятельности в работе с детьми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Педагог должен искать собственные нетрадиционные решения возникающих пробле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оспринимать и творчески воплощать уже существующие нестандартные подходы в образова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6:05:30Z</dcterms:created>
  <dc:creator>FuckYouBill</dc:creator>
  <dc:description/>
  <dc:language>en-US</dc:language>
  <cp:lastModifiedBy>FuckYouBill</cp:lastModifiedBy>
  <dcterms:modified xsi:type="dcterms:W3CDTF">2012-11-12T08:04:33Z</dcterms:modified>
  <cp:revision>11</cp:revision>
  <dc:subject/>
  <dc:title>Требования к педагогу</dc:title>
</cp:coreProperties>
</file>